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9DB5D-F601-4960-B9C0-BD6E76CFA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1ADA-7F10-4CBD-B65E-AB56AEE2A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5E648-8CE4-4B35-800E-416F071FF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26F36-E626-4A1E-BE7A-BCD003BDB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34A1E-A224-44FC-AF7E-69F6620AB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E9AAA-ECDD-450F-ADCC-F44119E81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49850-21D1-4E3C-B013-8D3B1502D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9C65A-942F-4B8B-8145-17B960A39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BAAA5-0EBB-4C7A-8522-FA2A6E5F1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BACA1-26DD-4421-B71B-B5736D0A6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5AAB7-8D40-4ADA-98AD-CAC239E30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742A-9357-4FFD-B39E-DBFB980D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C7F1F-648E-4AD6-AB95-05C24AA43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976EC-AAC1-44D3-959C-546BF848D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92B03-AB30-42D0-A838-DA6A976D0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2C084-9AB5-4BB1-AF72-2AB1CA51A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B0240-0479-4F62-B4C9-7E6123B4F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D6ECD1-8519-4293-AC2D-491C716553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11ABB-1414-43C7-BB75-06F4B95A7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C0D00-FFF7-464D-A04A-EF322F6B7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C564F-978D-4393-825B-068B94510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6C810-BC48-42E4-B140-23E4671BC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ECD77-EECD-402F-A431-36304616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2A1A1-652F-47C0-A76F-083938F5F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A18C1-112C-42FE-90F5-9AEBB171E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DF6AE-9A49-48B4-A66F-4C0B4BA15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8A0DA-55BE-48B4-AEB6-631974269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1D1C6-C1BE-4543-8859-890B93DBE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83A33B-2651-4429-84DE-DE61D42A44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3BFA87-9F10-4683-A909-4F4B4CC159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0E1D2A-B90D-49DB-9FD0-EAE76A2B0A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4F44C-1D00-4250-9B21-4BD454E50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38B16-8A4E-4F9F-A934-DFC4A52B3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89A07-E845-4302-9FC5-17541DD92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DCCA4-B452-45B1-A089-6FCB436C4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68DB5-5E1B-4D75-8565-1EE07FAF4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1264C-F2C2-4D75-9431-A827C428D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3CBDC-20E5-46D5-9BFC-32657ED4F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F39CF-5D2A-48CD-87F7-909103C26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AD3A6-A1F4-4D2A-BB1B-EDDCCDE5A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7ABFA5-33CA-44A4-ACD7-DF3149E36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BAE6E5-0285-4550-AB83-870F15EF0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67D8F2-588B-49C7-9B03-92912F47EE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2A361E-AE80-4DE3-81CB-768A4505F3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35056-3E8F-43A5-A87F-A89AF1D13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663873-0BAD-44F2-8EF7-5E3E7121A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B26347-82A9-4D45-AF5D-ADBCB89EC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98A84-19E3-4ED8-A5EF-245DB9753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92498-31DB-4500-BE35-099BEE387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DFC1F-80FE-4FD1-80BE-3F3314E8F3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1833D-76A0-4193-8791-A9A698DA4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717C5-F2B4-4B20-ABC1-3B68DC8D9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0076B-2FEE-484F-A0B2-EE8214D16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A3B880-1D95-48DB-87D6-0BC235EA5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4BD861-3135-4080-BBB5-4E7271808E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F1D06-7C5F-4846-A980-2234D09DB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FA5FB2-BC06-4630-B148-5E29E64EAC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AC165D-0CEC-4E03-B179-8AC03A4159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FA083-5281-4FA7-B36A-41EE23E39F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87160E-380B-4BF1-BDAB-F257DE6EF9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B33F66-BFE5-4E50-8E51-45B55C38E4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E33D1-8E51-41B4-B8CD-782D4061F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68F70-A3EF-4584-A730-301589B913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28816-5005-4BD6-B244-AE649DF38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DDE27-D36A-47E2-93CF-7877773BF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8467D-3793-45A8-9ED9-500A8D4D3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FE89-76D5-4992-B3EF-08E1A6B6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14F1F8-1325-48D4-843E-207A640A3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23040E-5213-456C-8F7B-1904413C5C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C5D199-DBBC-4FF9-9DFE-05F21ACF63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444442-5808-43C0-8BEC-730BAED6DE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A3194D-623B-4C9A-9AAD-260EA0136B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F0B87-37EB-480B-9C46-3FF0D2E914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6C83A1-4C75-42D2-9222-D83BA84396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1ECB6B-7B55-4729-8EFF-B01F54C49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1B45EA-F6C6-438D-A940-DB619EC2E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28C62-28BC-42CC-835C-FAC05A16E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1045-AA99-4292-B520-0DB0F42AF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74960-61E2-42A8-87A8-08AD3EF75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7611A-0370-4E8F-904D-D13014F6F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34CF6F-69A4-485B-B0CC-B40A1EC1D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9A1BCD-BABE-47F9-B2E5-39C82796E9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5A990B-6C5A-47B8-A007-CA5214FFFC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711B-56FD-4CD6-A451-9C9BEFCE1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6542-37A2-4081-9CFD-544D7DCFCED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C09E-A8CA-4833-80F1-1033D53F3BF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9684-E3C4-49C3-BA03-919E995D7C8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AB32-2804-4261-AA39-CDF2713F55F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1979-D232-474B-87E3-453B113025F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A7E0-0707-408E-A68F-2373FFB229E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17AA-8DBB-4223-AF60-0E91349DA47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836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ff0000"/>
                </a:solidFill>
                <a:latin typeface="Sakkal Majalla"/>
                <a:cs typeface="Sakkal Majalla"/>
              </a:rPr>
              <a:t>رئاسة جامعة البصرة</a:t>
            </a:r>
            <a:br>
              <a:rPr sz="5400"/>
            </a:br>
            <a:r>
              <a:rPr b="1" lang="ar-IQ" sz="5400" spc="-1" strike="noStrike">
                <a:solidFill>
                  <a:srgbClr val="ff0000"/>
                </a:solidFill>
                <a:latin typeface="Sakkal Majalla"/>
                <a:cs typeface="Sakkal Majalla"/>
              </a:rPr>
              <a:t>كلية التربية البدنية وعلوم الرياضة</a:t>
            </a:r>
            <a:br>
              <a:rPr sz="4800"/>
            </a:br>
            <a:endParaRPr b="0" lang="en-US" sz="5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University of basrah</a:t>
            </a:r>
            <a:br>
              <a:rPr sz="4400"/>
            </a:br>
            <a:r>
              <a:rPr b="1" lang="en-US" sz="4400" spc="-1" strike="noStrike">
                <a:solidFill>
                  <a:srgbClr val="8898c3"/>
                </a:solidFill>
                <a:latin typeface="Gill Sans MT"/>
              </a:rPr>
              <a:t>College of Physical Education and Sports  Science</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2018</a:t>
            </a:r>
            <a:r>
              <a:rPr b="1" lang="en-US" sz="4400" spc="-1" strike="noStrike">
                <a:solidFill>
                  <a:srgbClr val="8898c3"/>
                </a:solidFill>
                <a:latin typeface="Gill Sans MT"/>
              </a:rPr>
              <a:t> - </a:t>
            </a:r>
            <a:r>
              <a:rPr b="1" lang="en-US" sz="4400" spc="-1" strike="noStrike">
                <a:solidFill>
                  <a:srgbClr val="8898c3"/>
                </a:solidFill>
                <a:latin typeface="Gill Sans MT"/>
              </a:rPr>
              <a:t>2019</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579600" y="276120"/>
            <a:ext cx="8137440" cy="333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ff0000"/>
                </a:solidFill>
                <a:latin typeface="Sakkal Majalla"/>
                <a:cs typeface="Sakkal Majalla"/>
              </a:rPr>
              <a:t>كرة اليد  - </a:t>
            </a:r>
            <a:r>
              <a:rPr b="1" lang="ar-IQ" sz="3200" spc="-1" strike="noStrike">
                <a:solidFill>
                  <a:srgbClr val="0070c0"/>
                </a:solidFill>
                <a:latin typeface="Gill Sans MT"/>
              </a:rPr>
              <a:t>التصويبة السوطية من فوق الرأس  مع أخذ ثلاث خطوات </a:t>
            </a:r>
            <a:endParaRPr b="0" lang="en-US" sz="3200" spc="-1" strike="noStrike">
              <a:solidFill>
                <a:srgbClr val="000000"/>
              </a:solidFill>
              <a:latin typeface="Times New Roman"/>
            </a:endParaRPr>
          </a:p>
        </p:txBody>
      </p:sp>
      <p:pic>
        <p:nvPicPr>
          <p:cNvPr id="320" name="Text Box 3" descr=""/>
          <p:cNvPicPr/>
          <p:nvPr/>
        </p:nvPicPr>
        <p:blipFill>
          <a:blip r:embed="rId1"/>
          <a:stretch/>
        </p:blipFill>
        <p:spPr>
          <a:xfrm>
            <a:off x="542880" y="3371760"/>
            <a:ext cx="8131320" cy="271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مستطيل 1" descr=""/>
          <p:cNvPicPr/>
          <p:nvPr/>
        </p:nvPicPr>
        <p:blipFill>
          <a:blip r:embed="rId1"/>
          <a:stretch/>
        </p:blipFill>
        <p:spPr>
          <a:xfrm>
            <a:off x="291960" y="334800"/>
            <a:ext cx="8474040" cy="595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1198440" y="674640"/>
            <a:ext cx="7201080" cy="7409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أن أهمية دقة التصويب تزداد عند تقارب المستوى بين الفرق  المتنافسة لان أضاعة أيه فرصة قد تؤدي الى خسارة المباراة ،  وهي مهارة يفترض أن يجيدها جميع اللاعبين بغض النظر عن مراكزهم في اللعب ، ان التصويب في كرة اليد يعشقه كل من اللاعب والمدرب والمتفرج ويجذبهم اكثر من المهارات الاخرى بالاضافة الى ذلك فان نجاح هذه المهارات يتطلب اجادة استخدام رسغ اليد وسرعة لأداة في التصويب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 </a:t>
            </a:r>
            <a:r>
              <a:rPr b="1" lang="ar-IQ" sz="2400" spc="-1" strike="noStrike">
                <a:solidFill>
                  <a:srgbClr val="ff0000"/>
                </a:solidFill>
                <a:latin typeface="Times New Roman"/>
              </a:rPr>
              <a:t>2</a:t>
            </a:r>
            <a:r>
              <a:rPr b="1" lang="ar-IQ" sz="2400" spc="-1" strike="noStrike">
                <a:solidFill>
                  <a:srgbClr val="ff0000"/>
                </a:solidFill>
                <a:latin typeface="Times New Roman"/>
              </a:rPr>
              <a:t> – التصويبة السوطية من فوق الرأس  مع أخذ ثلاث خطوات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يتم أداء هذه المهارة بثلاث خطوات ( يسار – يمين – يسار ) بالنسبة الى اللاعب الأيمن ، بعد أن يتم السيطرة على الكرة بالشكل الجيد بحيث تكون الكرة ممسك بها اللاعب بكلتا اليدين وأمام الصدر  يقوم اللاعب  بقطع خطوة بالقدم اليسرى ومن ثم يقطع الخطوة الثانية بالقدم اليمنى أذ يصاحب هذه الخطوة بسحب الكرة باليد اليمنى الى الخلف والى الأعلى عن أقرب طريق لها الى  أن تشكل الزاوية  بين العضد والساعد تقريباً </a:t>
            </a:r>
            <a:r>
              <a:rPr b="1" lang="ar-IQ" sz="1800" spc="-1" strike="noStrike">
                <a:solidFill>
                  <a:srgbClr val="000000"/>
                </a:solidFill>
                <a:latin typeface="Times New Roman"/>
              </a:rPr>
              <a:t>90</a:t>
            </a:r>
            <a:r>
              <a:rPr b="1" lang="ar-IQ" sz="1800" spc="-1" strike="noStrike">
                <a:solidFill>
                  <a:srgbClr val="000000"/>
                </a:solidFill>
                <a:latin typeface="Times New Roman"/>
              </a:rPr>
              <a:t> درجة وبين الجذع والعضد تقريباً </a:t>
            </a:r>
            <a:r>
              <a:rPr b="1" lang="ar-IQ" sz="1800" spc="-1" strike="noStrike">
                <a:solidFill>
                  <a:srgbClr val="000000"/>
                </a:solidFill>
                <a:latin typeface="Times New Roman"/>
              </a:rPr>
              <a:t>90</a:t>
            </a:r>
            <a:r>
              <a:rPr b="1" lang="ar-IQ" sz="1800" spc="-1" strike="noStrike">
                <a:solidFill>
                  <a:srgbClr val="000000"/>
                </a:solidFill>
                <a:latin typeface="Times New Roman"/>
              </a:rPr>
              <a:t> درجة ويستمر سحب الذراع للخلف مما يؤدي الى دورن أو فتل الجذع بحيث يكون كتف الذراع الحرة مواجهاً للمرمى بحيث يكون تقوساً في ظهر اللاعب  وبعدها يقوم اللاعب بالاستعداد للتصويب عن طريق سحب الذراع الحرة بالاتجاه المعاكس حيث تساعد حركة على عودة الجذع الى وضعه الطبيعي وهو الأمر الذي يعطي الكرة قوة وسرعة للتصويب عن طريق النقل الحركي ويقوم اللاعب بأخذ خطوة ثالثة بالقدم اليسرى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1619280" y="549360"/>
            <a:ext cx="648180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يلاحظ أستمرار حركة الذراع وهي عالياً من الخلف الى الأمام وعندها ترمى الكرة بقوة بأتجاه المرمى مع التأكيد على حركة الرسغ كونه له دور كبير في توجيه الكرة وتعد ألأصابع أخر شي يلمس الكرة وتستمر حركة الذراع للإمام والأسفل نتيجة لسرعة الحركة مما يؤدي على ميل الجسم الى جهة اليسار قليلاً . </a:t>
            </a:r>
            <a:endParaRPr b="0" lang="en-US" sz="1800" spc="-1" strike="noStrike">
              <a:solidFill>
                <a:srgbClr val="000000"/>
              </a:solidFill>
              <a:latin typeface="Times New Roman"/>
            </a:endParaRPr>
          </a:p>
        </p:txBody>
      </p:sp>
      <p:pic>
        <p:nvPicPr>
          <p:cNvPr id="324" name="صورة 2" descr="C:\Users\Dhurgham\Desktop\صور المهارات\التصويب بالقفز أماماً.jpg"/>
          <p:cNvPicPr/>
          <p:nvPr/>
        </p:nvPicPr>
        <p:blipFill>
          <a:blip r:embed="rId1"/>
          <a:stretch/>
        </p:blipFill>
        <p:spPr>
          <a:xfrm>
            <a:off x="2077920" y="2286000"/>
            <a:ext cx="5054760" cy="312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25T10:22:24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