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C6A30-5EA9-480B-BF59-5D64F0DDD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7963-AE08-47D6-87D8-B66579F5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6F6E2-394C-421F-A89A-0ACFEA59A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3321A-4D66-41F0-86C8-01078807F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20A68-440D-48FA-AE7B-A6AE93970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37BEE-93FB-4250-93F9-E098D5BB5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42A76-5704-4003-9A1E-39A4D6CC0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CE33D-5207-42DE-85AD-AD4D12F00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28AC6-4C50-410F-A770-5B6230272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BD543-8436-42C9-AC50-BA1666F07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4868E-7B4E-4B0B-9D90-F6DCA3434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B01B-FF13-40C5-A6E6-1B98C7B64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EDA1F-268B-4941-B7BD-04D1A57E5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9BD2E-9CD5-4CCB-96E4-A88FB6F4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E9A83-4B00-4928-8A4E-8B88EADC0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73F95-3DC4-4863-8A1E-7DE3736FB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FFEB8-8634-48C1-B9DF-FEE6DAB35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4AE2-E7D0-49D0-8D9F-120FF48E3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F5A7-3CEA-4BD4-A2ED-604A3642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8D347-785D-4F3E-9390-488372F3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981C-77D0-4F34-A374-834D7CEF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1CAF-1324-47C8-A313-CBD4E97B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047A-1FE6-4661-A8E5-CE483B07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793A-FFEA-4073-BF38-7DB01D837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84F2-CE63-4269-BB48-AD8B0A426FC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EC3B-948F-4869-96A4-B6171A2A5AB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23560" y="1563480"/>
            <a:ext cx="7203960" cy="14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Non –linear PK</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1332000" y="4292280"/>
            <a:ext cx="6400800" cy="10414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oavailability of Drugs that Follow Nonlinear Pharmacokinetics</a:t>
            </a:r>
            <a:endParaRPr b="0" lang="en-US" sz="4200" spc="-1" strike="noStrike">
              <a:solidFill>
                <a:srgbClr val="006633"/>
              </a:solidFill>
              <a:latin typeface="Garamond"/>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oavailability of drugs that follow nonlinear pharmacokinetics is difficult to estimate accuratel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shown in , each process of drug absorption, distribution, and elimination is potentially saturable.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that follow linear pharmacokinetics follow the principle of superposit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ssumption in applying the rule of superposition is that each dose of drug superimposes on the previous dose. Consequently, the bioavailability of subsequent doses is predictable and not affected by the previous do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presence of a saturable pathway for drug absorption, distribution, or elimination, drug bioavailability will change within a single dose or with subsequent (multiple) dos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a drug with dose-dependent absorption is chlorothiaz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nlinear Pharmacokinetics Due to Drug–Protein Binding</a:t>
            </a:r>
            <a:endParaRPr b="0" lang="en-US" sz="4200" spc="-1" strike="noStrike">
              <a:solidFill>
                <a:srgbClr val="006633"/>
              </a:solidFill>
              <a:latin typeface="Garamond"/>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in binding may prolong the elimination half-life of a dru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rugs that are protein bound must first dissociate into the free or nonbound form to be eliminated by glomerular filtration. The nature and extent of drug–protein binding affects the magnitude of the deviation from normal linear or first-order elimination rate proc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rugs that demonstrate saturation kinetics usually show the following characteristics.</a:t>
            </a:r>
            <a:br>
              <a:rPr sz="4200"/>
            </a:br>
            <a:br>
              <a:rPr sz="4200"/>
            </a:br>
            <a:r>
              <a:rPr b="0" lang="en-US" sz="4200" spc="-1" strike="noStrike">
                <a:solidFill>
                  <a:srgbClr val="006633"/>
                </a:solidFill>
                <a:latin typeface="Garamond"/>
              </a:rPr>
              <a:t>H.W</a:t>
            </a:r>
            <a:br>
              <a:rPr sz="4200"/>
            </a:b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elimination of drug by a saturable enzymatic process is described by </a:t>
            </a:r>
            <a:r>
              <a:rPr b="0" i="1" lang="en-US" sz="4200" spc="-1" strike="noStrike">
                <a:solidFill>
                  <a:srgbClr val="006633"/>
                </a:solidFill>
                <a:latin typeface="Garamond"/>
              </a:rPr>
              <a:t>Michaelis–Menten kinetics</a:t>
            </a:r>
            <a:r>
              <a:rPr b="0" lang="en-US" sz="4200" spc="-1" strike="noStrike">
                <a:solidFill>
                  <a:srgbClr val="006633"/>
                </a:solidFill>
                <a:latin typeface="Garamond"/>
              </a:rPr>
              <a:t>.</a:t>
            </a:r>
            <a:br>
              <a:rPr sz="4200"/>
            </a:br>
            <a:br>
              <a:rPr sz="4200"/>
            </a:b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468360" y="731880"/>
            <a:ext cx="7559640" cy="508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مستطيل 1"/>
          <p:cNvSpPr/>
          <p:nvPr/>
        </p:nvSpPr>
        <p:spPr>
          <a:xfrm>
            <a:off x="611280" y="76500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V max is the </a:t>
            </a:r>
            <a:r>
              <a:rPr b="0" lang="en-US" sz="1800" spc="-1" strike="noStrike">
                <a:solidFill>
                  <a:srgbClr val="ff0000"/>
                </a:solidFill>
                <a:latin typeface="Arial"/>
              </a:rPr>
              <a:t>maximum elimination rate </a:t>
            </a:r>
            <a:r>
              <a:rPr b="0" lang="en-US" sz="1800" spc="-1" strike="noStrike">
                <a:solidFill>
                  <a:srgbClr val="000000"/>
                </a:solidFill>
                <a:latin typeface="Arial"/>
              </a:rPr>
              <a:t>and Km is the Michael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hat reflects the </a:t>
            </a:r>
            <a:r>
              <a:rPr b="0" lang="en-US" sz="1800" spc="-1" strike="noStrike">
                <a:solidFill>
                  <a:srgbClr val="ff0000"/>
                </a:solidFill>
                <a:latin typeface="Arial"/>
              </a:rPr>
              <a:t>capacity of the enzym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مستطيل 1"/>
          <p:cNvSpPr/>
          <p:nvPr/>
        </p:nvSpPr>
        <p:spPr>
          <a:xfrm>
            <a:off x="900000" y="69228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ug concentration at which the reaction occurs at half the maximum rate (0.5Vmax) is known as (Km).</a:t>
            </a:r>
            <a:endParaRPr b="0" lang="en-US" sz="1800" spc="-1" strike="noStrike">
              <a:solidFill>
                <a:srgbClr val="000000"/>
              </a:solidFill>
              <a:latin typeface="Arial"/>
            </a:endParaRPr>
          </a:p>
        </p:txBody>
      </p:sp>
      <p:sp>
        <p:nvSpPr>
          <p:cNvPr id="116" name="مستطيل 2"/>
          <p:cNvSpPr/>
          <p:nvPr/>
        </p:nvSpPr>
        <p:spPr>
          <a:xfrm>
            <a:off x="900000" y="255096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SansMS"/>
              </a:rPr>
              <a:t>(V</a:t>
            </a:r>
            <a:r>
              <a:rPr b="0" lang="en-US" sz="1000" spc="-1" strike="noStrike">
                <a:solidFill>
                  <a:srgbClr val="000000"/>
                </a:solidFill>
                <a:latin typeface="ComicSansMS"/>
              </a:rPr>
              <a:t>max</a:t>
            </a:r>
            <a:r>
              <a:rPr b="0" lang="en-US" sz="1800" spc="-1" strike="noStrike">
                <a:solidFill>
                  <a:srgbClr val="000000"/>
                </a:solidFill>
                <a:latin typeface="ComicSansMS"/>
              </a:rPr>
              <a:t>) and (Km) determine the profile of a simple saturable reaction rate at various drug concentration. The relationship of these parameters is described by the Michaelis- Menten equation :</a:t>
            </a:r>
            <a:endParaRPr b="0" lang="en-US" sz="1800" spc="-1" strike="noStrike">
              <a:solidFill>
                <a:srgbClr val="000000"/>
              </a:solidFill>
              <a:latin typeface="Arial"/>
            </a:endParaRPr>
          </a:p>
        </p:txBody>
      </p:sp>
      <p:pic>
        <p:nvPicPr>
          <p:cNvPr id="117" name="Picture 3" descr=""/>
          <p:cNvPicPr/>
          <p:nvPr/>
        </p:nvPicPr>
        <p:blipFill>
          <a:blip r:embed="rId1"/>
          <a:stretch/>
        </p:blipFill>
        <p:spPr>
          <a:xfrm>
            <a:off x="971640" y="3860640"/>
            <a:ext cx="669456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SansMS"/>
              </a:rPr>
              <a:t>(Km) also known as Michaelis constant (mg/ml)</a:t>
            </a:r>
            <a:endParaRPr b="0" lang="en-US" sz="3200" spc="-1" strike="noStrike">
              <a:solidFill>
                <a:srgbClr val="000000"/>
              </a:solidFill>
              <a:latin typeface="Arial"/>
            </a:endParaRPr>
          </a:p>
        </p:txBody>
      </p:sp>
      <p:pic>
        <p:nvPicPr>
          <p:cNvPr id="120" name="Picture 2" descr=""/>
          <p:cNvPicPr/>
          <p:nvPr/>
        </p:nvPicPr>
        <p:blipFill>
          <a:blip r:embed="rId1"/>
          <a:stretch/>
        </p:blipFill>
        <p:spPr>
          <a:xfrm>
            <a:off x="108000" y="2997360"/>
            <a:ext cx="8928000" cy="29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ear models assumed that the pharmacokinetic parameters for a drug would not change when different doses or multiple doses of a drug were giv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onship of the rate of metabolism to the drug concentration is non-line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estimate the parameter </a:t>
            </a:r>
            <a:r>
              <a:rPr b="0" lang="en-US" sz="3000" spc="-1" strike="noStrike">
                <a:solidFill>
                  <a:srgbClr val="ff0000"/>
                </a:solidFill>
                <a:latin typeface="Arial"/>
              </a:rPr>
              <a:t>Vmax and Km</a:t>
            </a:r>
            <a:r>
              <a:rPr b="0" lang="en-US" sz="3000" spc="-1" strike="noStrike">
                <a:solidFill>
                  <a:srgbClr val="000000"/>
                </a:solidFill>
                <a:latin typeface="Arial"/>
              </a:rPr>
              <a:t>, the Michaelis-Menten equation is used to obta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ear relationshi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
          <p:cNvPicPr/>
          <p:nvPr/>
        </p:nvPicPr>
        <p:blipFill>
          <a:blip r:embed="rId1"/>
          <a:stretch/>
        </p:blipFill>
        <p:spPr>
          <a:xfrm>
            <a:off x="1833480" y="1231920"/>
            <a:ext cx="5477040" cy="40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مستطيل 1"/>
          <p:cNvSpPr/>
          <p:nvPr/>
        </p:nvSpPr>
        <p:spPr>
          <a:xfrm>
            <a:off x="684360" y="5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SansMS"/>
              </a:rPr>
              <a:t>This equation known as Lineweaver-Burk equation in which Km and V</a:t>
            </a:r>
            <a:r>
              <a:rPr b="0" lang="en-US" sz="1000" spc="-1" strike="noStrike">
                <a:solidFill>
                  <a:srgbClr val="000000"/>
                </a:solidFill>
                <a:latin typeface="ComicSansMS"/>
              </a:rPr>
              <a:t>max </a:t>
            </a:r>
            <a:r>
              <a:rPr b="0" lang="en-US" sz="1800" spc="-1" strike="noStrike">
                <a:solidFill>
                  <a:srgbClr val="000000"/>
                </a:solidFill>
                <a:latin typeface="ComicSansMS"/>
              </a:rPr>
              <a:t>may be estimated from a plot of (1/v) versus (1/C</a:t>
            </a:r>
            <a:r>
              <a:rPr b="0" lang="en-US" sz="1000" spc="-1" strike="noStrike">
                <a:solidFill>
                  <a:srgbClr val="000000"/>
                </a:solidFill>
                <a:latin typeface="ComicSansMS"/>
              </a:rPr>
              <a:t>p</a:t>
            </a:r>
            <a:r>
              <a:rPr b="0" lang="en-US" sz="1800" spc="-1" strike="noStrike">
                <a:solidFill>
                  <a:srgbClr val="000000"/>
                </a:solidFill>
                <a:latin typeface="ComicSansMS"/>
              </a:rPr>
              <a:t>).</a:t>
            </a:r>
            <a:endParaRPr b="0" lang="en-US" sz="1800" spc="-1" strike="noStrike">
              <a:solidFill>
                <a:srgbClr val="000000"/>
              </a:solidFill>
              <a:latin typeface="Arial"/>
            </a:endParaRPr>
          </a:p>
        </p:txBody>
      </p:sp>
      <p:pic>
        <p:nvPicPr>
          <p:cNvPr id="125" name="Picture 2" descr=""/>
          <p:cNvPicPr/>
          <p:nvPr/>
        </p:nvPicPr>
        <p:blipFill>
          <a:blip r:embed="rId1"/>
          <a:stretch/>
        </p:blipFill>
        <p:spPr>
          <a:xfrm>
            <a:off x="744480" y="2781360"/>
            <a:ext cx="7648560" cy="133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960480"/>
            <a:ext cx="9144000" cy="462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79280" y="560520"/>
            <a:ext cx="8569440" cy="54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1031760"/>
            <a:ext cx="9144000" cy="44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92360" y="242100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drugs, increased doses or chronic medication cause deviations from the linear pharmacokinetic profile observed with single low doses of the same dru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t>
            </a:r>
            <a:r>
              <a:rPr b="0" i="1" lang="en-US" sz="3000" spc="-1" strike="noStrike">
                <a:solidFill>
                  <a:srgbClr val="000000"/>
                </a:solidFill>
                <a:latin typeface="Arial"/>
              </a:rPr>
              <a:t>nonlinear</a:t>
            </a:r>
            <a:r>
              <a:rPr b="0" lang="en-US" sz="3000" spc="-1" strike="noStrike">
                <a:solidFill>
                  <a:srgbClr val="000000"/>
                </a:solidFill>
                <a:latin typeface="Arial"/>
              </a:rPr>
              <a:t> pharmacokinetic behavior is also termed </a:t>
            </a:r>
            <a:r>
              <a:rPr b="0" i="1" lang="en-US" sz="3000" spc="-1" strike="noStrike">
                <a:solidFill>
                  <a:srgbClr val="000000"/>
                </a:solidFill>
                <a:latin typeface="Arial"/>
              </a:rPr>
              <a:t>dose-dependent pharmacokineti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of the processes of drug absorption, distribution, biotransformation, and excretion involve enzymes or carrier-mediated system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some drugs given at therapeutic levels, one of these specialized processes may become satur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may demonstrate nonlinear pharmacokinetics due to a pathologic alteration in drug absorption, distribution, and elim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example, aminoglycosides may cause renal nephrotoxicity, thereby altering renal drug excre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addition, gallstone obstruction of the bile duct will alter biliary drug excre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ost cases, the main pharmacokinetic outcome is a change in the apparent elimination rate consta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00040" y="1142640"/>
            <a:ext cx="8229600" cy="4530600"/>
          </a:xfrm>
          <a:prstGeom prst="rect">
            <a:avLst/>
          </a:prstGeom>
          <a:noFill/>
          <a:ln w="0">
            <a:noFill/>
          </a:ln>
        </p:spPr>
        <p:txBody>
          <a:bodyPr anchor="t">
            <a:normAutofit fontScale="91000"/>
          </a:bodyPr>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determine whether a drug is following dose-dependent kinetics,</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drug is given at various dosage levels and a plasma level–time curve is obtained for each dose. </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urves should exhibit parallel slopes if the drug follows dose-independent kinetics. Alternatively,</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plot of the areas under the plasma level–time curves at various doses should be linear </a:t>
            </a:r>
            <a:endParaRPr b="0" lang="en-US" sz="3000" spc="-1" strike="noStrike">
              <a:solidFill>
                <a:srgbClr val="000000"/>
              </a:solidFill>
              <a:latin typeface="Arial"/>
            </a:endParaRPr>
          </a:p>
          <a:p>
            <a:pPr marL="312120" indent="-3121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nical and Adverse Toxicity Due to Nonlinear Pharmacokinetics </a:t>
            </a:r>
            <a:br>
              <a:rPr sz="4200"/>
            </a:br>
            <a:endParaRPr b="0" lang="en-US" sz="4200" spc="-1" strike="noStrike">
              <a:solidFill>
                <a:srgbClr val="006633"/>
              </a:solidFill>
              <a:latin typeface="Garamond"/>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esence of nonlinear or dose-dependent pharmacokinetics, whether due to saturation of a process involving absorption, first-pass metabolism, binding, or renal excretion, can have significant clinical con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nonlinear pharmacokinetics may not be noticed in drug studies that use a narrow dose range in patients. </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ase, dose estimation may result in disproportionate increases in adverse reactions, but insufficient therapeutic benefits.</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nlinear pharmacokinetics can occur anywhere above, within, or below the therapeutic window.</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6:20:00Z</dcterms:created>
  <dc:creator>Home Used Only</dc:creator>
  <dc:description/>
  <dc:language>en-US</dc:language>
  <cp:lastModifiedBy>dell</cp:lastModifiedBy>
  <dcterms:modified xsi:type="dcterms:W3CDTF">2018-11-28T06:08:55Z</dcterms:modified>
  <cp:revision>89</cp:revision>
  <dc:subject/>
  <dc:title>Bioavailability and Bioequivalence: General concepts and overview</dc:title>
</cp:coreProperties>
</file>