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45C-08BB-4EEB-BE4E-E612DC10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CA0-B40F-4FDA-96E4-B07DB485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FAA-C373-47A6-AD7F-B7596466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42E-A78F-4C1F-BF67-E0AE3975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3BB9-76B9-4C0E-82DE-ABD06588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60B7-4176-400E-B7F0-980E7E43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B50F-30F7-47E0-BD3C-DBDEC9F9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79F8-72DD-41B7-9E77-2D770DD2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F38F-C0C6-43F3-B1FF-68C6A966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99AC-8ED7-40A2-BBB9-A1098E40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0477-5454-40CB-9E8A-6CA0F812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5CC-AE49-4F6F-9280-D5BDB77C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181B-B587-4F42-8A67-88E7F356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AB91-8ACB-4B15-BDBD-D119128D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8E15-7069-40A3-87EF-EC05BD56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A366-7A47-4D0C-9D26-94833302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373D-00D9-4FAC-8D1F-D3F243B1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961-DF7A-4077-8A9E-3D65E7F2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C1E-C808-4087-90DA-16B89CB6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433-14DB-4390-8C91-8E318401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217-C69D-4101-B2F6-9D6263B0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B15-051F-4D6D-BCD0-0517FA41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5B2-69E4-41EA-BC22-9D2730D7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3DF-58D0-48C9-BEBB-BD7ABFA1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95FD-EACE-44BE-BB1F-9B63D84B9E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8D52-B968-4F3F-B4B8-DF89196A1C5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23560" y="1563480"/>
            <a:ext cx="7203960" cy="14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Bioavailability and Bioequivalence: General concepts and overview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4292280"/>
            <a:ext cx="64008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5920" y="433080"/>
            <a:ext cx="7956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oequivale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468360" y="1341360"/>
          <a:ext cx="8280360" cy="44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8036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oals of B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ltimate:  </a:t>
            </a:r>
            <a:r>
              <a:rPr b="0" lang="th-TH" sz="2500" spc="-1" strike="noStrike">
                <a:solidFill>
                  <a:srgbClr val="000000"/>
                </a:solidFill>
                <a:latin typeface="Arial"/>
              </a:rPr>
              <a:t>Bioequivalence studies impact of changes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000000"/>
                </a:solidFill>
                <a:latin typeface="Arial"/>
              </a:rPr>
              <a:t>the dosage form process after pivotal studies comm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000000"/>
                </a:solidFill>
                <a:latin typeface="Arial"/>
              </a:rPr>
              <a:t>to ensure product on the market is comparable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000000"/>
                </a:solidFill>
                <a:latin typeface="Arial"/>
              </a:rPr>
              <a:t>that upon which the efficacy is ba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900" spc="-1" strike="noStrike">
                <a:solidFill>
                  <a:srgbClr val="000000"/>
                </a:solidFill>
                <a:latin typeface="Arial"/>
              </a:rPr>
              <a:t>Establish that a new formulation has therapeutic equivalence in the rate and extent of absorption to the reference drug produc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900" spc="-1" strike="noStrike">
                <a:solidFill>
                  <a:srgbClr val="000000"/>
                </a:solidFill>
                <a:latin typeface="Arial"/>
              </a:rPr>
              <a:t>Important for linking the commercial drug product to clinical trial material at time of N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900" spc="-1" strike="noStrike">
                <a:solidFill>
                  <a:srgbClr val="000000"/>
                </a:solidFill>
                <a:latin typeface="Arial"/>
              </a:rPr>
              <a:t>Important for post-approval changes in the marketed drug formu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me of Oral Dosage Form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Picture 4" descr="skrandis"/>
          <p:cNvPicPr/>
          <p:nvPr/>
        </p:nvPicPr>
        <p:blipFill>
          <a:blip r:embed="rId1"/>
          <a:stretch/>
        </p:blipFill>
        <p:spPr>
          <a:xfrm>
            <a:off x="3780000" y="1484280"/>
            <a:ext cx="457668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453960" y="2743200"/>
            <a:ext cx="3505320" cy="2057400"/>
          </a:xfrm>
          <a:prstGeom prst="wedgeRectCallout">
            <a:avLst>
              <a:gd name="adj1" fmla="val 23097"/>
              <a:gd name="adj2" fmla="val 68365"/>
            </a:avLst>
          </a:prstGeom>
          <a:gradFill rotWithShape="0">
            <a:gsLst>
              <a:gs pos="0">
                <a:srgbClr val="99660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78000" y="16765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uman Intestinal Absorption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06600" y="51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al Bioavailability (%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82560" y="2971800"/>
            <a:ext cx="2895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,2 – Stability + 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– Passive + Active T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– Pgp efflux + CYP 3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oavail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tent and rate at which its active moiety is delivered from pharmaceutical form and becomes available in the systemic circ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694160" y="907920"/>
            <a:ext cx="54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quantifies ABSORPTION =  ?, Reasons for poor 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1692360" y="3141720"/>
            <a:ext cx="5638680" cy="3365640"/>
            <a:chOff x="1692360" y="3141720"/>
            <a:chExt cx="5638680" cy="3365640"/>
          </a:xfrm>
        </p:grpSpPr>
        <p:sp>
          <p:nvSpPr>
            <p:cNvPr id="125" name="Rectangle 7"/>
            <p:cNvSpPr/>
            <p:nvPr/>
          </p:nvSpPr>
          <p:spPr>
            <a:xfrm>
              <a:off x="1692360" y="3141720"/>
              <a:ext cx="5638680" cy="30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>
              <a:off x="3199320" y="3540600"/>
              <a:ext cx="2792520" cy="695880"/>
            </a:xfrm>
            <a:prstGeom prst="rect">
              <a:avLst/>
            </a:prstGeom>
            <a:solidFill>
              <a:srgbClr val="3b812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  <a:ea typeface="Arial"/>
                </a:rPr>
                <a:t>Pharmacokinet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nc. vs 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2535120" y="4131000"/>
              <a:ext cx="3959280" cy="22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>
              <a:off x="2982960" y="4321800"/>
              <a:ext cx="3451320" cy="17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2982960" y="4321800"/>
              <a:ext cx="3454200" cy="176220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2982960" y="4649760"/>
              <a:ext cx="3317760" cy="1434240"/>
            </a:xfrm>
            <a:prstGeom prst="pie">
              <a:avLst/>
            </a:prstGeom>
            <a:noFill/>
            <a:ln cap="rnd" w="507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 rot="16200000">
              <a:off x="1854360" y="4959360"/>
              <a:ext cx="13647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c.(mg/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4209480" y="6195960"/>
              <a:ext cx="9712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(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2982960" y="6081840"/>
              <a:ext cx="3454200" cy="2160"/>
            </a:xfrm>
            <a:prstGeom prst="pie">
              <a:avLst/>
            </a:prstGeom>
            <a:noFill/>
            <a:ln cap="rnd"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2982960" y="6081840"/>
              <a:ext cx="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 flipV="1">
              <a:off x="6434280" y="6081840"/>
              <a:ext cx="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2806200" y="6105600"/>
              <a:ext cx="227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6225840" y="6105600"/>
              <a:ext cx="2703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2982960" y="4321800"/>
              <a:ext cx="1440" cy="1762200"/>
            </a:xfrm>
            <a:prstGeom prst="pie">
              <a:avLst/>
            </a:prstGeom>
            <a:noFill/>
            <a:ln cap="rnd"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2922480" y="6081840"/>
              <a:ext cx="6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2922480" y="4321800"/>
              <a:ext cx="6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3"/>
            <p:cNvSpPr/>
            <p:nvPr/>
          </p:nvSpPr>
          <p:spPr>
            <a:xfrm>
              <a:off x="2582640" y="5986080"/>
              <a:ext cx="29160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0.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4"/>
            <p:cNvSpPr/>
            <p:nvPr/>
          </p:nvSpPr>
          <p:spPr>
            <a:xfrm>
              <a:off x="2663640" y="4259160"/>
              <a:ext cx="3654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5"/>
            <p:cNvSpPr/>
            <p:nvPr/>
          </p:nvSpPr>
          <p:spPr>
            <a:xfrm>
              <a:off x="2583000" y="6040080"/>
              <a:ext cx="3603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6"/>
            <p:cNvSpPr/>
            <p:nvPr/>
          </p:nvSpPr>
          <p:spPr>
            <a:xfrm>
              <a:off x="2814480" y="6098040"/>
              <a:ext cx="3621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7"/>
            <p:cNvSpPr/>
            <p:nvPr/>
          </p:nvSpPr>
          <p:spPr>
            <a:xfrm>
              <a:off x="6361200" y="6028200"/>
              <a:ext cx="36324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611280" y="98100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The “true dose” is not the drug swallow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BUT is the drug available to exert its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Dis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Survive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May have a drug with very low bio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Dosage form or drug may not dissolve read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Drug may not be readily pass across b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membranes (i.e. be absorb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Drug may be extensively metabolized d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absorption process (first-pass, gut wall, li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Important component of overall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Variable bioavailability may produc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3b812f"/>
                </a:solidFill>
                <a:latin typeface="Garamond"/>
              </a:rPr>
              <a:t>Why do we care about BIOAVAILABILITY</a:t>
            </a:r>
            <a:r>
              <a:rPr b="1" lang="en-US" sz="3400" spc="-1" strike="noStrike">
                <a:solidFill>
                  <a:srgbClr val="3b812f"/>
                </a:solidFill>
                <a:latin typeface="Garamond"/>
              </a:rPr>
              <a:t>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68360" y="1268280"/>
            <a:ext cx="907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Extent of absorption is reflected by A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Rate of absorption, ka, is reflected by T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Both Rate and Extent of absorption affect C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Lead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possible relative scen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(R) Rapid, (E) Complete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yields a short Tmax, high Cmax, high 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(R) Rapid, (E) incomplete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yields a short Tmax, low Cmax, low 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(R) Slow, (E) complete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yields a long Tmax, high Cmax, high 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(R) Slow, (E) incomplete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yields a long Tmax, low Cmax, low 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b812f"/>
                </a:solidFill>
                <a:latin typeface="Garamond"/>
              </a:rPr>
              <a:t>Rate versus Extent of Absorption</a:t>
            </a:r>
            <a:br>
              <a:rPr sz="3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5719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oavail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calcul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linical/PD Dose-Respon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42920" y="5013360"/>
            <a:ext cx="707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</a:rPr>
              <a:t>Bioequivalence studies assess in vivo impact of changes to the dosage form/process after pivotal studies commence to ensure product on the market is comparable to that 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</a:rPr>
              <a:t>which the efficacy is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rcRect l="11669" t="13331" r="10000" b="10000"/>
          <a:stretch/>
        </p:blipFill>
        <p:spPr>
          <a:xfrm>
            <a:off x="2211480" y="1103400"/>
            <a:ext cx="4952880" cy="3405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56" name="Text Box 7"/>
          <p:cNvSpPr/>
          <p:nvPr/>
        </p:nvSpPr>
        <p:spPr>
          <a:xfrm>
            <a:off x="2556000" y="463716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Theophylline Concentration[mg/L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 rot="16200000">
            <a:off x="759600" y="2393280"/>
            <a:ext cx="230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FEV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 (% norm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953640" y="6400800"/>
            <a:ext cx="28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enko &amp; Ogilvie NEJM 289:600-3, 19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Why do we need Bioequivalence studie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 clinical studies have been performed in patients with the Generic Product to support its Efficacy and Safe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85080" y="62064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716360" y="2205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17440" y="13413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j0195812"/>
          <p:cNvPicPr/>
          <p:nvPr/>
        </p:nvPicPr>
        <p:blipFill>
          <a:blip r:embed="rId1"/>
          <a:stretch/>
        </p:blipFill>
        <p:spPr>
          <a:xfrm>
            <a:off x="684360" y="3284640"/>
            <a:ext cx="1773000" cy="1823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2700360" y="400536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 VERSUS PHARMACEUTICAL CO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pproaches to Determining BE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ivo measurement of active moiety in biologic flu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armacodynamic comparison (Topical Corticosteroi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udy Design: Basic design consider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pare performance of two products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 u="sng">
                <a:solidFill>
                  <a:srgbClr val="000000"/>
                </a:solidFill>
                <a:uFillTx/>
                <a:latin typeface="Arial"/>
              </a:rPr>
              <a:t>Crossover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2x2 Crossover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A single-dose bioequivalence study is performed in normal, healthy, adult volunteer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 subjects are hire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le or Female?)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The subjects are randomly selected for each group and the sequence of drug administration is randomly assig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-week washout peri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sted or F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y Design: Case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y Desig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-dose, two-way crossover, fas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-dose, two-way crossover, f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ltern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-dose, parallel, fasted (Long half-lif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-dose, replicate design (Highly Variable Drug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-dose, two-way crossover, fasted (Less Sensitive, non-linear kinet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59920" y="6308640"/>
            <a:ext cx="88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or crossover?, Fasted or Fed?, Single or Multiple?, Replicate or nonreplic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ation of washout period for cross-over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be approximately &gt; 5 times the plasma apparent terminal half-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ever, should be adjusted accordingly for drugs with complex kinetic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y Desig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jects? (Inclusion/exclusion criter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y Desig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05400" y="3357720"/>
            <a:ext cx="767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ch a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y subjects (male and fe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-55 years old, BMI = 18 – 25 kg/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mokers/without a history of alcohol or drug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history/Clinical Lab test values must be within normal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in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ain from the concomitants use of any medications or food interac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, renal, liver function from  28 days prior study Day1 through the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up-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s of 2×2 Crossover Desig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parameter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ry-over effect is confoun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carryover effect exists, the drug effect cannot be estimated correc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738360" y="1386000"/>
            <a:ext cx="76672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693720" y="2625840"/>
            <a:ext cx="7755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s: kinds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rand name dru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or dru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new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eneric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ug contain the same active ingredients as the brand 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eneric drug cannot be marketed in the US until the patent on the innovator drug has expir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efficacy, but usually chea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480960" y="1200240"/>
            <a:ext cx="81820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-108000" y="260280"/>
            <a:ext cx="96012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DA Draft-Guidance for Industry (199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Providing Clinical Evidence of Effectiveness for Human Drug and Biological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89000" y="1557360"/>
            <a:ext cx="8991360" cy="41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Dosage Form of a Previously Studie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In some cases, modified release dosage forms may be approved on the basis of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pharmacokinetic data linking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the new dosage form from a previously studied immediate-release dosage form. Because the pharmacokinetic patterns of controlled-release and immediate release dosage forms are not identical, it is generally important to have some understanding of the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relationship of blood concentration to response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to extrapolate to the new dosag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1927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ank you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n average 5 out 5000 new drug candidate are tested in human and only one is appro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t takes 12-15 years to discover and develop a new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مستطيل 2"/>
          <p:cNvSpPr/>
          <p:nvPr/>
        </p:nvSpPr>
        <p:spPr>
          <a:xfrm>
            <a:off x="611280" y="19432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ent 10 yrs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:marketing purpose;Tylen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atent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aminoph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30-85%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ic drugs are safe and effective alternatives to brand name prescri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ic drugs can help both consumers and the government reduce the cost of prescription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DA vs. ANDA  Review Proces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35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ginal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DA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imal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nical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ioavailability/Bioequivale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ic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NDA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oequivalence Study (In Vivo, In vit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3080" y="5726160"/>
            <a:ext cx="920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Generic drug applications are term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abbreviated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cause they are gener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required to include preclinical (anim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nical (human) data to establish safety and effectiven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ead, generic applicants must scientifically demonstrate that their product is bioequival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.e., performs in the same manner as the origina; drug)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ic Drug: Defin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active ingredient (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route of adminis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dosag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str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ind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s to reference listed drug (RL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oequivalence (BE): Defin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h-TH" sz="2600" spc="-1" strike="noStrike" u="sng">
                <a:solidFill>
                  <a:srgbClr val="3b812f"/>
                </a:solidFill>
                <a:uFillTx/>
                <a:latin typeface="Arial"/>
              </a:rPr>
              <a:t>the absence of a significant difference in the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 u="sng">
                <a:solidFill>
                  <a:srgbClr val="3b812f"/>
                </a:solidFill>
                <a:uFillTx/>
                <a:latin typeface="Arial"/>
              </a:rPr>
              <a:t>and extent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 to which the active ingredient or a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moiety in pharmaceutical equivalents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pharmaceutical alternatives becomes available </a:t>
            </a:r>
            <a:r>
              <a:rPr b="0" lang="th-TH" sz="2600" spc="-1" strike="noStrike" u="sng">
                <a:solidFill>
                  <a:srgbClr val="3b812f"/>
                </a:solidFill>
                <a:uFillTx/>
                <a:latin typeface="Arial"/>
              </a:rPr>
              <a:t>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 u="sng">
                <a:solidFill>
                  <a:srgbClr val="3b812f"/>
                </a:solidFill>
                <a:uFillTx/>
                <a:latin typeface="Arial"/>
              </a:rPr>
              <a:t>the site of drug action when administered </a:t>
            </a:r>
            <a:r>
              <a:rPr b="0" lang="th-TH" sz="2600" spc="-1" strike="noStrike" u="sng">
                <a:solidFill>
                  <a:srgbClr val="990033"/>
                </a:solidFill>
                <a:uFillTx/>
                <a:latin typeface="Arial"/>
              </a:rPr>
              <a:t>at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 u="sng">
                <a:solidFill>
                  <a:srgbClr val="990033"/>
                </a:solidFill>
                <a:uFillTx/>
                <a:latin typeface="Arial"/>
              </a:rPr>
              <a:t>same molar dose under similar conditions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</a:rPr>
              <a:t>an </a:t>
            </a:r>
            <a:r>
              <a:rPr b="0" lang="th-TH" sz="2600" spc="-1" strike="noStrike" u="sng">
                <a:solidFill>
                  <a:srgbClr val="990033"/>
                </a:solidFill>
                <a:uFillTx/>
                <a:latin typeface="Arial"/>
              </a:rPr>
              <a:t>appropriately designed study</a:t>
            </a:r>
            <a:r>
              <a:rPr b="0" lang="th-TH" sz="2600" spc="-1" strike="noStrike">
                <a:solidFill>
                  <a:srgbClr val="990033"/>
                </a:solidFill>
                <a:latin typeface="Arial"/>
              </a:rPr>
              <a:t>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88240" y="5681520"/>
            <a:ext cx="28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ER U.S. Food &amp; Drug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6:20:00Z</dcterms:created>
  <dc:creator>Home Used Only</dc:creator>
  <dc:description/>
  <dc:language>en-US</dc:language>
  <cp:lastModifiedBy>dell</cp:lastModifiedBy>
  <dcterms:modified xsi:type="dcterms:W3CDTF">2018-12-23T07:57:40Z</dcterms:modified>
  <cp:revision>65</cp:revision>
  <dc:subject/>
  <dc:title>Bioavailability and Bioequivalence: General concepts and overview</dc:title>
</cp:coreProperties>
</file>