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BFD-7C00-41BE-973A-4D692A0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CB5-ECF3-4B19-A1D1-6C9FD628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9A8-B870-4ECF-BDE3-49257032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32E-3015-4475-B808-4E10C0A9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070E-6EF4-4691-9288-B8CF7B56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85C-4602-42D2-A005-B305EC8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4C3-AA1E-4655-A413-2BC41A0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015-3820-4F4D-A520-183F0C3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539-BDB5-42B2-988F-7142B51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816-B5D5-4C2B-BB8B-50511A85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0AC9-3E3B-4BB7-AF3A-F696EA2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AE6-949B-47F4-AD67-F1BB9C66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902-774A-42C3-8157-8A899A4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030-4DB6-4CC7-8438-FF12D4C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2E68-F554-4838-9A74-B7FDC18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20B2-ECEF-4141-80E7-C73EE8E1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F420-88CA-4BDF-9167-51EA53B6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EF61-B7B3-40C5-815F-05EE3FA4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2893-7A87-4EE2-9082-89DFBCDE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66EC-1AE7-4852-95FC-DD8E087C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CC60-F0FA-49CA-9043-C960E646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33A3-1EBA-46EB-8965-07D0EC92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F0D-70BB-4D6F-858E-71A7255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8626-4EDF-416F-9D28-DE84C97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2A64-5F80-414B-B9EA-5518BB9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2DD0-F7D7-40FC-A4FA-7FE33C5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8D19-1E3A-42B0-8F60-B3A891E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000E-0AE6-4C2A-9D4E-B5374DE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E27D-790C-4F48-852F-9C2196B8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919D-D23A-4CBF-B425-1F0BEB28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B1D2-91B9-428D-8901-40F75BDA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A746-B351-4910-8191-15B20A0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BF19-58F0-4B0B-83E5-B9F0F384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948-C34B-45BC-B5D5-3CD731BA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4484-7CA1-48B9-946E-0D50A52C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6C6A-7DCD-4E94-9F2F-FC8581C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891E-BA05-4B7C-812C-2123B6A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0BD7-400C-4547-B232-47A5C04E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58A3-0AF6-4A6F-A0E4-1631063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743F-E9F9-43F4-9EFB-D5934A7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3542-7FEF-449C-95E7-C3927C7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134E-8EC5-4335-BD48-2B84209C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40DF-AE5E-453F-B046-AA68660F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12B1-EDFE-47ED-83B9-DCD261C5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F67-E396-4998-8E3C-CC46E851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B794-7F1C-4776-BE4C-DB415756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135D-10D4-4834-9CEF-E4735D7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A820-5F96-460A-BBF8-E5C530C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3CF0-92CB-46D8-AB7D-665C3A9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C640-E0B4-435F-8F3F-6A60AB8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6C28-1F1D-42CA-B13D-DDD8632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0BF8-A654-4316-8898-689E110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0C8E-5BB8-477F-BFD4-AF1D776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6B70E-73E1-46FC-ACA5-D26C61FA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3A31-76A9-4071-B5E7-A4561DD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413-746E-43B4-9507-F325AC09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A3F5-1FE2-446C-BC8E-B40CC87E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FBDD-8F73-4710-8E26-6C070810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CEC0-C5FA-4C7D-9463-7DA1713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7E93D-5B04-4809-8F84-6A893E8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A72E-0AD0-4BCB-88FC-7AFF550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3946-A1FA-4B9A-BE11-04EC1369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C343-7DA9-4FCF-B5A8-BD70D68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6EE18-E560-48F4-9F20-34188DB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37F6-2835-423B-BD42-18D73DB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E64D-8D18-4B9C-9F85-9B621326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EE7-6B67-4440-8EC5-7D8A435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DAE8-B467-498F-8BAE-B7D0C1AC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929B5-88C7-4572-9718-E87D6D6C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5AFA-DAA1-4C47-A292-F99A9983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410-45A5-4EEA-9818-66A8E52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C41-97D3-4689-B6BA-B14655A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3DB-BB49-46D5-A922-B98C853C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6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CB1E-271C-4A16-B1CC-F6919A07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C94-B8E9-4E1E-A521-0C55E2797D6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7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7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5DE-5AEC-47B1-9171-11F68BE8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3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23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DFA-D904-43B1-B086-20EC9697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D28-4C89-4E1F-928F-CC5BA3533F2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8478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Biopharmacy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4360" y="35002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rug absorption; mechanisms of absorption; physicochemical factors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مستطيل 3"/>
          <p:cNvSpPr/>
          <p:nvPr/>
        </p:nvSpPr>
        <p:spPr>
          <a:xfrm>
            <a:off x="1042920" y="7970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actors associated with formulation of aq. suspension dosage forms that can influence the  F of a drug from GIT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particle siz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ffective surface area of the dispersed dru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rystal form of the dru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ation of a non-absorbable comple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inclusion of surfactants as wet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locculating or deflocculating agen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viscosity of the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مستطيل 3"/>
          <p:cNvSpPr/>
          <p:nvPr/>
        </p:nvSpPr>
        <p:spPr>
          <a:xfrm>
            <a:off x="1042920" y="190512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Capsule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Generally the bioavailability of a drug from a well formulated powder filled hard gelatin capsule dosage form will be better than or at least equal to that for the same drug in a compressed tab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مستطيل 3"/>
          <p:cNvSpPr/>
          <p:nvPr/>
        </p:nvSpPr>
        <p:spPr>
          <a:xfrm>
            <a:off x="971640" y="1720800"/>
            <a:ext cx="8064360" cy="22885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The inclusion of hydrophilic or hydrophobic diluents will effect the dissolution rate of drugs encaps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hydrophilic diluents (e.g sorbitol, lactose) often serve to increase the rate of penetration of the aqueous GI fluids into contents of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مستطيل 3"/>
          <p:cNvSpPr/>
          <p:nvPr/>
        </p:nvSpPr>
        <p:spPr>
          <a:xfrm>
            <a:off x="971640" y="404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n increasing in packing density (e.g decrease in porosity) of the encapsulated mass will probably result in a decrease in liquid permeability and dissolution rate, particularly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مستطيل 4"/>
          <p:cNvSpPr/>
          <p:nvPr/>
        </p:nvSpPr>
        <p:spPr>
          <a:xfrm>
            <a:off x="1116000" y="24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rug is hydrophobic or if hydrophilic drug is mixed with hydrophobic lubricant such as magnesium stea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lusion of surfactant will be valuable in this case to increase liquid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مستطيل 3"/>
          <p:cNvSpPr/>
          <p:nvPr/>
        </p:nvSpPr>
        <p:spPr>
          <a:xfrm>
            <a:off x="1042920" y="69228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ulation factors that can influence drug bioavailability from hard gelatin capsule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article size and surface are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use of salt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rystal form of the drug, chemical stab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nature and the quantity of diluents especially lubricant and surfactant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ype and condition of fill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SansMS-Bold"/>
              </a:rPr>
              <a:t>Tablet </a:t>
            </a:r>
            <a:r>
              <a:rPr b="0" lang="en-US" sz="4400" spc="-1" strike="noStrike">
                <a:solidFill>
                  <a:srgbClr val="003366"/>
                </a:solidFill>
                <a:latin typeface="ComicSansMS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most widely used dosag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there is an enormous reduction in the effective surfa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a poorly soluble drug  VS. tablets containing such drugs should disintegrate rapidly and completely if rapid release, dissolution and absorption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SansMS"/>
              </a:rPr>
              <a:t>Formulation factors that can influence drug bioavailability from uncoated tab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wettability, effective surface area, crystal form, chemical stabi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Nature and quantity of the diluent, binder, disintegrants, lubricant and wetting ag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Compaction pressure and speed of compaction used in tabl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conditions of storage and age of the t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SansMS"/>
              </a:rPr>
              <a:t>For coated tablets, the presence of coating presents a physical barrier between table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SansMS"/>
              </a:rPr>
              <a:t>core and GI flui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problems associated with coated tablets &amp; are subject to the additional potential problem of being surrounded by physic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The physicochemical and thickness of the coating can thus influence how quickly a drug is released from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مستطيل 3"/>
          <p:cNvSpPr/>
          <p:nvPr/>
        </p:nvSpPr>
        <p:spPr>
          <a:xfrm>
            <a:off x="971640" y="227484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Hydroxypropylmethyl cellulose (HPMC) a water soluble polymer (has no effec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thyl cellulose a water insoluble polymer, delay and/or reduce the rate of drug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oating particularly Shellac, will crosslink upon aging and decrease the dissolu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مستطيل 3"/>
          <p:cNvSpPr/>
          <p:nvPr/>
        </p:nvSpPr>
        <p:spPr>
          <a:xfrm>
            <a:off x="1187280" y="98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 enteric coated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efect in the formulation will affect the extent of intact drug abso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81000" y="42840"/>
            <a:ext cx="8982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SansMS-Bold"/>
              </a:rPr>
              <a:t>Influence of Excepients for Conventional Dosage For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xcepients include disintegrants, diluents, lubricants, suspending agents, emulsifying agents, flavoring agents, coloring agents ….et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must be inert in that they should exert no therapeutic or biological action, or modify the biological action of the drugs present in the dosag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مستطيل 3"/>
          <p:cNvSpPr/>
          <p:nvPr/>
        </p:nvSpPr>
        <p:spPr>
          <a:xfrm>
            <a:off x="1042920" y="17208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Dilue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Some diluents had been reported to be responsible for decreasing the gastrointestinal absorption of drug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art of the administered dose of th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ed a poorly absorbable complex with the diluents and hence decrease bio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7324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Disintegra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isintegrants are required to break up capsules, tablets and granules into primary powder particles in order to increase the surface area of the drug exposed to GI fl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 tablet that fail to disintegrate or disintegrate slowly may result in incomplete absorption or a delay in the onset of action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مستطيل 3"/>
          <p:cNvSpPr/>
          <p:nvPr/>
        </p:nvSpPr>
        <p:spPr>
          <a:xfrm>
            <a:off x="900000" y="981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Lubrica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Both tablets and capsules require lubricants in their formulation to reduce friction between the powder and metal surfaces during their manufactu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Lubricants are often hydrophobic in nature (e.g magnesium stearate) and retards liquids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to capsules or tablets ingredients, this problem can usually overcome by simultaneous addition of wetting agent ( e.g water soluble surfactants) and the use of hydrophilic dilu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-541440" y="-458640"/>
            <a:ext cx="993636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47600" y="-222120"/>
            <a:ext cx="885672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92360" y="2492280"/>
            <a:ext cx="6192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مستطيل 2"/>
          <p:cNvSpPr/>
          <p:nvPr/>
        </p:nvSpPr>
        <p:spPr>
          <a:xfrm>
            <a:off x="1042920" y="15368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ic drug absorption from GIT or from any other extravascular site is dependent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The physicochemical properties of the d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Pharmaceutical and formulatory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Anatomy and physiology of absorption site (G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مستطيل 3"/>
          <p:cNvSpPr/>
          <p:nvPr/>
        </p:nvSpPr>
        <p:spPr>
          <a:xfrm>
            <a:off x="1403280" y="692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Pharmaceutical and formulator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900000" y="2027160"/>
            <a:ext cx="7858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مستطيل 3"/>
          <p:cNvSpPr/>
          <p:nvPr/>
        </p:nvSpPr>
        <p:spPr>
          <a:xfrm>
            <a:off x="1187280" y="1720800"/>
            <a:ext cx="777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dosage form can influence the bioavailability of the d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whether  a drug is incorporated in the form of solution, suspension, or solid dosage form (tablet or capsule) can influences its rate and/or extent of absorption from G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مستطيل 3"/>
          <p:cNvSpPr/>
          <p:nvPr/>
        </p:nvSpPr>
        <p:spPr>
          <a:xfrm>
            <a:off x="1258920" y="79704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 general, drug to be absorbed from GIT they must be in solution 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us the greater the number of intervening steps to be in solution (disintegration then dissolution) the greater will be the number of potential obstacles to absorp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H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bioavailability of a given drug tends to decrease in the following order of the types of dosage form for sam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مستطيل 3"/>
          <p:cNvSpPr/>
          <p:nvPr/>
        </p:nvSpPr>
        <p:spPr>
          <a:xfrm>
            <a:off x="900000" y="3078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queous solution &gt; Aqueous suspension &gt; Solid dosag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مستطيل 3"/>
          <p:cNvSpPr/>
          <p:nvPr/>
        </p:nvSpPr>
        <p:spPr>
          <a:xfrm>
            <a:off x="1042920" y="404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Influence of the Type of Dosag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مستطيل 4"/>
          <p:cNvSpPr/>
          <p:nvPr/>
        </p:nvSpPr>
        <p:spPr>
          <a:xfrm>
            <a:off x="833400" y="1197000"/>
            <a:ext cx="834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Aqueous Solution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actors associated with formulation of aqueous solution that can influence drug bioavailability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chemical stability of the drug in aqueous solution and gastric flu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omplexation of drug with the excepients included in the sol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orporation of surface active agents to increase water solubility of the dru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orporation of viscosity enha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مستطيل 1"/>
          <p:cNvSpPr/>
          <p:nvPr/>
        </p:nvSpPr>
        <p:spPr>
          <a:xfrm>
            <a:off x="888840" y="549360"/>
            <a:ext cx="824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Aqueous Suspension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t is a useful dosage form for administrating an insolubl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oorly water soluble drug. Usually the absorption of the drug from this type of dosage form is dissolution rate limi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oral administration of an aqueous suspension resul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 large total surface area of the dispersed drug being immediately presented to the GI fluids comparing with solid oral dosage forms. This facilitates dissolution and h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bsorption of the dru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5:02:06Z</dcterms:created>
  <dc:creator>Nelson</dc:creator>
  <dc:description/>
  <dc:language>en-US</dc:language>
  <cp:lastModifiedBy>CHANGE_ME</cp:lastModifiedBy>
  <dcterms:modified xsi:type="dcterms:W3CDTF">2012-12-05T19:17:45Z</dcterms:modified>
  <cp:revision>124</cp:revision>
  <dc:subject/>
  <dc:title>Chapter 5</dc:title>
</cp:coreProperties>
</file>