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218C-2E2E-4D6D-859D-1C5E5F47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DCD-0730-4A36-905F-45EAE62F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71D7-96ED-452F-8D2E-195F7B73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152-0E80-4DFD-8AD7-B7525DC4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1C2A-3EC5-4B2A-94CC-A7F3CB86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A2D4-16FA-4E8A-8564-FE07E853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C630-6447-4516-8285-22FE0BC2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E861-04EE-4946-BAA4-7F268F46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B097-A349-4F70-B574-9A327259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3C3E-C477-45F5-988D-0B72F89A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6E94-0F2A-41F5-AFFD-173D5521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F9A-A1BF-40E4-92FC-7D15682A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C96A-C69F-40BF-9BF5-190E5CED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5C3E-391E-4F56-9A66-49422848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83BB-0301-4F37-96F7-3B994AC2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EED4-1DA5-4873-97F5-F274ED3E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5D88-4AA1-4864-8E60-AA20BED8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388D2-D440-4CB2-A7C6-A2B181E1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2A031-BD56-41BD-9C8C-2E7EFEF8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AD53F-63F8-4602-88E1-4E4AD7D0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4F985-E508-42DE-8E91-4D1CBB86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58269-07EE-4E73-B2CA-FDBBB8D5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270-4338-4590-87F3-AA102B33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B6247-ECF4-439B-9F54-EDAABA21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9B0CC-D3A8-421E-BD65-21EC4C7E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BFFCA-0F6A-4314-B333-88554EDC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7CB91-9863-4339-96EC-F84F65AA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87921-5379-41DB-8A4A-59A12E53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DA9A3-A57D-4177-9EC9-5992BE2E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93DD5-7D69-4234-9360-BB1B921E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C3DA1-0024-476A-B348-F4E34C70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BB4A7-AAEC-4215-ABDD-3379B8A0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88058-3996-48A5-80FA-F99E3318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95A7-911E-4FD7-9625-61D0DE1C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A6043-9671-47E2-8986-A9548268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5DFC6-EE7F-40B4-B5CA-4FA882A6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F69FD-89D5-4C3D-9F70-978747D9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9B170-BAD1-48B4-9A24-663A6C0D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952A6-9CF1-4176-BEE1-5CEB43FC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A0A80-1698-48BD-8424-FF567150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DA46E-D801-48EA-BC0E-78B36FC6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359D6-9E37-4E4D-A7CD-3D57D33B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5FA17-CB34-4CD0-947C-DF8F4566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63E58-77FC-406B-AAB3-A51CF977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74FA-A693-4123-944A-F02831DC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83D92-FDCB-4D65-AF42-3F5398BD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F2424-8CCF-41BD-BA3B-2ECD162B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1CE62-FA33-4074-84EF-059D33B8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B7FDA-D323-4A6F-915F-12398DAC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FDF70-1E7A-44AD-84F8-3A8E798D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5BD74-C92E-4BB1-9B04-DF68346B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351A1-606A-43BF-906B-7E881F2E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E2C74-0CC8-4EC4-951A-B168FE68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8D344-79AB-4B6C-BE07-56FB7C0C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F0077-A62E-45F7-95F5-A935BEB3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7DC-C04B-4CB8-B78D-44143AE9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BA578-14C6-4180-8B20-8FBDEBE2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FB632-6E77-40EC-B1F5-D1D14B1C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A8FE1-DF40-42E2-A3D5-9E3A1CB4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2DB33-3A93-4936-BBDF-19B704E6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52E8B-1EE1-4FF1-8E97-2F92ABA1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64FDC-49EA-43C9-895E-AC0D8669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4FAE7-C64D-427F-B8DB-14B13F60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7524F-8C04-4301-9180-92163D48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4E8E7-F187-49E1-8503-AAE9509E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2DF61-B105-453B-AF96-7CA95D80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28C0-9D0B-41D4-81EB-D63EEE0C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02E93-75CE-4046-B0F4-4F1E0C7F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DBC3C-95CB-4058-9FE1-4E05EAEA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C4FA2-FD22-421C-A291-5CC92247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2899-DCAE-41D0-A345-FD67076E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049-8326-498D-8925-E296C6AE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0F9E-F3F9-4660-BBAC-1BF010D1A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65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66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8E55-9BE7-486D-BC0C-79CEA9032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9067-61D2-4C70-8983-1048EE689AAD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72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173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C5D7-896A-4112-AFD1-6CFB5C708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236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237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3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86FF-7AF4-4015-BEE1-9EDB7C476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05BB-6F11-404F-A1F6-779AA9856245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ngsan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84780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"/>
              </a:rPr>
              <a:t>Biopharmacy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4360" y="350028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rug absorption; mechanisms of absorption; physicochemical factors 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مستطيل 3"/>
          <p:cNvSpPr/>
          <p:nvPr/>
        </p:nvSpPr>
        <p:spPr>
          <a:xfrm>
            <a:off x="1042920" y="79704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Factors associated with formulation of aq. suspension dosage forms that can influence the  F of a drug from GIT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The particle siz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effective surface area of the dispersed dru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crystal form of the dru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formation of a non-absorbable comple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the inclusion of surfactants as wett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flocculating or deflocculating agent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the viscosity of the susp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مستطيل 3"/>
          <p:cNvSpPr/>
          <p:nvPr/>
        </p:nvSpPr>
        <p:spPr>
          <a:xfrm>
            <a:off x="1042920" y="1905120"/>
            <a:ext cx="792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SansMS-Bold"/>
              </a:rPr>
              <a:t>Capsule </a:t>
            </a: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Generally the bioavailability of a drug from a well formulated powder filled hard gelatin capsule dosage form will be better than or at least equal to that for the same drug in a compressed tabl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مستطيل 3"/>
          <p:cNvSpPr/>
          <p:nvPr/>
        </p:nvSpPr>
        <p:spPr>
          <a:xfrm>
            <a:off x="971640" y="1720800"/>
            <a:ext cx="8064360" cy="228852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SansMS"/>
              </a:rPr>
              <a:t>The inclusion of hydrophilic or hydrophobic diluents will effect the dissolution rate of drugs encapsu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Sans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SansMS"/>
              </a:rPr>
              <a:t>hydrophilic diluents (e.g sorbitol, lactose) often serve to increase the rate of penetration of the aqueous GI fluids into contents of the caps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مستطيل 3"/>
          <p:cNvSpPr/>
          <p:nvPr/>
        </p:nvSpPr>
        <p:spPr>
          <a:xfrm>
            <a:off x="971640" y="40464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An increasing in packing density (e.g decrease in porosity) of the encapsulated mass will probably result in a decrease in liquid permeability and dissolution rate, particularly if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مستطيل 4"/>
          <p:cNvSpPr/>
          <p:nvPr/>
        </p:nvSpPr>
        <p:spPr>
          <a:xfrm>
            <a:off x="1116000" y="249228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Drug is hydrophobic or if hydrophilic drug is mixed with hydrophobic lubricant such as magnesium stea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inclusion of surfactant will be valuable in this case to increase liquid pene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مستطيل 3"/>
          <p:cNvSpPr/>
          <p:nvPr/>
        </p:nvSpPr>
        <p:spPr>
          <a:xfrm>
            <a:off x="1042920" y="692280"/>
            <a:ext cx="792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Formulation factors that can influence drug bioavailability from hard gelatin capsules includ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particle size and surface are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the use of salt 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crystal form of the drug, chemical stabili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the nature and the quantity of diluents especially lubricant and surfactants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type and condition of fill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micSansMS-Bold"/>
              </a:rPr>
              <a:t>Tablet </a:t>
            </a:r>
            <a:r>
              <a:rPr b="0" lang="en-US" sz="4400" spc="-1" strike="noStrike">
                <a:solidFill>
                  <a:srgbClr val="003366"/>
                </a:solidFill>
                <a:latin typeface="ComicSansMS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SansMS"/>
              </a:rPr>
              <a:t>most widely used dosag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SansMS"/>
              </a:rPr>
              <a:t>there is an enormous reduction in the effective surface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SansMS"/>
              </a:rPr>
              <a:t>a poorly soluble drug  VS. tablets containing such drugs should disintegrate rapidly and completely if rapid release, dissolution and absorption are requ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SansMS"/>
              </a:rPr>
              <a:t>Formulation factors that can influence drug bioavailability from uncoated table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SansMS"/>
              </a:rPr>
              <a:t>wettability, effective surface area, crystal form, chemical stabilit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SansMS"/>
              </a:rPr>
              <a:t>Nature and quantity of the diluent, binder, disintegrants, lubricant and wetting agen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SansMS"/>
              </a:rPr>
              <a:t>Compaction pressure and speed of compaction used in tabl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SansMS"/>
              </a:rPr>
              <a:t>conditions of storage and age of the t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SansMS"/>
              </a:rPr>
              <a:t>For coated tablets, the presence of coating presents a physical barrier between tablet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SansMS"/>
              </a:rPr>
              <a:t>core and GI fluid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SansMS"/>
              </a:rPr>
              <a:t>problems associated with coated tablets &amp; are subject to the additional potential problem of being surrounded by physical b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SansMS"/>
              </a:rPr>
              <a:t>The physicochemical and thickness of the coating can thus influence how quickly a drug is released from tab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مستطيل 3"/>
          <p:cNvSpPr/>
          <p:nvPr/>
        </p:nvSpPr>
        <p:spPr>
          <a:xfrm>
            <a:off x="971640" y="2274840"/>
            <a:ext cx="81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Hydroxypropylmethyl cellulose (HPMC) a water soluble polymer (has no effect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Ethyl cellulose a water insoluble polymer, delay and/or reduce the rate of drug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Coating particularly Shellac, will crosslink upon aging and decrease the dissolution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مستطيل 3"/>
          <p:cNvSpPr/>
          <p:nvPr/>
        </p:nvSpPr>
        <p:spPr>
          <a:xfrm>
            <a:off x="1187280" y="981000"/>
            <a:ext cx="74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For enteric coated tab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defect in the formulation will affect the extent of intact drug abso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81000" y="42840"/>
            <a:ext cx="898200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micSansMS-Bold"/>
              </a:rPr>
              <a:t>Influence of Excepients for Conventional Dosage Form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Excepients include disintegrants, diluents, lubricants, suspending agents, emulsifying agents, flavoring agents, coloring agents ….etc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must be inert in that they should exert no therapeutic or biological action, or modify the biological action of the drugs present in the dosage 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مستطيل 3"/>
          <p:cNvSpPr/>
          <p:nvPr/>
        </p:nvSpPr>
        <p:spPr>
          <a:xfrm>
            <a:off x="1042920" y="172080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SansMS-Bold"/>
              </a:rPr>
              <a:t>Diluents </a:t>
            </a: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Some diluents had been reported to be responsible for decreasing the gastrointestinal absorption of drug 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part of the administered dose of the d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formed a poorly absorbable complex with the diluents and hence decrease bio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17324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SansMS-Bold"/>
              </a:rPr>
              <a:t>Disintegrants </a:t>
            </a: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Disintegrants are required to break up capsules, tablets and granules into primary powder particles in order to increase the surface area of the drug exposed to GI flu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A tablet that fail to disintegrate or disintegrate slowly may result in incomplete absorption or a delay in the onset of action of th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مستطيل 3"/>
          <p:cNvSpPr/>
          <p:nvPr/>
        </p:nvSpPr>
        <p:spPr>
          <a:xfrm>
            <a:off x="900000" y="98100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SansMS-Bold"/>
              </a:rPr>
              <a:t>Lubricants </a:t>
            </a: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Both tablets and capsules require lubricants in their formulation to reduce friction between the powder and metal surfaces during their manufactu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Lubricants are often hydrophobic in nature (e.g magnesium stearate) and retards liquids pene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into capsules or tablets ingredients, this problem can usually overcome by simultaneous addition of wetting agent ( e.g water soluble surfactants) and the use of hydrophilic dilu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"/>
          <p:cNvPicPr/>
          <p:nvPr/>
        </p:nvPicPr>
        <p:blipFill>
          <a:blip r:embed="rId2"/>
          <a:stretch/>
        </p:blipFill>
        <p:spPr>
          <a:xfrm>
            <a:off x="-541440" y="-458640"/>
            <a:ext cx="993636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147600" y="-222120"/>
            <a:ext cx="8856720" cy="70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92360" y="2492280"/>
            <a:ext cx="61927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ank you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مستطيل 2"/>
          <p:cNvSpPr/>
          <p:nvPr/>
        </p:nvSpPr>
        <p:spPr>
          <a:xfrm>
            <a:off x="1042920" y="1536840"/>
            <a:ext cx="79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ic drug absorption from GIT or from any other extravascular site is dependent 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The physicochemical properties of the dru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Pharmaceutical and formulatory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Anatomy and physiology of absorption site (GI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مستطيل 3"/>
          <p:cNvSpPr/>
          <p:nvPr/>
        </p:nvSpPr>
        <p:spPr>
          <a:xfrm>
            <a:off x="1403280" y="692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SansMS-Bold"/>
              </a:rPr>
              <a:t>Pharmaceutical and formulatory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900000" y="2027160"/>
            <a:ext cx="78580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مستطيل 3"/>
          <p:cNvSpPr/>
          <p:nvPr/>
        </p:nvSpPr>
        <p:spPr>
          <a:xfrm>
            <a:off x="1187280" y="1720800"/>
            <a:ext cx="777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ype of dosage form can influence the bioavailability of the dru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whether  a drug is incorporated in the form of solution, suspension, or solid dosage form (tablet or capsule) can influences its rate and/or extent of absorption from G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مستطيل 3"/>
          <p:cNvSpPr/>
          <p:nvPr/>
        </p:nvSpPr>
        <p:spPr>
          <a:xfrm>
            <a:off x="1258920" y="797040"/>
            <a:ext cx="7705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In general, drug to be absorbed from GIT they must be in solution fo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Thus the greater the number of intervening steps to be in solution (disintegration then dissolution) the greater will be the number of potential obstacles to absorp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He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The bioavailability of a given drug tends to decrease in the following order of the types of dosage form for same d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مستطيل 3"/>
          <p:cNvSpPr/>
          <p:nvPr/>
        </p:nvSpPr>
        <p:spPr>
          <a:xfrm>
            <a:off x="900000" y="307800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Aqueous solution &gt; Aqueous suspension &gt; Solid dosag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مستطيل 3"/>
          <p:cNvSpPr/>
          <p:nvPr/>
        </p:nvSpPr>
        <p:spPr>
          <a:xfrm>
            <a:off x="1042920" y="40464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SansMS-Bold"/>
              </a:rPr>
              <a:t>Influence of the Type of Dosag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مستطيل 4"/>
          <p:cNvSpPr/>
          <p:nvPr/>
        </p:nvSpPr>
        <p:spPr>
          <a:xfrm>
            <a:off x="833400" y="1197000"/>
            <a:ext cx="8340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SansMS-Bold"/>
              </a:rPr>
              <a:t>Aqueous Solution </a:t>
            </a: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Factors associated with formulation of aqueous solution that can influence drug bioavailability includ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The chemical stability of the drug in aqueous solution and gastric flui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complexation of drug with the excepients included in the solu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incorporation of surface active agents to increase water solubility of the drug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incorporation of viscosity enhan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مستطيل 1"/>
          <p:cNvSpPr/>
          <p:nvPr/>
        </p:nvSpPr>
        <p:spPr>
          <a:xfrm>
            <a:off x="888840" y="549360"/>
            <a:ext cx="824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SansMS-Bold"/>
              </a:rPr>
              <a:t>Aqueous Suspension </a:t>
            </a: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It is a useful dosage form for administrating an insoluble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poorly water soluble drug. Usually the absorption of the drug from this type of dosage form is dissolution rate limi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The oral administration of an aqueous suspension result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a large total surface area of the dispersed drug being immediately presented to the GI fluids comparing with solid oral dosage forms. This facilitates dissolution and h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absorption of the dru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05:02:06Z</dcterms:created>
  <dc:creator>Nelson</dc:creator>
  <dc:description/>
  <dc:language>en-US</dc:language>
  <cp:lastModifiedBy>CHANGE_ME</cp:lastModifiedBy>
  <dcterms:modified xsi:type="dcterms:W3CDTF">2012-12-05T19:17:45Z</dcterms:modified>
  <cp:revision>124</cp:revision>
  <dc:subject/>
  <dc:title>Chapter 5</dc:title>
</cp:coreProperties>
</file>