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20D11-1566-40B0-A382-B0E67FFA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311B-6C67-4099-B2FF-6B9ADBFA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1C9F1-F16B-4960-8420-516F53D36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A0DF5-15C2-47D3-894A-676946C39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1B55C-B94F-4505-B26C-6602C5F9C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19F0B-FD16-4BAD-84F7-EA48EEF4A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8690-75A8-433D-B804-237DEA663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09A56-1EAE-4034-A515-B067348D8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09B8F-68A0-4CD1-BA3D-B8297B9F2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97DE4-2935-40C6-BC7A-673277EAF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086D3-EA85-4C6F-8237-CC985FF00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EADE-FF9C-4676-936E-054CBFC02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6829C-9D5C-4473-80D2-E886A5749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3D2AD-5DA2-4B47-BFF6-6F60B337F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2F7EA-6B72-4DE4-81B7-5584530A2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2F12D-EB43-4391-A81E-80CB1F31A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91426-95EA-43BB-9724-DF0933A34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E0626-DDFD-4932-8A95-E7999EA08F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ADDB7-DF80-469D-B25C-6207B5F6D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313C0-506C-4259-AA59-1540CD95F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3EC90-E392-44A8-B10A-8AC00EBEC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52FA6-1075-4140-903C-83EEB2C37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F5548-0FF8-4AB5-9228-61AF50375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17D9A-37D5-4F18-B65E-3ABE7886E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2B409-909A-4CA3-9E8E-5217C336B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C7259-47F8-4764-BBCB-50A3B5B24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2FA97-208F-4A17-A369-7833EB136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E3BAD-FD33-41DF-B32C-6D867FE7C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9196BF-ECFB-4F84-872D-BB97A80479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3D1A03-742C-4D1A-A971-513B3A8CDC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D85782-7E8A-4C5F-9F2A-A01F0AB587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29D36-6D9A-4926-A9BC-184CFC3DC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96758-EC5C-418D-ADF9-AC269968B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688A7-4D72-45FE-80B6-B22BC8D1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47DB2-FE0C-453A-ADB1-756E52856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2A47C-1A4E-4810-B45C-4E10BE09C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222B7-F134-4A5F-BC66-0D48D3E6F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5EB79-754B-4568-A98F-16D54BF05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7B3A-201C-4DE8-952A-B836A056F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6AEE2-CF16-4449-88F5-E8E0256E8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34A6F-9836-4734-82BD-6BC817BE9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9FD67-D95B-48F7-AE02-0DB9063F2E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D8649-20BB-44E0-A2D1-6DBCE7863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FD06-BB77-4D3E-A344-0279F453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B295-5584-483D-B7CD-68243012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22DBD-949B-4CBA-8709-C2AE4C40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497A-1D7F-4A6E-8408-C2A55B3F7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D1ED-CBE9-4FF9-9552-2BDA6DA8F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5266-FA2F-4A88-B519-1F9A21AFB2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DDE7-4505-4981-88DB-A1A003EF161A}"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
        <p:nvSpPr>
          <p:cNvPr id="69"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3600" y="2438280"/>
            <a:ext cx="9147240" cy="1063800"/>
            <a:chOff x="-3600" y="2438280"/>
            <a:chExt cx="9147240" cy="1063800"/>
          </a:xfrm>
        </p:grpSpPr>
        <p:grpSp>
          <p:nvGrpSpPr>
            <p:cNvPr id="108" name="Group 3"/>
            <p:cNvGrpSpPr/>
            <p:nvPr/>
          </p:nvGrpSpPr>
          <p:grpSpPr>
            <a:xfrm>
              <a:off x="-3600" y="2479680"/>
              <a:ext cx="9147240" cy="1012320"/>
              <a:chOff x="-3600" y="2479680"/>
              <a:chExt cx="9147240" cy="1012320"/>
            </a:xfrm>
          </p:grpSpPr>
          <p:sp>
            <p:nvSpPr>
              <p:cNvPr id="109"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6"/>
              <p:cNvSpPr/>
              <p:nvPr/>
            </p:nvSpPr>
            <p:spPr>
              <a:xfrm flipH="1" rot="5400000">
                <a:off x="6590160" y="2649240"/>
                <a:ext cx="990720" cy="6699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14"/>
              <p:cNvSpPr/>
              <p:nvPr/>
            </p:nvSpPr>
            <p:spPr>
              <a:xfrm flipH="1" rot="5400000">
                <a:off x="4100040" y="2743200"/>
                <a:ext cx="990720" cy="466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16"/>
              <p:cNvSpPr/>
              <p:nvPr/>
            </p:nvSpPr>
            <p:spPr>
              <a:xfrm flipH="1" rot="5400000">
                <a:off x="4893480" y="2731680"/>
                <a:ext cx="1003320" cy="501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7"/>
              <p:cNvSpPr/>
              <p:nvPr/>
            </p:nvSpPr>
            <p:spPr>
              <a:xfrm flipH="1" rot="5400000">
                <a:off x="167832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19"/>
              <p:cNvSpPr/>
              <p:nvPr/>
            </p:nvSpPr>
            <p:spPr>
              <a:xfrm flipH="1" rot="5400000">
                <a:off x="873360" y="2774160"/>
                <a:ext cx="9907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3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2B79-7A49-42A4-9EF0-B4867A9190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0785-AC59-4F18-BA4D-523765101236}"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215"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0"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atients are often nauseous and are reluctant to take a lot of fluid. For example, HIV patients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complications affecting drug absorption can influence the outcome of these therapies</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With antibiotics, unabsorbed drug may influence the GI flora. For drugs that cause GI disturbances, residual drug dose in the GI tract can potentially aggravate the incidence of diarrh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2" name=""/>
          <p:cNvSpPr txBox="1"/>
          <p:nvPr/>
        </p:nvSpPr>
        <p:spPr>
          <a:xfrm>
            <a:off x="1173240" y="1981080"/>
            <a:ext cx="7772400" cy="4114800"/>
          </a:xfrm>
          <a:prstGeom prst="rect">
            <a:avLst/>
          </a:prstGeom>
          <a:noFill/>
          <a:ln w="0">
            <a:noFill/>
          </a:ln>
        </p:spPr>
        <p:txBody>
          <a:bodyPr anchor="t">
            <a:normAutofit fontScale="96000"/>
          </a:bodyPr>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rugs, such as erythromycin, iron salts, aspirin, and nonsteroidal anti-inflammatory agents (NSAIDs), are irritating to the GI mucosa and are given with food to reduce this irritation.</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hese drugs, the rate of absorption may be reduced in the presence of food, but the extent of absorption may be the same and the efficacy of the drug is retained</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 continued in sharg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ethods for Studying Factors that Affect Drug Absorption </a:t>
            </a:r>
            <a:endParaRPr b="0" lang="en-US" sz="3200" spc="-1" strike="noStrike">
              <a:solidFill>
                <a:srgbClr val="003366"/>
              </a:solidFill>
              <a:latin typeface="Times New Roman"/>
            </a:endParaRPr>
          </a:p>
        </p:txBody>
      </p:sp>
      <p:sp>
        <p:nvSpPr>
          <p:cNvPr id="234"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Scintigraphy to Study Site of Drug Relea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to Study Effect of Gastric and GI Transit Time on Absor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ffect of Disease States on Drug Absorption</a:t>
            </a:r>
            <a:endParaRPr b="0" lang="en-US" sz="3600" spc="-1" strike="noStrike">
              <a:solidFill>
                <a:srgbClr val="003366"/>
              </a:solidFill>
              <a:latin typeface="Times New Roman"/>
            </a:endParaRPr>
          </a:p>
        </p:txBody>
      </p:sp>
      <p:sp>
        <p:nvSpPr>
          <p:cNvPr id="236"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absorption may be affected by any disease that causes changes in</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testinal blood flow,</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gastrointestinal motility,</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hanges in stomach emptying time,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gastric pH that affects drug solubility,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intestinal pH that affects the extent of ionization, </a:t>
            </a: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the permeability of the gut w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8" name=""/>
          <p:cNvSpPr txBox="1"/>
          <p:nvPr/>
        </p:nvSpPr>
        <p:spPr>
          <a:xfrm>
            <a:off x="1173240" y="1981080"/>
            <a:ext cx="7772400" cy="4114800"/>
          </a:xfrm>
          <a:prstGeom prst="rect">
            <a:avLst/>
          </a:prstGeom>
          <a:noFill/>
          <a:ln w="0">
            <a:noFill/>
          </a:ln>
        </p:spPr>
        <p:txBody>
          <a:bodyPr anchor="t">
            <a:normAutofit fontScale="95000"/>
          </a:bodyPr>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7) bile secretion,</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 digestive enzyme secretion</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9) alteration of normal GI flora. </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may dominate, while other factors sometimes cancel the effects of each other.</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armacokinetic studies comparing subjects with and without the disease are generally necessary to establish the effect of the disease on drug absorp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on tricyclic antidepressants (imiprimine, amitriptyline, and nortriptyline) and antipsychotic drugs (phenothiazines) with anticholinergic side effects may have reduced gastrointestinal motility or even intestinal obstruction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s in drug absorption, especially with slow-release products, have occurre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2" name=""/>
          <p:cNvSpPr txBox="1"/>
          <p:nvPr/>
        </p:nvSpPr>
        <p:spPr>
          <a:xfrm>
            <a:off x="1258920" y="1341360"/>
            <a:ext cx="7772400" cy="4114800"/>
          </a:xfrm>
          <a:prstGeom prst="rect">
            <a:avLst/>
          </a:prstGeom>
          <a:noFill/>
          <a:ln w="0">
            <a:noFill/>
          </a:ln>
        </p:spPr>
        <p:txBody>
          <a:bodyPr anchor="t">
            <a:normAutofit fontScale="82000"/>
          </a:bodyPr>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hlorhydricpatients </a:t>
            </a:r>
            <a:r>
              <a:rPr b="0" lang="en-US" sz="2800" spc="-1" strike="noStrike">
                <a:solidFill>
                  <a:srgbClr val="000000"/>
                </a:solidFill>
                <a:latin typeface="Arial"/>
              </a:rPr>
              <a:t>may not have adequate production of acids in the stomach;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mach HCl is essential for solubilizing insoluble free bases.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eak-base drugs that cannot form soluble salts will remain undissolved in the stomach when there is no hydrochloric acid present and are therefore unabsorbed. </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 forms of these drugs cannot be prepared because the free base readily precipitates out due to the weak basicity.</a:t>
            </a:r>
            <a:endParaRPr b="0" lang="en-US" sz="2800" spc="-1" strike="noStrike">
              <a:solidFill>
                <a:srgbClr val="000000"/>
              </a:solidFill>
              <a:latin typeface="Arial"/>
            </a:endParaRPr>
          </a:p>
          <a:p>
            <a:pPr marL="281160" indent="-2811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4"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psone, itraconazole, and ketoconazol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F and lasix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ohn's disease and inder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360" y="249228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astric Emptying Time</a:t>
            </a:r>
            <a:endParaRPr b="0" lang="en-US" sz="4400" spc="-1" strike="noStrike">
              <a:solidFill>
                <a:srgbClr val="003366"/>
              </a:solidFill>
              <a:latin typeface="Times New Roman"/>
            </a:endParaRPr>
          </a:p>
        </p:txBody>
      </p:sp>
      <p:sp>
        <p:nvSpPr>
          <p:cNvPr id="217"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ically, a swallowed drug rapidly reaches the stomach. Eventually, the stomach empties its contents into the small intestin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odenum has the greatest capacity for the absorption of drugs from the GI tr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71640" y="549360"/>
            <a:ext cx="7772400" cy="4114800"/>
          </a:xfrm>
          <a:prstGeom prst="rect">
            <a:avLst/>
          </a:prstGeom>
          <a:noFill/>
          <a:ln w="0">
            <a:noFill/>
          </a:ln>
        </p:spPr>
        <p:txBody>
          <a:bodyPr anchor="t">
            <a:normAutofit fontScale="90000"/>
          </a:bodyPr>
          <a:p>
            <a:pPr marL="308520" indent="-30852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lay in the gastric emptying time for the drug to reach the duodenum will slow the rate and possibly the extent of drug absorption, thereby prolonging the onset time for the drug. Some drugs, such as penicillin, are unstable in acid and decompose if stomach emptying is delayed. Other drugs, such as aspirin, may irritate the gastric mucosa during prolonged contact</a:t>
            </a:r>
            <a:endParaRPr b="0" lang="en-US" sz="3200" spc="-1" strike="noStrike">
              <a:solidFill>
                <a:srgbClr val="000000"/>
              </a:solidFill>
              <a:latin typeface="Arial"/>
            </a:endParaRPr>
          </a:p>
          <a:p>
            <a:pPr marL="308520" indent="-30852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692280"/>
            <a:ext cx="77724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ffect of Food on Gastrointestinal Drug Absorption</a:t>
            </a:r>
            <a:br>
              <a:rPr sz="2800"/>
            </a:br>
            <a:br>
              <a:rPr sz="2800"/>
            </a:br>
            <a:endParaRPr b="0" lang="en-US" sz="2800" spc="-1" strike="noStrike">
              <a:solidFill>
                <a:srgbClr val="003366"/>
              </a:solidFill>
              <a:latin typeface="Times New Roman"/>
            </a:endParaRPr>
          </a:p>
        </p:txBody>
      </p:sp>
      <p:sp>
        <p:nvSpPr>
          <p:cNvPr id="220" name=""/>
          <p:cNvSpPr txBox="1"/>
          <p:nvPr/>
        </p:nvSpPr>
        <p:spPr>
          <a:xfrm>
            <a:off x="1173240" y="1197000"/>
            <a:ext cx="7772400" cy="489888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ce of food in the GI tract can affect the bioavailability of the drug from an oral drug product. Digested foods contain amino acids, fatty acids, and many nutrients that may affect intestinal pH and solubility of drug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food are not always predictable and can have clinically significant consequences. Some effects of food on the bioavailability of a drug from a drug product inclu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2" name=""/>
          <p:cNvSpPr txBox="1"/>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ay in gastric empty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imulation of bile flow</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in the pH of the GI tract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crease in splanchnic blood flow</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luminal metabolism of the drug substanc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ysical or chemical interaction of the meal with the drug product or drug substanc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4"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of some antibiotics, such as penicillin and tetracycline, is decreased with food;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s other drugs, particularly lipid-soluble drugs such as griseofulvin and metazalone, are better absorbed when given with food containing a high fat cont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6"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ce of food in the GI lumen stimulates the flow of bile. Bile contains bile acids, which are surfactants involved in the digestion and solubilization of fats, and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increases the solubility of fat-soluble drugs through micelle forma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187280" y="620640"/>
            <a:ext cx="7772400" cy="4114800"/>
          </a:xfrm>
          <a:prstGeom prst="rect">
            <a:avLst/>
          </a:prstGeom>
          <a:noFill/>
          <a:ln w="0">
            <a:noFill/>
          </a:ln>
        </p:spPr>
        <p:txBody>
          <a:bodyPr anchor="t">
            <a:normAutofit fontScale="92000"/>
          </a:bodyPr>
          <a:p>
            <a:pPr marL="315360" indent="-31536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or some basic drugs (eg, cinnarizine) with limited aqueous solubility, the presence of food in the stomach stimulates hydrochloric acid secretion, which lowers the pH, causing more rapid dissolution of the drug and better absorption. </a:t>
            </a:r>
            <a:endParaRPr b="0" lang="en-US" sz="3200" spc="-1" strike="noStrike">
              <a:solidFill>
                <a:srgbClr val="000000"/>
              </a:solidFill>
              <a:latin typeface="Arial"/>
            </a:endParaRPr>
          </a:p>
          <a:p>
            <a:pPr marL="315360" indent="-31536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of this basic drug is reduced when gastric acid secretion is re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87280" y="76500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drugs should be taken with a full glass of water to ensure that drugs will wash down the esophagu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the bioavailability of drugs is better in patients in the fasted state and with a large volume of water.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lubility of many drugs is limited, and sufficient fluid is necessary for dissolution of the dru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dell</cp:lastModifiedBy>
  <dcterms:modified xsi:type="dcterms:W3CDTF">2018-12-23T07:56:37Z</dcterms:modified>
  <cp:revision>92</cp:revision>
  <dc:subject/>
  <dc:title>Chapter 5</dc:title>
</cp:coreProperties>
</file>