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D3CE2-0EF6-4327-B17C-F67F0D5C8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2117C-24EC-46D5-A306-75B5E49B6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DAE87D-9D73-4EFE-BE38-121547FEA2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74593B-7C18-45F1-AD1A-64CB5834EF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2E878D-BFC2-4B17-B44C-87FC1C09E6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46473F-5147-4020-9F31-BB0731E7D6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7F012E-264E-4436-86EE-77BCD19DF4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FD12DF-693E-4C39-86CA-6309F4C08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ADD09F-B4D8-47ED-BB69-527E4F7342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9C6C06-8C91-41CE-A9C2-CD1EDC21C6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DF888C-507C-4AE9-A155-435BC8FCF0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3E7B24-F666-4C67-B83E-4580B6536F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4D63A-28E1-4D13-9A8D-1671605C2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33AB42-5BF3-49EB-86E8-778BC4D9E3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7AC44C-D5B0-4248-8FFB-10B66D0DB3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C14BB7-1AC0-4883-BF56-645BE473AC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5991D0-EF51-45C4-AAB3-9A636672E0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BC26EE-645A-49BA-BDD1-02CA49BCF5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51814B-AA22-43F2-AD03-DBC41845DA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B22C49-AFC7-4BEF-862D-C05B153839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516C49-E2B2-4F88-914F-C1EF461C23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130B23-F9C0-4D21-A8C3-6C6687A270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7A20054-C059-467B-A6AC-49313EB13C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D10B6-0294-440D-9CE5-3DF516831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913C83-628E-46A1-B507-BD1D9F79E02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B664AD-2DD9-4501-AEC0-4BD4B46C55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043B26-CEC1-4622-9181-CD70CBF6CF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1D2EA4-54DC-4C81-AB1A-BDA9F128DA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66EB69-6117-41C7-8AC9-52627F65A1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DF98C2-4057-4E8A-9ABA-B2250CDD66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62F8F6-F846-47FD-9649-028554BDB6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C3AD1B-FCF5-40B5-93AB-1EBDB2AA82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FFC189-41CE-4B64-940C-3F4945FD7D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3C2623-1801-4709-B1AB-7488F37512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6BBF0-B93C-4920-BE0E-5E3ADB047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49EE86-8B62-445E-8B6C-C13EA6A921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07F10A-7D0D-4C8E-BC16-F85851ACC3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EFC1C9-EABA-4D50-9374-5A1CD8CA7F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0368222-A39D-427F-AA54-335AEDACF4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1AE228-68AE-49E3-B2C8-85B5B2F58F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55C597-091D-4DA1-BAB7-009F961093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850A58-0E6E-4339-B96A-77265F18A2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6BEDC6-4C77-4E68-B133-718C738CCD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FF32E3-56CD-4B3E-A08E-91848CC0D5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2AB85F-1AE2-4CFF-A869-A5F6A76899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0E1B8-887C-4C5E-AF46-31597D3C4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1C8BD3-39CB-4B6C-986F-F532DE73D3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A591E4-5D2F-4F87-B254-155F7AC8B5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8C95E9-F6FD-48B9-88DB-EEC85031EA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F439C35-D5BC-498C-9C71-6AA96E11A92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24611D6-D924-4186-8504-38F6BCC0A4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F689CFC-9A77-44D9-9813-C10AB4E2536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5F72C46-CE51-440B-A76C-ADFFDBEBCE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4A5CD5-388B-486A-BD06-FAA4F773B8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FEE841-C5BC-4C7D-9D6B-D54CE56BF3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B30F17-A156-40E0-A76A-5DDC825D40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DF737-36DA-446E-810C-6FBFDC32B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630C01-4584-4D84-9ADB-55341951F9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5C18CC-00DF-4538-8C2D-412B2E5FDC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BA7B0A-3DE1-47D6-A2D2-82FFC19EFC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729764-D5E7-49A7-BAA2-8A18CE5393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10BF35-569D-4C6E-9138-BFED92EA91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5BD8628-2702-45B3-AE2F-1C99CA0D78F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C9F60B-588D-4281-8929-27F2830BF0E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7DAF71F-079A-4CEC-BB2D-651795D0A2F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B06AE91-AF45-44F5-97D4-EA846F773F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C3D912-2901-4CD8-82CD-830F36E943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A1E69-8465-43C3-A03A-2F7FDDF6A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0C8FF05-87D6-430E-8156-6657949ED2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5EC33D-F02F-4DDB-943A-EC12F4FD267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72660C8-BF40-4609-991D-08C2FB07B1D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D27197-6364-4505-9118-537C54332C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27B6CE-FDAD-4CEA-8118-1E520CB765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DCA2D8-9040-4CA0-BD9E-A58E44BB70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B5CDDA-E5AF-4982-A755-B408FDB7287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3B95B74-76AA-4AEA-B516-C2138F567A6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E77CAB2-3319-4B17-91F9-F031128ECEA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70E3502-8C64-4E8F-AB78-BA679B2911E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C4698-B013-44B8-B505-01E51A8F0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5C7ACDD-8418-410F-9137-5E44273EB4D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6733D9F-2B1D-4BBC-A16C-C275C13F2CB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9C25C29-BA1B-4B34-8AE4-F3B922E4A50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CD35656-EFC6-4C5B-8FA0-23DE0EE6652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C9BB995-65E3-441E-9BA9-6E896CCC71A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FA9B2C-8CEE-4CF9-835F-B90D8DD124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69BEC97-F599-4105-94DC-AB3BCF7A23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33E2BC-624C-4995-B117-74E6DB9678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5B569D5-E28D-4EA1-BF24-3A6E755864B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427B5CA-F972-4C6D-A5DB-F6A1A16B616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FA39A-6016-4750-835E-C2489BC1A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8EE85DE-87D8-4523-8663-0C5D85A809F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0C3769A-67E2-4077-8FCD-CD1A5786FBA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46A227F-4ED7-4C62-8207-6C1C04B5B2C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079D4F0-C5FE-4BAC-B329-C4C0B72D2E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D26B3E5-CA53-414E-8CC9-50066BB9C45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98F3C58-26A5-45F3-9460-FA52B2123B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BF80672-13EA-496C-8067-595B170819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0700D88-EDC5-413A-847B-B07F0DAB86D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9D9B76-590D-423C-8038-C9F1379D08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85C6DA-CEBC-437E-834F-545F5B32BA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FCC4E-DE54-4F31-ADEB-78ADEB06A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1CC8B25-CD18-49D5-931A-C516D3F7A19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3D78D9F-9BE3-4C99-A2F0-B1D5B782665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C602EC8-1D33-4214-A761-0D33E012ACE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DF61D05-B996-43F6-9592-5B7A2539220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AB23A8F-EC42-4789-B980-D6B72BE688C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8E8448D-21A0-4E57-AC2E-56E6E63AEDA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D04F740-1711-484F-A600-7755FE16EF3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30C22F2-E0E3-48DE-8717-6A85E087A64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96AC1D3-EBB9-467F-9966-6868E5AFDB0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59B831-B736-458A-9BAE-24A4D2A63E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5BF52-FEAE-4EB7-A46E-3C5145BE6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CDDE5-CE5B-4381-AC67-08311E261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DFA370B-10CD-410C-9448-79F78538425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71D24A4-B110-46C1-8AD3-0E1BE2FD32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364E888-BDB2-442F-9B44-8EF23EAFB27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E4677ED-8489-4EBE-8E86-95BF6B0CF5C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6E38582-06FF-4C89-B9BB-EFD47BC5E3E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82F459B-AB36-4385-AC64-421696655EE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E8547B5-1FD8-41A1-A434-F38FBC4B931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3B54CF1-FFFE-4C6B-A9A7-F026D711265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9541D1-A6F7-460C-85A1-9D9CE9CA14B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2B70A66-79E3-4B5C-9CA5-FAAFC861241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05610-0883-4A9D-A160-0D3939B6E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EA1BAD0-C161-44E4-A8A1-67623567F46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D9976C-BC1A-4C2F-8702-34C7187518A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5CEEC8-7400-42F0-9210-2E6D1F93D63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507DEB9-F0AB-4522-9E43-B44983EB6A0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6E418C1-98C7-47DF-9A62-AA2C3C6222A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DC0227A-61E2-4819-B623-70BBA0940B7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60BE77F-C4B5-4FE7-9F4C-43805B32495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DC120-489F-4F82-B09B-8205D008E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7D3C2-C522-4843-9D01-7BC5E71E1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BD167-D6E8-4AD0-A390-14A152158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9CEBC7-F86E-4C2B-B490-310F519606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7ADA90-BE4B-4BF0-8298-729BC75DB8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99F7AE-507F-4CBF-9E87-EC39C20E0C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202D8A-DD1A-495C-A8B8-D8F074E5A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17984-F97D-47E4-BCE8-CF132A96DB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72041-D37E-4E1B-87D1-393D2C3CF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68E973-821C-42EA-9D94-F19765B6D5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5C5E7-1EAF-4BD5-9BDF-B05F801E8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400A0-6DB8-4822-9198-D4D2A7CB1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7FD1E-9CED-4B86-BDAC-55A18039C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730EA-FB7C-4541-AC4F-40574C09D9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D35588-80E0-475D-AB47-F2A752D4F1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FF98B5-7B96-4FEC-AA24-F7B2559CA8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2DBD7A-7A39-4B7B-91DE-5D254FEB1C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9E3928-4EBE-481D-B903-01B11C484C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BF22B1-32D1-4224-9792-67E63A63E4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4CDBA-8E7D-4209-A659-970252A10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6ACEA9-1F82-4C69-94D5-309A2F118C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B0CAAD-5F81-4A2E-A5DE-638D03319B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F8911D-0D75-4B38-B396-835E3A995A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7343FC-4618-4DC5-BC53-88102587C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F938F-3453-446F-BB9B-0CFF06623A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975E6-DE20-4D34-9B45-62EF97B2E3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620022-3566-4905-8C8D-B3329518D3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C00EA6-A16E-481A-8F2F-C46620960E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BD9B2C-45C3-4EB7-8CEF-A6CE71666B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DF0EAC-A289-4786-B90F-81B2A14F83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C6C6B-B451-4F13-9D9D-D62207272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390BFF-B5D9-4EBD-A102-3D0A0277B7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CC3888-1F88-4300-9139-041449DF5E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887BBE-A1E4-4ECD-81A9-760E50871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7F7723-DE63-413F-AB64-D98B6D7E27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B268D4-BE64-4331-A9AD-A9B34BC8CE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E020AC-2C4C-47FE-A670-471D4F03EC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3B8C68-B455-48DB-AD11-9707FE9390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EB10FD-BECD-45B4-A695-54C2912635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1F2A3B-39E7-4E64-BA14-E0F30E4CA2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FF1753-E43D-44AE-8431-D1AF6CEA8C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B463C-C252-4D53-ACEC-79F7A04E6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E6BA0D-09F8-4803-8A85-F531605AF3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6BF621-BFA0-4517-919B-DE35A47FF0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FC1412-B98C-4601-8FC7-0BA0BEF6BE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B6305C-D542-430C-961B-15F1928789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725B78-EFB1-491C-B261-6A6AEAFAB8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776DFA-4F38-4206-96C8-2DE81FA568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66AFC9-BA2F-45F9-A464-B3B44BD052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C3237-677B-48EF-A4AE-4310923450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23366A-19DC-4121-AC93-455B597016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CF9333-944F-4CC6-B70A-ABD2F10F1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5E2EA-E8FC-43EE-A255-2605A818F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41B83-EC89-42A1-A1F4-4499FD3933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95212A-F956-45F9-A94C-89E904E361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C618DF-D388-4175-920A-B569EB778F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82542F-C259-4867-9380-6AAC3A9A36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CEA6E1-15AE-436B-A5B2-1D02963760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42EF53-95D5-4605-AFD2-9B824CCE29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D0DCF1-E6F1-4429-9996-913E12FBFC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D8DBB0-4884-4332-8968-9185C46F3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16BA5B-E06D-4896-9877-C46D3E1F40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C77319-1395-48B7-94F8-9A018A740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46EB9-9FB2-44E6-ADDC-D82FB85FD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F51F2-8BB9-4CDD-8564-ECF7C628CE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3AFD5B-5F66-4461-A7FC-CFD1CB4CC9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8EC0D1-46D4-406B-80C8-A163C999D0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3CC357-4001-4387-B736-1AB1044AA3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2A2008-829B-4906-BC74-0E591F6FEE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522440-C21C-4C60-83B5-7160A43FC3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BA299B-CAA9-4BBB-BF57-00E98FC5E4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835FBC-9626-4C45-A840-61B2DC7E16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EAA32F-395A-4907-859C-E66C54F64C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6BA452-03A0-4673-9D0C-D011E2F8B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A808D-B899-4FC2-BFE4-B3B3AC108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12A5B1-96FD-43DE-9271-0925DF41C4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DAD69D-6478-473A-BD89-A1495739F1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A3ABFE-F69E-4F57-AE0D-D95D669579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369E25-C4E0-434E-BAE7-C06EFB327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48C8A6-AEB2-4849-A94F-5642B8D6DF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73C21D-F487-44E1-9622-E1F06BFF4C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0310A3-C989-4CE5-B550-D65D124AAF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25FC61-3A15-4058-8EEF-0C6593B19F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25BEC2-6636-461D-B1CE-69EB3B22C3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7B59E2-5AE2-4D16-A37B-09A763D245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9306-C8A6-47C1-980A-8C2352B11F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988D-CC29-4CA6-88DB-3CF8446D1B03}"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0B06-DE53-4D1C-97F3-AA85B4A17D50}"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4564-4B34-412A-B8B0-B87EEEA93F46}"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8DD9-CB9E-4C67-A619-7C3E896A6DB5}"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5441-CB5C-4D0B-9243-4AEFA9A1D1B6}"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2"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FB77-30EC-4213-9FA3-7B0BCEAB51D8}"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3"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772C-D4AD-441C-8758-9D49F35E9E6C}"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4"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25E1-D03C-48A0-99D8-EA03FE68D54C}"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438C-FC66-47C4-B36D-9339A9F24232}"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720" y="-4680"/>
            <a:ext cx="1064520" cy="6858000"/>
            <a:chOff x="-720" y="-4680"/>
            <a:chExt cx="1064520" cy="6858000"/>
          </a:xfrm>
        </p:grpSpPr>
        <p:grpSp>
          <p:nvGrpSpPr>
            <p:cNvPr id="65" name="Group 3"/>
            <p:cNvGrpSpPr/>
            <p:nvPr/>
          </p:nvGrpSpPr>
          <p:grpSpPr>
            <a:xfrm>
              <a:off x="41400" y="-4680"/>
              <a:ext cx="1012680" cy="6857640"/>
              <a:chOff x="41400" y="-4680"/>
              <a:chExt cx="1012680" cy="6857640"/>
            </a:xfrm>
          </p:grpSpPr>
          <p:sp>
            <p:nvSpPr>
              <p:cNvPr id="66"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408D-3DAC-4391-9737-B43B25DD267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138F-BAE3-498E-ADA4-84DD7C83671E}" type="slidenum">
              <a:rPr b="0" lang="en-US" sz="1200" spc="-1" strike="noStrike">
                <a:solidFill>
                  <a:srgbClr val="000000"/>
                </a:solidFill>
                <a:latin typeface="Garamond"/>
                <a:ea typeface="Angsana New"/>
              </a:rPr>
              <a:t>&lt;number&gt;</a:t>
            </a:fld>
            <a:endParaRPr b="0" lang="en-US" sz="1200" spc="-1" strike="noStrike">
              <a:solidFill>
                <a:srgbClr val="000000"/>
              </a:solidFill>
              <a:latin typeface="Times New Roman"/>
            </a:endParaRPr>
          </a:p>
        </p:txBody>
      </p:sp>
      <p:sp>
        <p:nvSpPr>
          <p:cNvPr id="13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2A23-9AE4-4F4B-A7A2-FC399A83DB80}" type="slidenum">
              <a:rPr b="0" lang="ar-SA"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2"/>
          <p:cNvGrpSpPr/>
          <p:nvPr/>
        </p:nvGrpSpPr>
        <p:grpSpPr>
          <a:xfrm>
            <a:off x="-3600" y="2438280"/>
            <a:ext cx="9147240" cy="1063800"/>
            <a:chOff x="-3600" y="2438280"/>
            <a:chExt cx="9147240" cy="1063800"/>
          </a:xfrm>
        </p:grpSpPr>
        <p:grpSp>
          <p:nvGrpSpPr>
            <p:cNvPr id="213" name="Group 3"/>
            <p:cNvGrpSpPr/>
            <p:nvPr/>
          </p:nvGrpSpPr>
          <p:grpSpPr>
            <a:xfrm>
              <a:off x="-3600" y="2479680"/>
              <a:ext cx="9147240" cy="1012320"/>
              <a:chOff x="-3600" y="2479680"/>
              <a:chExt cx="9147240" cy="1012320"/>
            </a:xfrm>
          </p:grpSpPr>
          <p:sp>
            <p:nvSpPr>
              <p:cNvPr id="214"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3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7" name="PlaceHolder 3"/>
          <p:cNvSpPr>
            <a:spLocks noGrp="1"/>
          </p:cNvSpPr>
          <p:nvPr>
            <p:ph type="dt" idx="13"/>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D4F9-C20A-4459-BF13-494456BF721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Group 2"/>
          <p:cNvGrpSpPr/>
          <p:nvPr/>
        </p:nvGrpSpPr>
        <p:grpSpPr>
          <a:xfrm>
            <a:off x="-3600" y="2438280"/>
            <a:ext cx="9147240" cy="1063800"/>
            <a:chOff x="-3600" y="2438280"/>
            <a:chExt cx="9147240" cy="1063800"/>
          </a:xfrm>
        </p:grpSpPr>
        <p:grpSp>
          <p:nvGrpSpPr>
            <p:cNvPr id="277" name="Group 3"/>
            <p:cNvGrpSpPr/>
            <p:nvPr/>
          </p:nvGrpSpPr>
          <p:grpSpPr>
            <a:xfrm>
              <a:off x="-3600" y="2479680"/>
              <a:ext cx="9147240" cy="1012320"/>
              <a:chOff x="-3600" y="2479680"/>
              <a:chExt cx="9147240" cy="1012320"/>
            </a:xfrm>
          </p:grpSpPr>
          <p:sp>
            <p:nvSpPr>
              <p:cNvPr id="278"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0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1" name="PlaceHolder 3"/>
          <p:cNvSpPr>
            <a:spLocks noGrp="1"/>
          </p:cNvSpPr>
          <p:nvPr>
            <p:ph type="dt" idx="16"/>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DA63-CD46-4112-99E5-E2CD2B6CB0D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4"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4"/>
          <p:cNvSpPr>
            <a:spLocks noGrp="1"/>
          </p:cNvSpPr>
          <p:nvPr>
            <p:ph type="ftr" idx="20"/>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D529-170F-494A-9C84-68ADCBF43308}" type="slidenum">
              <a:rPr b="0" lang="en-US" sz="1200" spc="-1" strike="noStrike">
                <a:solidFill>
                  <a:srgbClr val="000000"/>
                </a:solidFill>
                <a:latin typeface="Garamond"/>
                <a:ea typeface="Angsana Ne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903F-4CA1-4E2B-8F27-34EC064B5B14}"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9267-1FA1-4CEE-820A-24F4D798A349}"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847800"/>
            <a:ext cx="7772400" cy="830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Sans"/>
              </a:rPr>
              <a:t>Biopharmacy</a:t>
            </a:r>
            <a:endParaRPr b="0" lang="en-US" sz="4800" spc="-1" strike="noStrike">
              <a:solidFill>
                <a:srgbClr val="003366"/>
              </a:solidFill>
              <a:latin typeface="Times New Roman"/>
            </a:endParaRPr>
          </a:p>
        </p:txBody>
      </p:sp>
      <p:sp>
        <p:nvSpPr>
          <p:cNvPr id="835" name="PlaceHolder 2"/>
          <p:cNvSpPr>
            <a:spLocks noGrp="1"/>
          </p:cNvSpPr>
          <p:nvPr>
            <p:ph type="subTitle"/>
          </p:nvPr>
        </p:nvSpPr>
        <p:spPr>
          <a:xfrm>
            <a:off x="684360" y="3500280"/>
            <a:ext cx="7696080" cy="23623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drug absorption; mechanisms of absorption; physicochemical factors relate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Picture 2" descr=""/>
          <p:cNvPicPr/>
          <p:nvPr/>
        </p:nvPicPr>
        <p:blipFill>
          <a:blip r:embed="rId1"/>
          <a:stretch/>
        </p:blipFill>
        <p:spPr>
          <a:xfrm>
            <a:off x="1116000" y="907920"/>
            <a:ext cx="7632720" cy="532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9" name="Picture 2" descr=""/>
          <p:cNvPicPr/>
          <p:nvPr/>
        </p:nvPicPr>
        <p:blipFill>
          <a:blip r:embed="rId1"/>
          <a:stretch/>
        </p:blipFill>
        <p:spPr>
          <a:xfrm>
            <a:off x="1042920" y="765000"/>
            <a:ext cx="8096400" cy="532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Picture 2" descr=""/>
          <p:cNvPicPr/>
          <p:nvPr/>
        </p:nvPicPr>
        <p:blipFill>
          <a:blip r:embed="rId1"/>
          <a:stretch/>
        </p:blipFill>
        <p:spPr>
          <a:xfrm>
            <a:off x="755640" y="1093680"/>
            <a:ext cx="8388360" cy="506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Picture 2" descr=""/>
          <p:cNvPicPr/>
          <p:nvPr/>
        </p:nvPicPr>
        <p:blipFill>
          <a:blip r:embed="rId1"/>
          <a:stretch/>
        </p:blipFill>
        <p:spPr>
          <a:xfrm>
            <a:off x="1332000" y="1052640"/>
            <a:ext cx="7343640" cy="386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2" name="Picture 2" descr=""/>
          <p:cNvPicPr/>
          <p:nvPr/>
        </p:nvPicPr>
        <p:blipFill>
          <a:blip r:embed="rId1"/>
          <a:stretch/>
        </p:blipFill>
        <p:spPr>
          <a:xfrm>
            <a:off x="971640" y="1417680"/>
            <a:ext cx="817236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2" descr=""/>
          <p:cNvPicPr/>
          <p:nvPr/>
        </p:nvPicPr>
        <p:blipFill>
          <a:blip r:embed="rId1"/>
          <a:stretch/>
        </p:blipFill>
        <p:spPr>
          <a:xfrm>
            <a:off x="971640" y="765000"/>
            <a:ext cx="7777080" cy="554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4" name="Picture 2" descr=""/>
          <p:cNvPicPr/>
          <p:nvPr/>
        </p:nvPicPr>
        <p:blipFill>
          <a:blip r:embed="rId1"/>
          <a:stretch/>
        </p:blipFill>
        <p:spPr>
          <a:xfrm>
            <a:off x="826920" y="679320"/>
            <a:ext cx="7859880" cy="589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5" name="Picture 2" descr=""/>
          <p:cNvPicPr/>
          <p:nvPr/>
        </p:nvPicPr>
        <p:blipFill>
          <a:blip r:embed="rId1"/>
          <a:stretch/>
        </p:blipFill>
        <p:spPr>
          <a:xfrm>
            <a:off x="2286000" y="191304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Arial"/>
            </a:endParaRPr>
          </a:p>
        </p:txBody>
      </p:sp>
      <p:pic>
        <p:nvPicPr>
          <p:cNvPr id="857" name="Picture 3" descr=""/>
          <p:cNvPicPr/>
          <p:nvPr/>
        </p:nvPicPr>
        <p:blipFill>
          <a:blip r:embed="rId1"/>
          <a:stretch/>
        </p:blipFill>
        <p:spPr>
          <a:xfrm>
            <a:off x="457200" y="304920"/>
            <a:ext cx="8229600" cy="624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692360" y="2492280"/>
            <a:ext cx="619272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ank you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6" name="Picture 2" descr=""/>
          <p:cNvPicPr/>
          <p:nvPr/>
        </p:nvPicPr>
        <p:blipFill>
          <a:blip r:embed="rId1"/>
          <a:stretch/>
        </p:blipFill>
        <p:spPr>
          <a:xfrm>
            <a:off x="1258920" y="189000"/>
            <a:ext cx="7416720" cy="642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مستطيل 1"/>
          <p:cNvSpPr/>
          <p:nvPr/>
        </p:nvSpPr>
        <p:spPr>
          <a:xfrm>
            <a:off x="1042920" y="692280"/>
            <a:ext cx="756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olution and Solubility</a:t>
            </a:r>
            <a:endParaRPr b="0" lang="en-US" sz="2400" spc="-1" strike="noStrike">
              <a:solidFill>
                <a:srgbClr val="000000"/>
              </a:solidFill>
              <a:latin typeface="Times New Roman"/>
            </a:endParaRPr>
          </a:p>
        </p:txBody>
      </p:sp>
      <p:sp>
        <p:nvSpPr>
          <p:cNvPr id="838" name="مستطيل 2"/>
          <p:cNvSpPr/>
          <p:nvPr/>
        </p:nvSpPr>
        <p:spPr>
          <a:xfrm>
            <a:off x="1042920" y="172080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olution the process by which a solid drug substance become dissolved in a solv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bility is the mass of solute that dissolves in specific volume of solvent at a given temperature ( 1gm NaCl dissolve in 2.786 ml of water at 25 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مستطيل 1"/>
          <p:cNvSpPr/>
          <p:nvPr/>
        </p:nvSpPr>
        <p:spPr>
          <a:xfrm>
            <a:off x="1042920" y="1351080"/>
            <a:ext cx="799308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biological systems, drug dissolution in an aqueous medium is an important prior condition for systemic absorption.</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te at which drugs with poor aqueous solubility dissolve from an intact or disintegrated dosage form in the GIT (dissolution rate) often controls the rate of systemic absorption of the dru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0" name="Picture 2" descr=""/>
          <p:cNvPicPr/>
          <p:nvPr/>
        </p:nvPicPr>
        <p:blipFill>
          <a:blip r:embed="rId1"/>
          <a:stretch/>
        </p:blipFill>
        <p:spPr>
          <a:xfrm>
            <a:off x="900000" y="757080"/>
            <a:ext cx="8136000" cy="560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مستطيل 1"/>
          <p:cNvSpPr/>
          <p:nvPr/>
        </p:nvSpPr>
        <p:spPr>
          <a:xfrm>
            <a:off x="1042920" y="13510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eps dissolution include the process of drug dissolution at the surface of the solid particle, thus forming a saturated solution around the partic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solved drug in the saturated solution known as stagnant layer , diffuses to the bulk of solvent from region of high concentration to region of low concent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مستطيل 1"/>
          <p:cNvSpPr/>
          <p:nvPr/>
        </p:nvSpPr>
        <p:spPr>
          <a:xfrm>
            <a:off x="900000" y="333360"/>
            <a:ext cx="806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verall rate of drug dissolution may be described by Noyes-Whitney equation:</a:t>
            </a:r>
            <a:endParaRPr b="0" lang="en-US" sz="2400" spc="-1" strike="noStrike">
              <a:solidFill>
                <a:srgbClr val="000000"/>
              </a:solidFill>
              <a:latin typeface="Times New Roman"/>
            </a:endParaRPr>
          </a:p>
        </p:txBody>
      </p:sp>
      <p:pic>
        <p:nvPicPr>
          <p:cNvPr id="843" name="Picture 2" descr=""/>
          <p:cNvPicPr/>
          <p:nvPr/>
        </p:nvPicPr>
        <p:blipFill>
          <a:blip r:embed="rId1"/>
          <a:stretch/>
        </p:blipFill>
        <p:spPr>
          <a:xfrm>
            <a:off x="2627280" y="1773360"/>
            <a:ext cx="3571920" cy="780840"/>
          </a:xfrm>
          <a:prstGeom prst="rect">
            <a:avLst/>
          </a:prstGeom>
          <a:ln w="0">
            <a:noFill/>
          </a:ln>
        </p:spPr>
      </p:pic>
      <p:pic>
        <p:nvPicPr>
          <p:cNvPr id="844" name="Picture 3" descr=""/>
          <p:cNvPicPr/>
          <p:nvPr/>
        </p:nvPicPr>
        <p:blipFill>
          <a:blip r:embed="rId2"/>
          <a:stretch/>
        </p:blipFill>
        <p:spPr>
          <a:xfrm>
            <a:off x="900000" y="3068640"/>
            <a:ext cx="8244000" cy="295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مستطيل 1"/>
          <p:cNvSpPr/>
          <p:nvPr/>
        </p:nvSpPr>
        <p:spPr>
          <a:xfrm>
            <a:off x="900000" y="333360"/>
            <a:ext cx="813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 Effecting Drug Absorption in the GIT:</a:t>
            </a:r>
            <a:endParaRPr b="0" lang="en-US" sz="2400" spc="-1" strike="noStrike">
              <a:solidFill>
                <a:srgbClr val="000000"/>
              </a:solidFill>
              <a:latin typeface="Times New Roman"/>
            </a:endParaRPr>
          </a:p>
        </p:txBody>
      </p:sp>
      <p:sp>
        <p:nvSpPr>
          <p:cNvPr id="846" name="مستطيل 2"/>
          <p:cNvSpPr/>
          <p:nvPr/>
        </p:nvSpPr>
        <p:spPr>
          <a:xfrm>
            <a:off x="1042920" y="1536840"/>
            <a:ext cx="7993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ic drug absorption from GIT or from any other extravascular site is dependent 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 physicochemical properties of the dru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harmaceutical and formulatory fac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natomy and physiology of absorption site (G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7" name="Picture 2" descr=""/>
          <p:cNvPicPr/>
          <p:nvPr/>
        </p:nvPicPr>
        <p:blipFill>
          <a:blip r:embed="rId1"/>
          <a:stretch/>
        </p:blipFill>
        <p:spPr>
          <a:xfrm>
            <a:off x="1116000" y="646200"/>
            <a:ext cx="7704000" cy="596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05:02:06Z</dcterms:created>
  <dc:creator>Nelson</dc:creator>
  <dc:description/>
  <dc:language>en-US</dc:language>
  <cp:lastModifiedBy>CHANGE_ME</cp:lastModifiedBy>
  <dcterms:modified xsi:type="dcterms:W3CDTF">2012-11-05T06:39:05Z</dcterms:modified>
  <cp:revision>82</cp:revision>
  <dc:subject/>
  <dc:title>Chapter 5</dc:title>
</cp:coreProperties>
</file>