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16292-B6C6-4787-A090-9BFFE7768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5B9D7-86A3-4E5E-AF02-C5F3F6EB2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3DC3A9-2FA0-490E-86EE-4AD1339A1B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90112E-9D8E-46C4-8178-31220F8995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576A66-C6B2-4540-BA1F-A278BC21AD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924978-F11A-4A6A-84B8-4332AE6FB2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52E871-C862-4FE3-8E50-B21A655FFA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557C7F-77FA-4D56-BBED-CE5315AA66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B818C6-1AFC-47C1-BDC7-E200A89EC1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C03A1E-3889-46B1-A86D-3F0AB96AA7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833218-0191-489F-ACCA-BB7454D7E3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EB1103-78BD-47E6-A452-7F2D0E6A5A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0EF8F-7D9F-4197-860F-1AA60220F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0CF31A-F432-43E0-A7C8-7F346EE428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6078E1-80FB-478C-89DC-EC228265F8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14339F-3742-4C96-9991-AA0602CCF6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A3C652-A08A-47A3-8B97-2FB6FF0401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ED82D3-9072-40F1-A5A4-D749CE2A49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BD9072-6FC3-4B70-907B-02014D29C4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E86491-AF9D-49A5-AD26-5DD89D1788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D72899-A603-4D45-B5BE-8D469DB1AF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8DFCF9-5468-40F0-AF7E-BCAAAEEF78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4C0B11-F86F-4E0E-A4B3-9E8C5FE572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94D74-F6E7-4F45-8547-43F986286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A8AC5C-9D86-49DA-AABF-A534F8E433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D68064-6770-408A-9707-D20B158BDC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E67D83-A0A8-4AE6-A76F-9393ABE0E3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51592F-AF9C-49F6-9435-186DB7EA12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9AA53A-6FB8-4CE1-BE6C-EFF22A4FA1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B0E5C6-8F43-4970-9833-ABB896DAAF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FF9D4A-7A86-4EEA-A94A-455C404122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2AEEFC-ED81-4FE6-B0FA-E5054BB8C1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198A52-6147-42E7-AE6C-9E7AA62492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848C85-CDF5-46C3-843F-B4606B9CE7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5DB6E-8522-46A1-B96C-DA4D59608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E2B23D-0F15-4D09-BC38-27365FD385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239125-DAA9-4EF9-AE46-2BEAB9752B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033B6A-BA3F-4035-A287-8016919B01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18F6EB3-3F33-48DB-954F-24645173B8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52B37B-34A3-4009-9A33-6801C54707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14A9A8-8178-471E-A0F5-20A8316CAA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A6F7D7-73BF-4F63-AC60-A8BA88AE68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C57A6E-369F-4CC2-8CF0-8E94BCF8F7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9729BE-B5C6-4FF2-BE85-CB9616A3D7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6F6EC5-7623-4E23-B88D-2C3B399DBB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D1158-519C-4E5C-9D4F-6D221CBE0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244F25-3E5C-4991-A3BD-3FCE4C8397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9CAA2E-E3E7-4744-BCBC-02090EC6ED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914FD3-1E8E-4D63-A73D-D9433C8C28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D707D0-5FA0-414D-B7EF-E2486702BC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0093054-FECA-45CF-8581-0F165B1FC0A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2929A56-BF15-4D97-8220-FF54757BFD1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33049BA-B8B6-4581-9DBE-54E6A55D84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9BD386-AA46-4486-9152-4CC5A3DC70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8DB2A8-55E1-4B5B-9D6F-EF9395AC55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0DAF93-9AE3-47E9-BFAC-7802252648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FBCCF-D690-4588-A3C2-03FA8A607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8E9F142-D09D-4021-87F7-0490BDA641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BDD38A-92FA-43B3-8A42-34DE5181C8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680E47-1218-42C0-A90D-2938E89253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056D70-42F5-47E3-9A87-0C92B2FA9D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A07898-F3E1-4005-96F3-3EBF0D9B76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4FCF04-D604-4261-8D28-E3FC36AA129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C665044-A78E-43A2-ACC9-F43BB30230E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0B769F3-2817-481F-9B65-45C5355BB43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F65DFF-2B4C-4518-9886-1822F09E6C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9A9198-A683-4EEA-97E0-950C137B24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65114-EA22-4F5E-9477-AA4BE1207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910F5B-895D-4A38-9F6E-D32194E8277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BC5C36-1142-4C87-AEFE-7BB25723BA8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7F26C3-EA1F-4A29-8DFC-437DD01C57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547BDF-D95C-4F92-887B-D3CD4BA225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4B8270-B783-4735-8B60-94A908F8BD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8890C9-D70A-483E-A806-DCE4C4D69A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43FC39-6D50-43D6-A7E1-872E0A03D2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5DDAB06-C844-4757-96CA-C9C061460C1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257719C-7804-4EE8-94D5-C1249E6AD6B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0A8F865-BD82-4B92-BC0E-CFC4186C12F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ABE68-FD65-44D3-8A8E-7CABDE6C5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6C34A5-FA0D-442F-8EA2-9DC0987381D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1D8B879-F961-4F30-AC39-3BFF3A39DAD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31130AC-A3AF-45F4-B30D-83F92C324B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CA942A9-3445-4937-B026-F336071D743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3A28F7-7138-45DC-A59F-4EBCB2045AD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B7962E-294D-46B7-947F-6DE72303FC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AFA81D-C383-49EF-BCED-4403F3D79A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8CD1A4-514A-4961-968E-EC13DA56DC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EACD75E-B261-4418-85A5-8B879B3D3C2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8547C25-6777-4660-B977-CC0320E466E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69454-3FFF-4E45-8BD0-D911DEA22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9C6474C-C6E9-4B71-A2F1-A47285B080F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2443F8E-036A-4737-A627-892C6DA74CC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A03AE6D-A51D-4076-B1F0-42F40B7D7EF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B6208F-73ED-44BD-9AE9-3A51AB5B0C3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BE61A4C-5AC9-431C-9618-60347A35E1C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0797191-2E09-4EE6-B208-70B2E3B2749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A1A3B3A-F6FD-491C-9978-6D32F7CB396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4A67DE-DA6C-43EA-A5BA-CF035295F4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3F5F178-649E-4CB6-ABDD-B94E240D8E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39694C-3CC6-4E84-8210-4AAD68C003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04B4E-6AA7-4F61-9A34-219E26A53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62706AD-670F-41C1-9180-224921E09D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E1651A1-DD95-437A-BA8D-AB2C7A9167F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EEFED2A-2A2A-4AE4-8BFC-A21EDB307A4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270E2CF-CE8A-4C64-86DE-9EBC69EAD5D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297514D-05A5-4222-B5D1-744B0CFA499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AD3DB2F-D022-40B2-A1A0-367800ACD11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FC2A262-7FF6-4AA5-86CE-21B6B65A45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869BE2-1136-4AC8-B80C-E99644F643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2BF49E7-A678-499B-92B9-6D1809A4E74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2AFAF2F-E8DF-4DE4-80C9-03EBA917D8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580F9-D5C1-490F-9232-A621956E1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640D0-01A4-4E01-98D8-95F85BAFD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06CA2B-D949-41A5-A3C7-E5C90B51D6B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C58001-E2CF-4C68-BC00-C77F405E3F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A1C55EE-98A4-4513-ADE4-BCA32FC03B0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9AC93C0-778D-4AA3-9590-DBC0F4AEB56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AB6F528-38BF-4C6A-BB86-71335074A89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C3B31B6-5F79-41C4-9624-DDEB89D60AE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F1F76EB-CF87-44EB-A684-E9AEC7C5669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5526497-8FCA-43FF-8831-59351DBAA54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02BBBAD-788F-4A96-8666-5F0FE007AA0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E321E4D-4E06-4DEA-974B-EC5E1759F35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D40FC-11D9-4FB1-830C-55E3E6EFD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29F17CE-6690-4199-ADAA-BA7A0D2CE7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B3242F-A905-4377-83A9-FD216B6AED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430CEE9-7F98-47A7-A519-3062A05AC5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943F0E-7ED0-4786-B758-BE9F2BA9F8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B55AF0A-A633-4025-88AA-986AA38496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8ECB43E-785B-4B6A-A5C9-F5A85C7C0EA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4B76800-DAE7-495D-853C-D11FCB50434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EBBE3-F41F-492A-B13B-62EB45888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8FA2E-6E3F-45E6-AA5A-E7F3F8C7C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CB007-BB17-4CA9-A2A3-EDE408292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D10994-2270-499C-8B00-771270A4B6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98E81-9E8A-4169-A0C7-DDEA123516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F4200-9475-4EBF-BEC2-AB2ED50BA9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E915CD-8BC7-4729-A584-B5217F63F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8B60F4-3706-49F8-8172-9D55D479D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AA6F6-D760-48AA-8FE9-70EFE8D43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0A1B97-1D9B-4680-B170-69400A4BB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B89FE-D38C-4636-AFF4-C208D7E9A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EC265-E6D1-40C7-9F95-765950C17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F6135-2212-4A54-B3DE-915C8F658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C239EC-8A7F-4D7B-88AE-2F9425BA4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E8D649-B9BF-4E75-87DE-208AA54B37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E89D3C-4011-406C-B6F6-AAAD205F49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78AC68-E0FB-4BAB-B4DD-953BE5A8B4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0B958D-55E6-47BE-8D02-D76D4E18D1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D03733-5123-4FD3-BACE-2912A23DF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104FB-9CD9-4FCB-B093-E150F95C9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29DDB-56CD-4CF5-A296-ED21EF77D3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F75E0-3A31-4DCB-A4FD-B6A949D38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198949-4D1D-402D-8936-7D44BEB1F9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B956C-E283-4260-A46F-11E6EBE6D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9BCA5D-2B3B-4466-B1D0-D0C7DADF9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5D4EC-1E26-475E-AAA6-4FB99F4DDD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E77CE-9E94-4AB5-AA01-A3F63AEE4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9C6BC5-6200-47DA-BEC3-28E1B18C8D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A0BBC5-0C48-4C00-A384-BC5FB3C671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D3A146-EB53-4385-8D7C-DE3E25C879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FAC66-711C-4878-B22A-9390B048C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0FD2EB-CE27-4BE6-AD0D-29079DF33D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C6130B-DE7E-4A3D-9815-8BF18AE66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341CE6-9A5F-42FD-9758-BF1AB9F783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F2422A-6EBE-41AB-8947-0EB86EE238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3D320D-65FE-4DEB-ACDA-C7A7BFF90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217B46-4F89-48F2-8519-77C9308EF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B86FDA-D9DE-446E-8EFD-F281F23A00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169CB0-8CF7-4602-BF17-C36791A4A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B8B1B8-88C8-4158-BBE8-5A0241EC4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8A2BE6-8249-4D01-A4D1-DE710AB64D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E6158-6152-4BC9-B092-C5DDD5350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6526AB-4891-44D5-AA19-2D840326DB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50E748-C233-441E-803D-82A96030C9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40B7E-5D76-4870-A895-EA35765328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8AFA55-B898-423D-AA5C-CF2C8DAA11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44ADA1-FE60-4909-A58A-1F95309F27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CF675A-DAB4-4903-9CFD-D4DBD0053E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9EBF25-A798-45E8-9B61-D219AE3B1B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F1706A-5B99-457D-9C3A-EDC7E79D5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561D83-52ED-47EA-A8C5-78AA46DDF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336EA-D3DD-48FD-9809-BD5971C26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E3F1-A7A5-44F8-A358-07213C02F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E0A042-D027-4FED-9C35-80D94D293A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50C765-DA8B-4452-8014-D87293A265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3421F0-1294-4589-A6C2-9A32BC6A40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2593BD-3CFF-466B-B649-438E269435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A7E20-3942-4178-85F2-83FEE89F7F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6CCB3A-05DF-46CA-8846-338D57C7E9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E20AC3-5B2C-4627-94D2-FE2937879B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F319F1-CB57-4911-9845-492E5765CC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D97BEE-1471-4B00-8C23-CEEBDD18E3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1FC0D-D9E9-4348-B875-E657599894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A0165-0CA4-4C33-85DB-D7E766E82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1A9A2B-826A-4D5D-8A78-FC58240A79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57BE23-DC3D-47FC-9922-309F3E427C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194DB6-6188-41CC-A6BE-66A8B1AAB1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10D8EC-D1B2-46D0-8CCD-777F907D4E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B915F3-7393-4015-A7C7-F84726D155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50ABAC-9D26-4C02-B404-27C97F781B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CB679-C83F-4D57-9128-C65A6AA55E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B93367-1C54-4E7B-BAFC-E2BCD22E62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61B982-A867-402C-A41D-697283B3DB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3BA575-0232-4107-A1D3-335DDB60D3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A6D79-A4FE-4448-8BEC-BC457453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F8D80-BFDF-40F7-BC40-897F7A55F9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36A950-6827-4AFF-A530-5C2B196A4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ABD35-7D00-47FF-9E09-AEF853B33E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5B009-CDF9-4F19-AC20-7E382FA4C7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5711CB-B85C-431B-AEB7-8C3AA7FB9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23FE24-8C5E-4F30-AA0A-6B6F0FF3AC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1BC551-8748-4891-8B0E-C4CDE4325B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97B79A-E98D-40BD-9CD1-076DA1FC53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8EC2F1-4C61-4B10-8605-201C040886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59FA05-1BDE-4909-AAC8-FFBF28E527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7236-A0F7-4B78-8CE8-864A120BBD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501B-E06D-4C7A-BD06-A0E93D63420B}"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3241-EBDF-4071-BF4C-D26EE6A2E9B9}"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663F-6D46-4154-9049-87467BD45913}"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8869-53B4-44A0-89C1-A32CDA7C16E8}"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5038-22FA-4BB7-A1A4-ACE44318ACDF}"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2"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53D4-44B7-42FB-86B8-C0619877825A}"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3"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2208-DF04-4F12-80E7-B368BB1C2B41}"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4"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3A20-5BE5-48B6-9FE1-DE13F9822709}"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5AE7-94CC-4741-96FD-B42DC4C4FA70}"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720" y="-4680"/>
            <a:ext cx="1064520" cy="6858000"/>
            <a:chOff x="-720" y="-4680"/>
            <a:chExt cx="1064520" cy="6858000"/>
          </a:xfrm>
        </p:grpSpPr>
        <p:grpSp>
          <p:nvGrpSpPr>
            <p:cNvPr id="65" name="Group 3"/>
            <p:cNvGrpSpPr/>
            <p:nvPr/>
          </p:nvGrpSpPr>
          <p:grpSpPr>
            <a:xfrm>
              <a:off x="41400" y="-4680"/>
              <a:ext cx="1012680" cy="6857640"/>
              <a:chOff x="41400" y="-4680"/>
              <a:chExt cx="1012680" cy="6857640"/>
            </a:xfrm>
          </p:grpSpPr>
          <p:sp>
            <p:nvSpPr>
              <p:cNvPr id="66"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008C-D831-40D6-8F99-03A085FB8E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40C4-E02E-4244-B36F-49026D2613B2}" type="slidenum">
              <a:rPr b="0" lang="en-US" sz="1200" spc="-1" strike="noStrike">
                <a:solidFill>
                  <a:srgbClr val="000000"/>
                </a:solidFill>
                <a:latin typeface="Garamond"/>
                <a:ea typeface="Angsana New"/>
              </a:rPr>
              <a:t>&lt;number&gt;</a:t>
            </a:fld>
            <a:endParaRPr b="0" lang="en-US" sz="1200" spc="-1" strike="noStrike">
              <a:solidFill>
                <a:srgbClr val="000000"/>
              </a:solidFill>
              <a:latin typeface="Times New Roman"/>
            </a:endParaRPr>
          </a:p>
        </p:txBody>
      </p:sp>
      <p:sp>
        <p:nvSpPr>
          <p:cNvPr id="13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6EAF-1D0F-4571-A471-4862DAF6622A}" type="slidenum">
              <a:rPr b="0" lang="ar-SA"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2"/>
          <p:cNvGrpSpPr/>
          <p:nvPr/>
        </p:nvGrpSpPr>
        <p:grpSpPr>
          <a:xfrm>
            <a:off x="-3600" y="2438280"/>
            <a:ext cx="9147240" cy="1063800"/>
            <a:chOff x="-3600" y="2438280"/>
            <a:chExt cx="9147240" cy="1063800"/>
          </a:xfrm>
        </p:grpSpPr>
        <p:grpSp>
          <p:nvGrpSpPr>
            <p:cNvPr id="213" name="Group 3"/>
            <p:cNvGrpSpPr/>
            <p:nvPr/>
          </p:nvGrpSpPr>
          <p:grpSpPr>
            <a:xfrm>
              <a:off x="-3600" y="2479680"/>
              <a:ext cx="9147240" cy="1012320"/>
              <a:chOff x="-3600" y="2479680"/>
              <a:chExt cx="9147240" cy="1012320"/>
            </a:xfrm>
          </p:grpSpPr>
          <p:sp>
            <p:nvSpPr>
              <p:cNvPr id="214"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3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7" name="PlaceHolder 3"/>
          <p:cNvSpPr>
            <a:spLocks noGrp="1"/>
          </p:cNvSpPr>
          <p:nvPr>
            <p:ph type="dt" idx="13"/>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4609-C93F-42F6-84B1-4B32DB48A8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Group 2"/>
          <p:cNvGrpSpPr/>
          <p:nvPr/>
        </p:nvGrpSpPr>
        <p:grpSpPr>
          <a:xfrm>
            <a:off x="-3600" y="2438280"/>
            <a:ext cx="9147240" cy="1063800"/>
            <a:chOff x="-3600" y="2438280"/>
            <a:chExt cx="9147240" cy="1063800"/>
          </a:xfrm>
        </p:grpSpPr>
        <p:grpSp>
          <p:nvGrpSpPr>
            <p:cNvPr id="277" name="Group 3"/>
            <p:cNvGrpSpPr/>
            <p:nvPr/>
          </p:nvGrpSpPr>
          <p:grpSpPr>
            <a:xfrm>
              <a:off x="-3600" y="2479680"/>
              <a:ext cx="9147240" cy="1012320"/>
              <a:chOff x="-3600" y="2479680"/>
              <a:chExt cx="9147240" cy="1012320"/>
            </a:xfrm>
          </p:grpSpPr>
          <p:sp>
            <p:nvSpPr>
              <p:cNvPr id="278"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0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1" name="PlaceHolder 3"/>
          <p:cNvSpPr>
            <a:spLocks noGrp="1"/>
          </p:cNvSpPr>
          <p:nvPr>
            <p:ph type="dt" idx="16"/>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42F9-50B0-4221-96DE-7E886A0A3C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4"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4"/>
          <p:cNvSpPr>
            <a:spLocks noGrp="1"/>
          </p:cNvSpPr>
          <p:nvPr>
            <p:ph type="ftr" idx="20"/>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A2BB-2684-4C32-B501-81401539D5C9}" type="slidenum">
              <a:rPr b="0" lang="en-US" sz="1200" spc="-1" strike="noStrike">
                <a:solidFill>
                  <a:srgbClr val="000000"/>
                </a:solidFill>
                <a:latin typeface="Garamond"/>
                <a:ea typeface="Angsana Ne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BD09-CE68-4A19-99F4-388960CD6B58}"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ABA2-7A7F-4E83-8813-4EE0DFB17155}"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847800"/>
            <a:ext cx="7772400" cy="830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Sans"/>
              </a:rPr>
              <a:t>Biopharmacy</a:t>
            </a:r>
            <a:endParaRPr b="0" lang="en-US" sz="4800" spc="-1" strike="noStrike">
              <a:solidFill>
                <a:srgbClr val="003366"/>
              </a:solidFill>
              <a:latin typeface="Times New Roman"/>
            </a:endParaRPr>
          </a:p>
        </p:txBody>
      </p:sp>
      <p:sp>
        <p:nvSpPr>
          <p:cNvPr id="835" name="PlaceHolder 2"/>
          <p:cNvSpPr>
            <a:spLocks noGrp="1"/>
          </p:cNvSpPr>
          <p:nvPr>
            <p:ph type="subTitle"/>
          </p:nvPr>
        </p:nvSpPr>
        <p:spPr>
          <a:xfrm>
            <a:off x="684360" y="3500280"/>
            <a:ext cx="7696080" cy="23623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drug absorption; mechanisms of absorption; physicochemical factors relate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Picture 2" descr=""/>
          <p:cNvPicPr/>
          <p:nvPr/>
        </p:nvPicPr>
        <p:blipFill>
          <a:blip r:embed="rId1"/>
          <a:stretch/>
        </p:blipFill>
        <p:spPr>
          <a:xfrm>
            <a:off x="1116000" y="907920"/>
            <a:ext cx="7632720" cy="532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9" name="Picture 2" descr=""/>
          <p:cNvPicPr/>
          <p:nvPr/>
        </p:nvPicPr>
        <p:blipFill>
          <a:blip r:embed="rId1"/>
          <a:stretch/>
        </p:blipFill>
        <p:spPr>
          <a:xfrm>
            <a:off x="1042920" y="765000"/>
            <a:ext cx="8096400" cy="532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2" descr=""/>
          <p:cNvPicPr/>
          <p:nvPr/>
        </p:nvPicPr>
        <p:blipFill>
          <a:blip r:embed="rId1"/>
          <a:stretch/>
        </p:blipFill>
        <p:spPr>
          <a:xfrm>
            <a:off x="755640" y="1093680"/>
            <a:ext cx="8388360" cy="506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Picture 2" descr=""/>
          <p:cNvPicPr/>
          <p:nvPr/>
        </p:nvPicPr>
        <p:blipFill>
          <a:blip r:embed="rId1"/>
          <a:stretch/>
        </p:blipFill>
        <p:spPr>
          <a:xfrm>
            <a:off x="1332000" y="1052640"/>
            <a:ext cx="7343640" cy="386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2" name="Picture 2" descr=""/>
          <p:cNvPicPr/>
          <p:nvPr/>
        </p:nvPicPr>
        <p:blipFill>
          <a:blip r:embed="rId1"/>
          <a:stretch/>
        </p:blipFill>
        <p:spPr>
          <a:xfrm>
            <a:off x="971640" y="1417680"/>
            <a:ext cx="817236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2" descr=""/>
          <p:cNvPicPr/>
          <p:nvPr/>
        </p:nvPicPr>
        <p:blipFill>
          <a:blip r:embed="rId1"/>
          <a:stretch/>
        </p:blipFill>
        <p:spPr>
          <a:xfrm>
            <a:off x="971640" y="765000"/>
            <a:ext cx="7777080" cy="554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4" name="Picture 2" descr=""/>
          <p:cNvPicPr/>
          <p:nvPr/>
        </p:nvPicPr>
        <p:blipFill>
          <a:blip r:embed="rId1"/>
          <a:stretch/>
        </p:blipFill>
        <p:spPr>
          <a:xfrm>
            <a:off x="826920" y="679320"/>
            <a:ext cx="7859880" cy="589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5" name="Picture 2" descr=""/>
          <p:cNvPicPr/>
          <p:nvPr/>
        </p:nvPicPr>
        <p:blipFill>
          <a:blip r:embed="rId1"/>
          <a:stretch/>
        </p:blipFill>
        <p:spPr>
          <a:xfrm>
            <a:off x="2286000" y="191304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Arial"/>
            </a:endParaRPr>
          </a:p>
        </p:txBody>
      </p:sp>
      <p:pic>
        <p:nvPicPr>
          <p:cNvPr id="857" name="Picture 3" descr=""/>
          <p:cNvPicPr/>
          <p:nvPr/>
        </p:nvPicPr>
        <p:blipFill>
          <a:blip r:embed="rId1"/>
          <a:stretch/>
        </p:blipFill>
        <p:spPr>
          <a:xfrm>
            <a:off x="457200" y="304920"/>
            <a:ext cx="8229600" cy="62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692360" y="2492280"/>
            <a:ext cx="619272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ank you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6" name="Picture 2" descr=""/>
          <p:cNvPicPr/>
          <p:nvPr/>
        </p:nvPicPr>
        <p:blipFill>
          <a:blip r:embed="rId1"/>
          <a:stretch/>
        </p:blipFill>
        <p:spPr>
          <a:xfrm>
            <a:off x="1258920" y="189000"/>
            <a:ext cx="7416720" cy="642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مستطيل 1"/>
          <p:cNvSpPr/>
          <p:nvPr/>
        </p:nvSpPr>
        <p:spPr>
          <a:xfrm>
            <a:off x="1042920" y="692280"/>
            <a:ext cx="756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olution and Solubility</a:t>
            </a:r>
            <a:endParaRPr b="0" lang="en-US" sz="2400" spc="-1" strike="noStrike">
              <a:solidFill>
                <a:srgbClr val="000000"/>
              </a:solidFill>
              <a:latin typeface="Times New Roman"/>
            </a:endParaRPr>
          </a:p>
        </p:txBody>
      </p:sp>
      <p:sp>
        <p:nvSpPr>
          <p:cNvPr id="838" name="مستطيل 2"/>
          <p:cNvSpPr/>
          <p:nvPr/>
        </p:nvSpPr>
        <p:spPr>
          <a:xfrm>
            <a:off x="1042920" y="172080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olution the process by which a solid drug substance become dissolved in a solv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bility is the mass of solute that dissolves in specific volume of solvent at a given temperature ( 1gm NaCl dissolve in 2.786 ml of water at 25 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مستطيل 1"/>
          <p:cNvSpPr/>
          <p:nvPr/>
        </p:nvSpPr>
        <p:spPr>
          <a:xfrm>
            <a:off x="1042920" y="1351080"/>
            <a:ext cx="799308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iological systems, drug dissolution in an aqueous medium is an important prior condition for systemic absorption.</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te at which drugs with poor aqueous solubility dissolve from an intact or disintegrated dosage form in the GIT (dissolution rate) often controls the rate of systemic absorption of the dru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Picture 2" descr=""/>
          <p:cNvPicPr/>
          <p:nvPr/>
        </p:nvPicPr>
        <p:blipFill>
          <a:blip r:embed="rId1"/>
          <a:stretch/>
        </p:blipFill>
        <p:spPr>
          <a:xfrm>
            <a:off x="900000" y="757080"/>
            <a:ext cx="8136000" cy="560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مستطيل 1"/>
          <p:cNvSpPr/>
          <p:nvPr/>
        </p:nvSpPr>
        <p:spPr>
          <a:xfrm>
            <a:off x="1042920" y="13510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eps dissolution include the process of drug dissolution at the surface of the solid particle, thus forming a saturated solution around the partic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solved drug in the saturated solution known as stagnant layer , diffuses to the bulk of solvent from region of high concentration to region of low concen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مستطيل 1"/>
          <p:cNvSpPr/>
          <p:nvPr/>
        </p:nvSpPr>
        <p:spPr>
          <a:xfrm>
            <a:off x="900000" y="333360"/>
            <a:ext cx="806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verall rate of drug dissolution may be described by Noyes-Whitney equation:</a:t>
            </a:r>
            <a:endParaRPr b="0" lang="en-US" sz="2400" spc="-1" strike="noStrike">
              <a:solidFill>
                <a:srgbClr val="000000"/>
              </a:solidFill>
              <a:latin typeface="Times New Roman"/>
            </a:endParaRPr>
          </a:p>
        </p:txBody>
      </p:sp>
      <p:pic>
        <p:nvPicPr>
          <p:cNvPr id="843" name="Picture 2" descr=""/>
          <p:cNvPicPr/>
          <p:nvPr/>
        </p:nvPicPr>
        <p:blipFill>
          <a:blip r:embed="rId1"/>
          <a:stretch/>
        </p:blipFill>
        <p:spPr>
          <a:xfrm>
            <a:off x="2627280" y="1773360"/>
            <a:ext cx="3571920" cy="780840"/>
          </a:xfrm>
          <a:prstGeom prst="rect">
            <a:avLst/>
          </a:prstGeom>
          <a:ln w="0">
            <a:noFill/>
          </a:ln>
        </p:spPr>
      </p:pic>
      <p:pic>
        <p:nvPicPr>
          <p:cNvPr id="844" name="Picture 3" descr=""/>
          <p:cNvPicPr/>
          <p:nvPr/>
        </p:nvPicPr>
        <p:blipFill>
          <a:blip r:embed="rId2"/>
          <a:stretch/>
        </p:blipFill>
        <p:spPr>
          <a:xfrm>
            <a:off x="900000" y="3068640"/>
            <a:ext cx="8244000" cy="295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مستطيل 1"/>
          <p:cNvSpPr/>
          <p:nvPr/>
        </p:nvSpPr>
        <p:spPr>
          <a:xfrm>
            <a:off x="900000" y="333360"/>
            <a:ext cx="81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 Effecting Drug Absorption in the GIT:</a:t>
            </a:r>
            <a:endParaRPr b="0" lang="en-US" sz="2400" spc="-1" strike="noStrike">
              <a:solidFill>
                <a:srgbClr val="000000"/>
              </a:solidFill>
              <a:latin typeface="Times New Roman"/>
            </a:endParaRPr>
          </a:p>
        </p:txBody>
      </p:sp>
      <p:sp>
        <p:nvSpPr>
          <p:cNvPr id="846" name="مستطيل 2"/>
          <p:cNvSpPr/>
          <p:nvPr/>
        </p:nvSpPr>
        <p:spPr>
          <a:xfrm>
            <a:off x="1042920" y="1536840"/>
            <a:ext cx="7993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ic drug absorption from GIT or from any other extravascular site is dependent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 physicochemical properties of the dru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harmaceutical and formulatory fac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natomy and physiology of absorption site (G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7" name="Picture 2" descr=""/>
          <p:cNvPicPr/>
          <p:nvPr/>
        </p:nvPicPr>
        <p:blipFill>
          <a:blip r:embed="rId1"/>
          <a:stretch/>
        </p:blipFill>
        <p:spPr>
          <a:xfrm>
            <a:off x="1116000" y="646200"/>
            <a:ext cx="7704000" cy="596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05:02:06Z</dcterms:created>
  <dc:creator>Nelson</dc:creator>
  <dc:description/>
  <dc:language>en-US</dc:language>
  <cp:lastModifiedBy>CHANGE_ME</cp:lastModifiedBy>
  <dcterms:modified xsi:type="dcterms:W3CDTF">2012-11-05T06:39:05Z</dcterms:modified>
  <cp:revision>82</cp:revision>
  <dc:subject/>
  <dc:title>Chapter 5</dc:title>
</cp:coreProperties>
</file>