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EC7A-8116-470E-962F-B8D5114BB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947F-BD5A-4627-85EE-AAFCC46F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DBE543-8958-4147-BEE8-2F23C2DE5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1B4AC-904D-4423-9037-D64B934F0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3A5F86-71A0-436B-8F08-EA81307AB5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93157-D985-40BD-A866-3880D15FB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5C292B-6B0A-48A4-93F6-34A44DCC1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382F7-CA9C-4102-8B99-FB1FF73EC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046BB1-0FAF-45F0-B62D-D7B539919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96E6F0-E192-4186-A57E-E3D00912ED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0F13BC-4BEA-4573-81DE-D76537E0B3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69BB13-E75A-4C15-9839-1CC475FEF5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A1095-A181-4AC7-B48F-44A1C8020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D020DF-1C7F-4DF9-9B3F-9C33C6B94E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C6559B-B81E-4C25-AE1D-57F3BA7467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82B406-3CEF-4A77-90D0-EB2299D296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764CA0-AB3C-4EFE-8C48-4A00C84715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68A586-2446-4EB2-8570-464BCB54A6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10BE85-26F5-4AA0-9BC0-70CCB9BCC5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C2C550-4A87-43FA-BC88-0DC911856F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BE4274-6F83-43C0-8583-C501464EF7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3DF6EB-1653-4469-A4E9-6CD75DD84F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A3D791-1000-418B-86F0-C895EF1330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0C11-17CF-4BE4-936E-FC4E1C7D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7CC1DC-5FFB-43C5-AF3D-ADA5F34741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A28772-CE07-471F-9153-95668166B6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5603FC-D086-4E4B-8FE3-36ADD875B9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885CA2-0341-4C02-9CC4-09B531518B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D62231-E219-467E-8EDC-C68CD12041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7C94AA-55AD-4AC8-9067-5C2EA58A2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605AB0-532C-423E-B52F-026E72587F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65FECE-D24C-4234-B413-B2CA8B49A8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21AA7-E499-468F-A042-369F0F42F8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4A9C1-59C9-48FB-92F0-6915531866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4D7EC-F375-477D-B9DF-76D496064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6ACB40-FB49-4CB3-91A8-4237B10A85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731020-9191-4749-95F9-5ADA88D78D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CDCC6D-AF1B-4CCD-B32E-5D62C911E5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AD2A80-E690-4A75-92D6-BAD7BF6827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0C355B-FB25-4728-B48B-A422084AD1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9F9F5E-1AA6-4706-956C-5BD34118CC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4F8014-6DF3-4582-BB99-C0EA91695B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5DBD0F-0D14-46E5-9A22-555694676B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B7FFB4-797B-401B-A871-615119C64E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D5852F-6A11-463B-9117-46270DAF76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92F4-BDFD-48B3-8D05-D50207E03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2E7685-BAEA-4F7D-AD7C-3511AB9A03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A94895-9E5E-4F64-85F8-89FF7B128A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251182-7AD9-4F3C-9CF1-95FC68C5C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77D16C-E885-4485-8273-F37BCF045E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8DB608-D147-4ACD-84CE-EF718E0B22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4B6C34-7741-4909-A4BC-537E6B88E5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ACBAF9-1877-41D3-9D75-33ACB97DB5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5C401D-7311-4DE9-BE5A-E4FF6BF91C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98C175-ED80-4ACD-82D8-F7241F2C01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D52142-CF1C-4897-8585-F93F991F86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2406C-F128-4053-BE76-45EDCEE18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6A793E-8322-430E-ABF9-35D5887156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97B1C6-6CE9-4EC2-872C-DAA1969B1E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0D20CF-AE44-4A63-9404-780291D028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EE87C6-CA43-4B3C-AAE0-0A07DD6AE1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284004-AB6D-4061-84C4-CB08059D7C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857751-1DA9-4DCF-B961-DDFAB4AFDB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8AF3F2-D907-4659-8FA9-42C00B0EDD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039DB-08D5-4525-96BD-D13690DED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C00D1-7C33-44AA-82F1-97527BADA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2FDAA-03D6-4F6B-8970-CA2DFD8C1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07318-6181-4E8A-BF06-E0E6D7B0F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F537-A11C-46D9-A940-FB922825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3D19-8549-4632-B510-62511F7D4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804FD-B13C-4121-9A54-A68CAFD84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EC304-C74B-4265-BB70-422ADC24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CC474-D17E-4523-B33E-0FAF784BF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8B017-4F50-468D-BF07-F3DA52E43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75C6E-243C-4D79-B5F5-A2B2E2422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48710-96B1-42C6-B109-261C8706B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93477-0B28-40D0-B447-9A8412CD1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757A4-81B4-4601-A01F-A413AABFC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4E296-42E7-46AC-B1AA-11A901816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D1E56-1271-4F2F-AB59-A931003F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018E6-48E7-42A5-B4F0-8E3F762E9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06F14-F2CD-4D1A-BB51-71E8354CC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04C42-946D-4DCD-BB99-37ACC5B8C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5A42E-0C21-4914-B717-A13B9BDA3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1FD19-74B2-4572-9724-1E6510598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C5884A-564F-430B-88DF-600C85E75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4A7CC5-BD60-48F8-B028-61EA43EE8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B35B773-7D6E-40C3-A62C-FEF4F9CCA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BDD6A6-9939-4B98-8A45-71B49398D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36D488-1C2F-4EFE-8562-749A1BBFA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A6A2-0B0C-4498-8EBD-19DD589DF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D97BE7-B633-40C8-8629-961A795BE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5B2F87-E99C-4300-9AE0-1DD08274C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B2BCF7-EA2F-4755-99C0-097B48D92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00D9DC-A62F-4728-B753-5ABCC7B83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6D711E-B166-4219-89F0-6CA41299D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922EDB-1EAA-4383-8812-8B91F29FE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32640E-F067-4B32-BC5B-C57D7E33D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44FD37-F9B6-4BC2-B7F7-CECF7BD845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F390F1-15F8-4AD9-B79B-CF3D3B93A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DEB8BA-790F-4F12-8BFD-7FA6603BF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4EB3-7D99-4F55-BE83-2080CBE05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C755E-22A5-4A5F-A5DE-467583480D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87CDF-03B7-4FDB-8203-F2B995DA8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EE350-0422-4AB1-84FE-1D490DACC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20064-B0A3-42B5-B5C1-E28452C92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A33E3-0702-4C62-AF09-AAB3444AE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539AA-9186-47C1-B732-8AA480DBB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5951E-B0E8-4F8F-B1ED-6F5C45C5A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20818-44C3-46D1-B9F1-1C3C52033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E5BD2-DB8B-4922-8D68-C0806FFB1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1B7E70-D6C6-487D-9445-77F4C18DB5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70F2-B389-4F2F-AFC7-F34C4E8B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BDE3C-A9B0-43BB-9B74-4A6EC609FB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EDCB0E-4D1D-4CA7-8E4A-FE2C2413F8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87853-FFEA-4EA0-8918-F9E3E2CB4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B41EC-377A-4EE7-9733-007D85F52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C364D-ABA5-40F4-88D6-9E977E1AA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7331F-2F08-4B9D-AB12-ABF7F989C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2DBA0-D9AE-42FC-9E58-993A32742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20704-0A92-4469-873A-2681EB355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9EC88-D76C-49A5-B9B2-791A54501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A04BC-0366-4E67-81B6-B0BCD5946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AB2A-94EA-4776-B391-6B6E628EF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51BB5-4333-482D-8E4B-4293C36E1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6387BE-3EF3-4A99-A89C-4ADCD986A3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D1692C-F2CA-437F-B80C-B19EAC05F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0FDF2-8820-4F84-B924-FEE56726FD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C760B-4727-498B-8AE6-BADD96C3E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F622D-B599-47C8-BCB2-DBAF27E16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416AD-AF06-41B8-AABC-5E57D17DA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D057D-3A25-43B8-A37D-800D019DEB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CC56D-2D30-46A7-9652-08F1C5C34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3E603-C150-43B7-AF3B-9B257A7B9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84FB-F170-4D71-96C5-D3D72065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20288-E52B-44A7-B7AC-9676A2B33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907CE-EE22-44FA-ACD4-65ABB0A63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D0919-BDD5-4DC7-AA07-4DEEE74B51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9C4186-4472-47FE-B89F-F31B71EE8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36C423-D41B-4599-BC59-9CC762F77B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51F8A-1D53-4A7C-8AA3-6489FD31F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4BE11-8CE8-47A2-AC00-4269CEC1A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0DD5F-2F2E-4DE2-9DCB-9AFB7DC9DF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F1190C-3C56-4907-AEAB-5DCF4E8D9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4BF13A-F4CB-48E4-B749-E58DDEE0A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F655-C405-4183-9B66-ECF3983F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94758-A30B-4100-ABEA-81FADF98FD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E4878-49B2-4DCD-A588-2A4A08B8A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5A58D-37C8-42BA-A369-D8114A620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2C1CC-631E-4DD5-A183-42EEE9C2E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B0D64-4682-42BD-BF0E-892F40CC7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2D238E-A8D9-425C-9B98-A01E83557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B69F1D-B175-4278-9566-897BF4AD6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B1B9E6-5663-475D-A397-29E945BFC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9EA4E8-3826-424B-BD1A-06F42604E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639BC-5749-42D4-A0AA-2DC28F810A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3C5D-B0A1-409C-AA71-7B0839AEF7C2}"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139B-9EBC-476D-9ACB-F6D310B6C339}"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7E4E-941B-412E-A4ED-D4F1CE10C374}"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AADC-75E8-4B7B-9966-7DAEDDFF433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C2E2-228F-49A9-86C6-D357458D52E9}"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B003-C065-46EF-83F8-164587BD002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E9EE-E13F-4015-AEFE-E0ABE5820BB9}"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4CD5-4B6F-431D-85C1-821179D6A170}"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2271-832B-40C0-820A-C1C19532215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2144-E907-4650-A7F8-D29B37CB99F9}"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B3A2-08F0-4F5E-977F-E7C62F5EDBD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32D1-9370-490B-9980-994E4B50D477}"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BC8A-2DCA-445C-96CC-B57410F0CCC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عاشر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لغات البرمجة</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نقسم لغات البرمجة من حيث مستوى الفهم والتعقيد إلى مستويين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ات المستوى المنخفض (</a:t>
            </a:r>
            <a:r>
              <a:rPr b="0" lang="en-US" sz="2000" spc="-1" strike="noStrike">
                <a:solidFill>
                  <a:srgbClr val="ffffff"/>
                </a:solidFill>
                <a:latin typeface="Arial"/>
              </a:rPr>
              <a:t>Low Level Programming</a:t>
            </a:r>
            <a:r>
              <a:rPr b="0"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ات المستوى العالي (</a:t>
            </a:r>
            <a:r>
              <a:rPr b="0" lang="en-US" sz="2000" spc="-1" strike="noStrike">
                <a:solidFill>
                  <a:srgbClr val="ffffff"/>
                </a:solidFill>
                <a:latin typeface="Arial"/>
              </a:rPr>
              <a:t>High Level Programming</a:t>
            </a:r>
            <a:r>
              <a:rPr b="0"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fontScale="98000"/>
          </a:bodyPr>
          <a:p>
            <a:pPr lvl="1" marL="727920" indent="-2800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لغات المستوى المنخفض (</a:t>
            </a:r>
            <a:r>
              <a:rPr b="1" i="1" lang="en-US" sz="2000" spc="-1" strike="noStrike">
                <a:solidFill>
                  <a:srgbClr val="ffffff"/>
                </a:solidFill>
                <a:latin typeface="Arial"/>
              </a:rPr>
              <a:t>Low level languages</a:t>
            </a:r>
            <a:r>
              <a:rPr b="1" i="1"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ناك لغتين تصنفان تحت هذا المستوى وهما: لغة الآلة - ولغة التجميع </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ة الآلة (</a:t>
            </a:r>
            <a:r>
              <a:rPr b="0" lang="en-US" sz="2000" spc="-1" strike="noStrike">
                <a:solidFill>
                  <a:srgbClr val="ffffff"/>
                </a:solidFill>
                <a:latin typeface="Arial"/>
              </a:rPr>
              <a:t>Machine Language</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ي أول اللغات ظهوراً وهي اللغة الوحيدة التي يفهمها الحاسب دون ترجمة وتتكون من رمزين الصفر والواحد هذان الرمزان يكوّنان الأوامر المختلفة والبيانات وهي لغة معقدة خصوصا وأن لكل حاسب لغة آلة خاصة به حيث تتطلب معرفة واسعة في تصميم الحاسب. وهي صعبة اكتشاف الأخطاء.</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ة التجميع (</a:t>
            </a:r>
            <a:r>
              <a:rPr b="0" lang="en-US" sz="2000" spc="-1" strike="noStrike">
                <a:solidFill>
                  <a:srgbClr val="ffffff"/>
                </a:solidFill>
                <a:latin typeface="Arial"/>
              </a:rPr>
              <a:t>Assembly Language</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تعتمد هذه اللغة على رموز مختزلة وهي اختصارات لكلمات ذات مدلول لغوي محدد مثل : </a:t>
            </a:r>
            <a:r>
              <a:rPr b="0" lang="en-US" sz="2000" spc="-1" strike="noStrike">
                <a:solidFill>
                  <a:srgbClr val="ffffff"/>
                </a:solidFill>
                <a:latin typeface="Arial"/>
              </a:rPr>
              <a:t>Add</a:t>
            </a:r>
            <a:r>
              <a:rPr b="0" lang="ar-SA" sz="2000" spc="-1" strike="noStrike">
                <a:solidFill>
                  <a:srgbClr val="ffffff"/>
                </a:solidFill>
                <a:latin typeface="Arial"/>
              </a:rPr>
              <a:t> تدل على الجمع أو </a:t>
            </a:r>
            <a:r>
              <a:rPr b="0" lang="en-US" sz="2000" spc="-1" strike="noStrike">
                <a:solidFill>
                  <a:srgbClr val="ffffff"/>
                </a:solidFill>
                <a:latin typeface="Arial"/>
              </a:rPr>
              <a:t>Mov</a:t>
            </a:r>
            <a:r>
              <a:rPr b="0" lang="ar-SA" sz="2000" spc="-1" strike="noStrike">
                <a:solidFill>
                  <a:srgbClr val="ffffff"/>
                </a:solidFill>
                <a:latin typeface="Arial"/>
              </a:rPr>
              <a:t> و تدل على النقل وهكذا, مما جعل تعلم هذه اللغة أسهل نسبياً من لغة الآلة بالإضافة  إلى سهولة اكتشاف الأخطاء و تصحيحها ولكن يحتاج ما يسمى بالمجمع لتجميع البرنامج وتحويله إلى لغة الآلة حتى يتم تنفيذه ومع ذلك فإن لهذه اللغة عدة عيوب أبرزها ارتباطها بالآلة (المعالج </a:t>
            </a:r>
            <a:r>
              <a:rPr b="0" lang="en-US" sz="2000" spc="-1" strike="noStrike">
                <a:solidFill>
                  <a:srgbClr val="ffffff"/>
                </a:solidFill>
                <a:latin typeface="Arial"/>
              </a:rPr>
              <a:t>Processor</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a:bodyPr>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لغات المستوى العالي (</a:t>
            </a:r>
            <a:r>
              <a:rPr b="1" i="1" lang="en-US" sz="2000" spc="-1" strike="noStrike">
                <a:solidFill>
                  <a:srgbClr val="ffffff"/>
                </a:solidFill>
                <a:latin typeface="Arial"/>
              </a:rPr>
              <a:t>High level languages</a:t>
            </a:r>
            <a:r>
              <a:rPr b="1" i="1"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 تعتمد هذه اللغات على كتابة كلمات ذات مدلول واضح باللغة الإنكليزية مثلا: </a:t>
            </a:r>
            <a:r>
              <a:rPr b="0" lang="en-US" sz="2000" spc="-1" strike="noStrike">
                <a:solidFill>
                  <a:srgbClr val="ffffff"/>
                </a:solidFill>
                <a:latin typeface="Arial"/>
              </a:rPr>
              <a:t>read</a:t>
            </a:r>
            <a:r>
              <a:rPr b="0" lang="ar-SA" sz="2000" spc="-1" strike="noStrike">
                <a:solidFill>
                  <a:srgbClr val="ffffff"/>
                </a:solidFill>
                <a:latin typeface="Arial"/>
              </a:rPr>
              <a:t>, </a:t>
            </a:r>
            <a:r>
              <a:rPr b="0" lang="en-US" sz="2000" spc="-1" strike="noStrike">
                <a:solidFill>
                  <a:srgbClr val="ffffff"/>
                </a:solidFill>
                <a:latin typeface="Arial"/>
              </a:rPr>
              <a:t>write</a:t>
            </a:r>
            <a:r>
              <a:rPr b="0" lang="ar-SA" sz="2000" spc="-1" strike="noStrike">
                <a:solidFill>
                  <a:srgbClr val="ffffff"/>
                </a:solidFill>
                <a:latin typeface="Arial"/>
              </a:rPr>
              <a:t>, </a:t>
            </a:r>
            <a:r>
              <a:rPr b="0" lang="en-US" sz="2000" spc="-1" strike="noStrike">
                <a:solidFill>
                  <a:srgbClr val="ffffff"/>
                </a:solidFill>
                <a:latin typeface="Arial"/>
              </a:rPr>
              <a:t>print</a:t>
            </a:r>
            <a:r>
              <a:rPr b="0" lang="ar-SA" sz="2000" spc="-1" strike="noStrike">
                <a:solidFill>
                  <a:srgbClr val="ffffff"/>
                </a:solidFill>
                <a:latin typeface="Arial"/>
              </a:rPr>
              <a:t>...مما سهل تعلم هذه اللغات والإقبال عليها لبرمجة التطبيقات التجارية والعلمية ويحتاج تنفيذ البرامج المكتوبة بهذه اللغات إلى ما يسمى بالمفسر </a:t>
            </a:r>
            <a:r>
              <a:rPr b="0" lang="en-US" sz="2000" spc="-1" strike="noStrike">
                <a:solidFill>
                  <a:srgbClr val="ffffff"/>
                </a:solidFill>
                <a:latin typeface="Arial"/>
              </a:rPr>
              <a:t>interpreter</a:t>
            </a:r>
            <a:r>
              <a:rPr b="0" lang="ar-SA" sz="2000" spc="-1" strike="noStrike">
                <a:solidFill>
                  <a:srgbClr val="ffffff"/>
                </a:solidFill>
                <a:latin typeface="Arial"/>
              </a:rPr>
              <a:t> وهو يقوم بالتنفيذ وتتبع التعليمات خطوة بخطوة مما يساعد على كشف الأخطاء ثم ترجمته وتحويله إلى لغة الآلة عن طريق مل يسمى بالمترجم </a:t>
            </a:r>
            <a:r>
              <a:rPr b="0" lang="en-US" sz="2000" spc="-1" strike="noStrike">
                <a:solidFill>
                  <a:srgbClr val="ffffff"/>
                </a:solidFill>
                <a:latin typeface="Arial"/>
              </a:rPr>
              <a:t>compiler</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ميزات لغات المستوى العالي:</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دم الارتباط بالمعالجات أو بالتصميم الداخلي للحاسب</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سهولة تعلمها وسهولة كتابة البرامج فيها</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سهولة اكتشاف الأخطاء وتصحيحها</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وفير الجهد والوقت الذي كان يقوم به المبرمج</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انواع  لغات المستوى العالي</a:t>
            </a:r>
            <a:endParaRPr b="0" lang="en-US" sz="2500" spc="-1" strike="noStrike">
              <a:solidFill>
                <a:srgbClr val="ffffff"/>
              </a:solidFill>
              <a:latin typeface="Arial"/>
            </a:endParaRPr>
          </a:p>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ظهرت عدة لغات من أبرزها : الفورتران </a:t>
            </a:r>
            <a:r>
              <a:rPr b="0" lang="en-US" sz="2500" spc="-1" strike="noStrike">
                <a:solidFill>
                  <a:srgbClr val="ffffff"/>
                </a:solidFill>
                <a:latin typeface="Arial"/>
              </a:rPr>
              <a:t>FORTRAN</a:t>
            </a:r>
            <a:r>
              <a:rPr b="0" lang="ar-SA" sz="2500" spc="-1" strike="noStrike">
                <a:solidFill>
                  <a:srgbClr val="ffffff"/>
                </a:solidFill>
                <a:latin typeface="Arial"/>
              </a:rPr>
              <a:t> الكوبول </a:t>
            </a:r>
            <a:r>
              <a:rPr b="0" lang="en-US" sz="2500" spc="-1" strike="noStrike">
                <a:solidFill>
                  <a:srgbClr val="ffffff"/>
                </a:solidFill>
                <a:latin typeface="Arial"/>
              </a:rPr>
              <a:t>Cobol</a:t>
            </a:r>
            <a:r>
              <a:rPr b="0" lang="ar-SA" sz="2500" spc="-1" strike="noStrike">
                <a:solidFill>
                  <a:srgbClr val="ffffff"/>
                </a:solidFill>
                <a:latin typeface="Arial"/>
              </a:rPr>
              <a:t> البيسك </a:t>
            </a:r>
            <a:r>
              <a:rPr b="0" lang="en-US" sz="2500" spc="-1" strike="noStrike">
                <a:solidFill>
                  <a:srgbClr val="ffffff"/>
                </a:solidFill>
                <a:latin typeface="Arial"/>
              </a:rPr>
              <a:t>basic</a:t>
            </a:r>
            <a:r>
              <a:rPr b="0" lang="ar-SA" sz="2500" spc="-1" strike="noStrike">
                <a:solidFill>
                  <a:srgbClr val="ffffff"/>
                </a:solidFill>
                <a:latin typeface="Arial"/>
              </a:rPr>
              <a:t> و الباسكال </a:t>
            </a:r>
            <a:r>
              <a:rPr b="0" lang="en-US" sz="2500" spc="-1" strike="noStrike">
                <a:solidFill>
                  <a:srgbClr val="ffffff"/>
                </a:solidFill>
                <a:latin typeface="Arial"/>
              </a:rPr>
              <a:t>Pascal</a:t>
            </a:r>
            <a:r>
              <a:rPr b="0" lang="ar-SA" sz="2500" spc="-1" strike="noStrike">
                <a:solidFill>
                  <a:srgbClr val="ffffff"/>
                </a:solidFill>
                <a:latin typeface="Arial"/>
              </a:rPr>
              <a:t> و السي</a:t>
            </a:r>
            <a:r>
              <a:rPr b="0" lang="en-US" sz="2500" spc="-1" strike="noStrike">
                <a:solidFill>
                  <a:srgbClr val="ffffff"/>
                </a:solidFill>
                <a:latin typeface="Arial"/>
              </a:rPr>
              <a:t>c</a:t>
            </a:r>
            <a:endParaRPr b="0" lang="en-US" sz="2500" spc="-1" strike="noStrike">
              <a:solidFill>
                <a:srgbClr val="ffffff"/>
              </a:solidFill>
              <a:latin typeface="Arial"/>
            </a:endParaRPr>
          </a:p>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كانت أبرزها لغة البيسك فقد كانت الأكثر شهرة وشعبية و عامة الاستخدام للمبتدئين في البرمجة و قد اشتقت حروفها من العبارة : </a:t>
            </a:r>
            <a:r>
              <a:rPr b="0" lang="en-US" sz="2500" spc="-1" strike="noStrike">
                <a:solidFill>
                  <a:srgbClr val="ffffff"/>
                </a:solidFill>
                <a:latin typeface="Arial"/>
              </a:rPr>
              <a:t>Beginners All-purpose Symbolic Instruction Code</a:t>
            </a:r>
            <a:r>
              <a:rPr b="0" lang="ar-SA" sz="2500" spc="-1" strike="noStrike">
                <a:solidFill>
                  <a:srgbClr val="ffffff"/>
                </a:solidFill>
                <a:latin typeface="Arial"/>
              </a:rPr>
              <a:t> وتعني لغة التعليمات الرمزية متعددة الأغراض للمبتدئين, وظهرت في الستينات من القرن الماضي في جامعة أمريكية, ومن أهم إصداراتها </a:t>
            </a:r>
            <a:r>
              <a:rPr b="0" lang="en-US" sz="2500" spc="-1" strike="noStrike">
                <a:solidFill>
                  <a:srgbClr val="ffffff"/>
                </a:solidFill>
                <a:latin typeface="Arial"/>
              </a:rPr>
              <a:t>QBasic</a:t>
            </a:r>
            <a:r>
              <a:rPr b="0" lang="ar-SA" sz="2500" spc="-1" strike="noStrike">
                <a:solidFill>
                  <a:srgbClr val="ffffff"/>
                </a:solidFill>
                <a:latin typeface="Arial"/>
              </a:rPr>
              <a:t> وهي من اللغات الخطية و مع ظهور نظام النوافذ </a:t>
            </a:r>
            <a:r>
              <a:rPr b="0" lang="en-US" sz="2500" spc="-1" strike="noStrike">
                <a:solidFill>
                  <a:srgbClr val="ffffff"/>
                </a:solidFill>
                <a:latin typeface="Arial"/>
              </a:rPr>
              <a:t>windows</a:t>
            </a:r>
            <a:r>
              <a:rPr b="0" lang="ar-SA" sz="2500" spc="-1" strike="noStrike">
                <a:solidFill>
                  <a:srgbClr val="ffffff"/>
                </a:solidFill>
                <a:latin typeface="Arial"/>
              </a:rPr>
              <a:t> الذي يدعم البيئة الرسومية ظهرت لغة البيسك المرئي من قبل شركة </a:t>
            </a:r>
            <a:r>
              <a:rPr b="0" lang="en-US" sz="2500" spc="-1" strike="noStrike">
                <a:solidFill>
                  <a:srgbClr val="ffffff"/>
                </a:solidFill>
                <a:latin typeface="Arial"/>
              </a:rPr>
              <a:t>Microsoft</a:t>
            </a:r>
            <a:r>
              <a:rPr b="0" lang="ar-SA" sz="2500" spc="-1" strike="noStrike">
                <a:solidFill>
                  <a:srgbClr val="ffffff"/>
                </a:solidFill>
                <a:latin typeface="Arial"/>
              </a:rPr>
              <a:t> ومن إصدارات هذه اللغة </a:t>
            </a:r>
            <a:r>
              <a:rPr b="0" lang="en-US" sz="2500" spc="-1" strike="noStrike">
                <a:solidFill>
                  <a:srgbClr val="ffffff"/>
                </a:solidFill>
                <a:latin typeface="Arial"/>
              </a:rPr>
              <a:t>Visual Basic</a:t>
            </a:r>
            <a:r>
              <a:rPr b="1" lang="en-US" sz="2500" spc="-1" strike="noStrike">
                <a:solidFill>
                  <a:srgbClr val="ffffff"/>
                </a:solidFill>
                <a:latin typeface="Arial"/>
              </a:rPr>
              <a:t> </a:t>
            </a:r>
            <a:r>
              <a:rPr b="0" lang="ar-SA" sz="2500" spc="-1" strike="noStrike">
                <a:solidFill>
                  <a:srgbClr val="ffffff"/>
                </a:solidFill>
                <a:latin typeface="Arial"/>
              </a:rPr>
              <a:t>فيجوال بيسك.</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fontScale="88000"/>
          </a:bodyPr>
          <a:p>
            <a:pPr marL="300240" indent="-3002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غات الجيل الرابع</a:t>
            </a:r>
            <a:br>
              <a:rPr sz="2000"/>
            </a:br>
            <a:r>
              <a:rPr b="0" lang="ar-SA" sz="2000" spc="-1" strike="noStrike">
                <a:solidFill>
                  <a:srgbClr val="ffffff"/>
                </a:solidFill>
                <a:latin typeface="Arial"/>
              </a:rPr>
              <a:t>سميت بهذا الاسم نسبة إلى الجيل التي ظهرت فيه، مثل هذه اللغات التي تتصف بقلة التعليمات التي يكتبها المبرمج لتحقيق هدف ما ، فما كان يتطلب مئات الأسطر من لغة بيسك أو الآلاف من لغة كوبول باستخدام عدد بسيط من الأسطر في هذه اللغات</a:t>
            </a:r>
            <a:r>
              <a:rPr b="0" lang="en-US" sz="2000" spc="-1" strike="noStrike">
                <a:solidFill>
                  <a:srgbClr val="ffffff"/>
                </a:solidFill>
                <a:latin typeface="Arial"/>
              </a:rPr>
              <a:t> . </a:t>
            </a:r>
            <a:br>
              <a:rPr sz="2000"/>
            </a:br>
            <a:r>
              <a:rPr b="1" lang="ar-SA" sz="2000" spc="-1" strike="noStrike">
                <a:solidFill>
                  <a:srgbClr val="ffffff"/>
                </a:solidFill>
                <a:latin typeface="Arial"/>
              </a:rPr>
              <a:t>تمتاز هذه اللغات بعدة مزايا</a:t>
            </a:r>
            <a:r>
              <a:rPr b="0" lang="en-US" sz="2000" spc="-1" strike="noStrike">
                <a:solidFill>
                  <a:srgbClr val="ffffff"/>
                </a:solidFill>
                <a:latin typeface="Arial"/>
              </a:rPr>
              <a:t> : </a:t>
            </a:r>
            <a:br>
              <a:rPr sz="2000"/>
            </a:br>
            <a:r>
              <a:rPr b="0" lang="en-US" sz="2000" spc="-1" strike="noStrike">
                <a:solidFill>
                  <a:srgbClr val="ffffff"/>
                </a:solidFill>
                <a:latin typeface="Arial"/>
              </a:rPr>
              <a:t>1</a:t>
            </a:r>
            <a:r>
              <a:rPr b="0" lang="ar-SA" sz="2000" spc="-1" strike="noStrike">
                <a:solidFill>
                  <a:srgbClr val="ffffff"/>
                </a:solidFill>
                <a:latin typeface="Arial"/>
              </a:rPr>
              <a:t>ــ إنها لغة موجهة للنتائج أي إن المبرمج يهتم بطلب ما يريده من الكمبيوتر، دون أن يوجهه لكيفية القيام بذلك</a:t>
            </a:r>
            <a:r>
              <a:rPr b="0" lang="en-US" sz="2000" spc="-1" strike="noStrike">
                <a:solidFill>
                  <a:srgbClr val="ffffff"/>
                </a:solidFill>
                <a:latin typeface="Arial"/>
              </a:rPr>
              <a:t> . </a:t>
            </a:r>
            <a:br>
              <a:rPr sz="2000"/>
            </a:br>
            <a:r>
              <a:rPr b="0" lang="en-US" sz="2000" spc="-1" strike="noStrike">
                <a:solidFill>
                  <a:srgbClr val="ffffff"/>
                </a:solidFill>
                <a:latin typeface="Arial"/>
              </a:rPr>
              <a:t>2</a:t>
            </a:r>
            <a:r>
              <a:rPr b="0" lang="ar-SA" sz="2000" spc="-1" strike="noStrike">
                <a:solidFill>
                  <a:srgbClr val="ffffff"/>
                </a:solidFill>
                <a:latin typeface="Arial"/>
              </a:rPr>
              <a:t>ــ زادت من الإنتاجية؛ لأن كتابة البرامج وصيانتها أكثر سهولة</a:t>
            </a:r>
            <a:r>
              <a:rPr b="0" lang="en-US" sz="2000" spc="-1" strike="noStrike">
                <a:solidFill>
                  <a:srgbClr val="ffffff"/>
                </a:solidFill>
                <a:latin typeface="Arial"/>
              </a:rPr>
              <a:t> . </a:t>
            </a:r>
            <a:br>
              <a:rPr sz="2000"/>
            </a:br>
            <a:r>
              <a:rPr b="0" lang="en-US" sz="2000" spc="-1" strike="noStrike">
                <a:solidFill>
                  <a:srgbClr val="ffffff"/>
                </a:solidFill>
                <a:latin typeface="Arial"/>
              </a:rPr>
              <a:t>3</a:t>
            </a:r>
            <a:r>
              <a:rPr b="0" lang="ar-SA" sz="2000" spc="-1" strike="noStrike">
                <a:solidFill>
                  <a:srgbClr val="ffffff"/>
                </a:solidFill>
                <a:latin typeface="Arial"/>
              </a:rPr>
              <a:t>ــ سهلة الاستخدام، وتتطلب قليلاً من التدريب على استخدامها، سواء كان للبرمجة أو غيرها</a:t>
            </a:r>
            <a:r>
              <a:rPr b="0" lang="en-US" sz="2000" spc="-1" strike="noStrike">
                <a:solidFill>
                  <a:srgbClr val="ffffff"/>
                </a:solidFill>
                <a:latin typeface="Arial"/>
              </a:rPr>
              <a:t> . </a:t>
            </a:r>
            <a:br>
              <a:rPr sz="2000"/>
            </a:br>
            <a:r>
              <a:rPr b="0" lang="en-US" sz="2000" spc="-1" strike="noStrike">
                <a:solidFill>
                  <a:srgbClr val="ffffff"/>
                </a:solidFill>
                <a:latin typeface="Arial"/>
              </a:rPr>
              <a:t>4</a:t>
            </a:r>
            <a:r>
              <a:rPr b="0" lang="ar-SA" sz="2000" spc="-1" strike="noStrike">
                <a:solidFill>
                  <a:srgbClr val="ffffff"/>
                </a:solidFill>
                <a:latin typeface="Arial"/>
              </a:rPr>
              <a:t>ــ لم يعد المستخدم بحاجة إلى التفكير في الأجهزة أو هيكلية البرنامج</a:t>
            </a:r>
            <a:r>
              <a:rPr b="0" lang="en-US" sz="2000" spc="-1" strike="noStrike">
                <a:solidFill>
                  <a:srgbClr val="ffffff"/>
                </a:solidFill>
                <a:latin typeface="Arial"/>
              </a:rPr>
              <a:t> . </a:t>
            </a:r>
            <a:br>
              <a:rPr sz="2000"/>
            </a:br>
            <a:r>
              <a:rPr b="0" lang="ar-SA" sz="2000" spc="-1" strike="noStrike">
                <a:solidFill>
                  <a:srgbClr val="ffffff"/>
                </a:solidFill>
                <a:latin typeface="Arial"/>
              </a:rPr>
              <a:t>وقد بدأت لغات الجيل الرابع بالانتشار بين المبرمجين، وبشكل كبير جداً لما توفره لغات البرمجة هذه من سهولة في معاملة الملفات، وربط هذه الملفات بعضها مع بعض بغرض التحديث أو طباعة التقارير</a:t>
            </a:r>
            <a:r>
              <a:rPr b="0" lang="en-US" sz="2000" spc="-1" strike="noStrike">
                <a:solidFill>
                  <a:srgbClr val="ffffff"/>
                </a:solidFill>
                <a:latin typeface="Arial"/>
              </a:rPr>
              <a:t> . </a:t>
            </a:r>
            <a:r>
              <a:rPr b="0" lang="ar-SA" sz="2000" spc="-1" strike="noStrike">
                <a:solidFill>
                  <a:srgbClr val="ffffff"/>
                </a:solidFill>
                <a:latin typeface="Arial"/>
              </a:rPr>
              <a:t>كما توفر هذه اللغات قوة في المشاركة في الموارد البرمجية وخصوصاً الملفات، ومن أمثال هذه اللغات لغة</a:t>
            </a:r>
            <a:r>
              <a:rPr b="0" lang="en-US" sz="2000" spc="-1" strike="noStrike">
                <a:solidFill>
                  <a:srgbClr val="ffffff"/>
                </a:solidFill>
                <a:latin typeface="Arial"/>
              </a:rPr>
              <a:t> </a:t>
            </a:r>
            <a:r>
              <a:rPr b="0" lang="en-US" sz="2000" spc="-1" strike="noStrike">
                <a:solidFill>
                  <a:srgbClr val="ffffff"/>
                </a:solidFill>
                <a:latin typeface="Arial"/>
              </a:rPr>
              <a:t>Dbase</a:t>
            </a:r>
            <a:r>
              <a:rPr b="0" lang="en-US" sz="2000" spc="-1" strike="noStrike">
                <a:solidFill>
                  <a:srgbClr val="ffffff"/>
                </a:solidFill>
                <a:latin typeface="Arial"/>
              </a:rPr>
              <a:t> </a:t>
            </a:r>
            <a:r>
              <a:rPr b="0" lang="ar-SA" sz="2000" spc="-1" strike="noStrike">
                <a:solidFill>
                  <a:srgbClr val="ffffff"/>
                </a:solidFill>
                <a:latin typeface="Arial"/>
              </a:rPr>
              <a:t>من</a:t>
            </a:r>
            <a:r>
              <a:rPr b="0" lang="en-US" sz="2000" spc="-1" strike="noStrike">
                <a:solidFill>
                  <a:srgbClr val="ffffff"/>
                </a:solidFill>
                <a:latin typeface="Arial"/>
              </a:rPr>
              <a:t> </a:t>
            </a:r>
            <a:r>
              <a:rPr b="0" lang="en-US" sz="2000" spc="-1" strike="noStrike">
                <a:solidFill>
                  <a:srgbClr val="ffffff"/>
                </a:solidFill>
                <a:latin typeface="Arial"/>
              </a:rPr>
              <a:t>Borland</a:t>
            </a:r>
            <a:r>
              <a:rPr b="0" lang="en-US" sz="2000" spc="-1" strike="noStrike">
                <a:solidFill>
                  <a:srgbClr val="ffffff"/>
                </a:solidFill>
                <a:latin typeface="Arial"/>
              </a:rPr>
              <a:t> </a:t>
            </a:r>
            <a:r>
              <a:rPr b="0" lang="ar-SA" sz="2000" spc="-1" strike="noStrike">
                <a:solidFill>
                  <a:srgbClr val="ffffff"/>
                </a:solidFill>
                <a:latin typeface="Arial"/>
              </a:rPr>
              <a:t>، ولغة</a:t>
            </a:r>
            <a:r>
              <a:rPr b="0" lang="en-US" sz="2000" spc="-1" strike="noStrike">
                <a:solidFill>
                  <a:srgbClr val="ffffff"/>
                </a:solidFill>
                <a:latin typeface="Arial"/>
              </a:rPr>
              <a:t> </a:t>
            </a:r>
            <a:r>
              <a:rPr b="0" lang="en-US" sz="2000" spc="-1" strike="noStrike">
                <a:solidFill>
                  <a:srgbClr val="ffffff"/>
                </a:solidFill>
                <a:latin typeface="Arial"/>
              </a:rPr>
              <a:t>Foxpro</a:t>
            </a:r>
            <a:r>
              <a:rPr b="0" lang="en-US" sz="2000" spc="-1" strike="noStrike">
                <a:solidFill>
                  <a:srgbClr val="ffffff"/>
                </a:solidFill>
                <a:latin typeface="Arial"/>
              </a:rPr>
              <a:t> </a:t>
            </a:r>
            <a:r>
              <a:rPr b="0" lang="ar-SA" sz="2000" spc="-1" strike="noStrike">
                <a:solidFill>
                  <a:srgbClr val="ffffff"/>
                </a:solidFill>
                <a:latin typeface="Arial"/>
              </a:rPr>
              <a:t>من</a:t>
            </a:r>
            <a:r>
              <a:rPr b="0" lang="en-US" sz="2000" spc="-1" strike="noStrike">
                <a:solidFill>
                  <a:srgbClr val="ffffff"/>
                </a:solidFill>
                <a:latin typeface="Arial"/>
              </a:rPr>
              <a:t> </a:t>
            </a:r>
            <a:r>
              <a:rPr b="0" lang="en-US" sz="2000" spc="-1" strike="noStrike">
                <a:solidFill>
                  <a:srgbClr val="ffffff"/>
                </a:solidFill>
                <a:latin typeface="Arial"/>
              </a:rPr>
              <a:t>Microsoft</a:t>
            </a:r>
            <a:r>
              <a:rPr b="0" lang="en-US" sz="2000" spc="-1" strike="noStrike">
                <a:solidFill>
                  <a:srgbClr val="ffffff"/>
                </a:solidFill>
                <a:latin typeface="Arial"/>
              </a:rPr>
              <a:t> </a:t>
            </a:r>
            <a:r>
              <a:rPr b="0" lang="ar-SA" sz="2000" spc="-1" strike="noStrike">
                <a:solidFill>
                  <a:srgbClr val="ffffff"/>
                </a:solidFill>
                <a:latin typeface="Arial"/>
              </a:rPr>
              <a:t>، و</a:t>
            </a:r>
            <a:r>
              <a:rPr b="0" lang="en-US" sz="2000" spc="-1" strike="noStrike">
                <a:solidFill>
                  <a:srgbClr val="ffffff"/>
                </a:solidFill>
                <a:latin typeface="Arial"/>
              </a:rPr>
              <a:t> </a:t>
            </a:r>
            <a:r>
              <a:rPr b="0" lang="en-US" sz="2000" spc="-1" strike="noStrike">
                <a:solidFill>
                  <a:srgbClr val="ffffff"/>
                </a:solidFill>
                <a:latin typeface="Arial"/>
              </a:rPr>
              <a:t>Oracle</a:t>
            </a:r>
            <a:r>
              <a:rPr b="0" lang="en-US" sz="2000" spc="-1" strike="noStrike">
                <a:solidFill>
                  <a:srgbClr val="ffffff"/>
                </a:solidFill>
                <a:latin typeface="Arial"/>
              </a:rPr>
              <a:t> </a:t>
            </a:r>
            <a:r>
              <a:rPr b="0" lang="ar-SA" sz="2000" spc="-1" strike="noStrike">
                <a:solidFill>
                  <a:srgbClr val="ffffff"/>
                </a:solidFill>
                <a:latin typeface="Arial"/>
              </a:rPr>
              <a:t>من </a:t>
            </a:r>
            <a:r>
              <a:rPr b="0" lang="en-US" sz="2000" spc="-1" strike="noStrike">
                <a:solidFill>
                  <a:srgbClr val="ffffff"/>
                </a:solidFill>
                <a:latin typeface="Arial"/>
              </a:rPr>
              <a:t>Ing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أساليب البرمجة</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ناك ثلاثة أساليب للبرمجة: عشوائية – هيكلية – شيئية.</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500" spc="-1" strike="noStrike">
                <a:solidFill>
                  <a:srgbClr val="ffffff"/>
                </a:solidFill>
                <a:latin typeface="Arial"/>
              </a:rPr>
              <a:t>البرمجة العشوائية (</a:t>
            </a:r>
            <a:r>
              <a:rPr b="1" i="1" lang="en-US" sz="2500" spc="-1" strike="noStrike">
                <a:solidFill>
                  <a:srgbClr val="ffffff"/>
                </a:solidFill>
                <a:latin typeface="Arial"/>
              </a:rPr>
              <a:t>Random Programming</a:t>
            </a:r>
            <a:r>
              <a:rPr b="1" i="1" lang="ar-SA" sz="2500" spc="-1" strike="noStrike">
                <a:solidFill>
                  <a:srgbClr val="ffffff"/>
                </a:solidFill>
                <a:latin typeface="Arial"/>
              </a:rPr>
              <a:t>)</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يتم التركيز في هذا الأسلوب على حل المسألة برمجيا للوصول إلى الهدف دون النظر إلى عملية تنظيم البرنامج مما يؤدي إلى إنتاج برامج صعبة التطوير أو اكتشاف الأخطاء, ولا</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البرمجة الهيكلية (</a:t>
            </a:r>
            <a:r>
              <a:rPr b="1" i="1" lang="en-US" sz="2000" spc="-1" strike="noStrike">
                <a:solidFill>
                  <a:srgbClr val="ffffff"/>
                </a:solidFill>
                <a:latin typeface="Arial"/>
              </a:rPr>
              <a:t>Structured Programming</a:t>
            </a:r>
            <a:r>
              <a:rPr b="1" i="1" lang="ar-SA" sz="2000" spc="-1" strike="noStrike">
                <a:solidFill>
                  <a:srgbClr val="ffffff"/>
                </a:solidFill>
                <a:latin typeface="Arial"/>
              </a:rPr>
              <a:t>)</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تمد هذا الأسلوب على تجزئة البرنامج إلى عدة برامج جزئية أو فرعية حيث يتم الربط بين هذه البرامج الفرعية لتشكيل البرنامج العام ويحتاج هذا الأسلوب إلى تخطيط جيد وتظهر فاعليته في حالة المسائل متوسطة الحجم كما يسهل اكتشاف الأخطاء بهذا الأسلوب و إجراء عمليات التطوير بالإضافة إلى عدم تكرار المقاطع البرمجية.</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البرمجة الشيئية أو غرضية التوجيه (</a:t>
            </a:r>
            <a:r>
              <a:rPr b="1" i="1" lang="en-US" sz="2000" spc="-1" strike="noStrike">
                <a:solidFill>
                  <a:srgbClr val="ffffff"/>
                </a:solidFill>
                <a:latin typeface="Arial"/>
              </a:rPr>
              <a:t>Oriented Object Programming</a:t>
            </a:r>
            <a:r>
              <a:rPr b="1" i="1" lang="ar-SA" sz="2000" spc="-1" strike="noStrike">
                <a:solidFill>
                  <a:srgbClr val="ffffff"/>
                </a:solidFill>
                <a:latin typeface="Arial"/>
              </a:rPr>
              <a:t>)</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ذا الأسلوب الشائع حاليا وهو يحاكي الواقع ويعتمد فيه على بناء الكائنات التي تضم البيانات والإجراءات و ظهر هذا الأسلوب في بداية السبعينات حيث واجهت البرمجة الهيكلية عدة مشاكل منها عدم حماية البيانات وعدم القدرة على تمثيل الواقع وصعوبة تقسيم البرنامج إلى إجراءات. وقد اعتمد هذا الأسلوب على مفهوم الكائن والذي يمثل نمط جديد ( يشبه تعريف السجل) وينتج من دمج البيانات </a:t>
            </a:r>
            <a:r>
              <a:rPr b="0" lang="en-US" sz="2000" spc="-1" strike="noStrike">
                <a:solidFill>
                  <a:srgbClr val="ffffff"/>
                </a:solidFill>
                <a:latin typeface="Arial"/>
              </a:rPr>
              <a:t>Data</a:t>
            </a:r>
            <a:r>
              <a:rPr b="0" lang="ar-SA" sz="2000" spc="-1" strike="noStrike">
                <a:solidFill>
                  <a:srgbClr val="ffffff"/>
                </a:solidFill>
                <a:latin typeface="Arial"/>
              </a:rPr>
              <a:t> والإجراءات </a:t>
            </a:r>
            <a:r>
              <a:rPr b="0" lang="en-US" sz="2000" spc="-1" strike="noStrike">
                <a:solidFill>
                  <a:srgbClr val="ffffff"/>
                </a:solidFill>
                <a:latin typeface="Arial"/>
              </a:rPr>
              <a:t>Procedure</a:t>
            </a:r>
            <a:r>
              <a:rPr b="0" lang="ar-SA" sz="2000" spc="-1" strike="noStrike">
                <a:solidFill>
                  <a:srgbClr val="ffffff"/>
                </a:solidFill>
                <a:latin typeface="Arial"/>
              </a:rPr>
              <a:t>. وعند دراسة المشكلة يتم التركيز على الكائنات بدلا من الإجراءات ويؤدي إلى تطابق بين المفهوم البرمجي والواقع الفعلي للمشكلة</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3:02:16Z</dcterms:modified>
  <cp:revision>55</cp:revision>
  <dc:subject/>
  <dc:title>خوارزميات و مباديء برمجة</dc:title>
</cp:coreProperties>
</file>