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015D9-2E2E-4C27-8023-0D97ECF3F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86A89-B27D-479D-B5AE-E2C11F61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E4F131-003F-4B04-8E98-1C1C59F309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A6F672-8041-4C2F-92F8-5B5C06C06A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FECAA-9B22-4D54-8064-8C67E27FA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9EC406-D9B4-4F4C-A79D-2895F8D90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FDB34-B4C5-4D3B-AA7C-4A73E96D1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DD718E-789E-4DB9-BF77-A477562DB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209BC9-3467-44E1-851A-F08613325F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708953-8AED-4E44-A99C-1904E114B9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7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125009-1615-4E50-A5C6-BFEC1DBDD1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AB521B-BF3C-4749-8A95-B2EB7267D0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44348-B1B5-48FF-A631-E4905FF7E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6ACAA1-96BD-41C8-9F78-386F89CB0A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A4D0B3-8973-49D4-A762-3365779C5E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D7195D-698D-464B-9B07-DDC5B6F8D5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116A36-EEE5-46B4-AC26-2572AD14AC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12EAB6-6139-49B6-B691-0270A7024D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6847E1-F5C4-48DE-8319-C45ED3079A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E6C522-FD66-441B-8473-A5EB44D501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709AEE-1F08-481B-9447-49AC9A3B02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813503-A504-4A40-A892-AA2C1A1C80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A44989-1B01-4267-A170-F5A82D98F8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DCDA7-DDCF-4CB1-8BDE-E1A3CBB1E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1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259F29-6373-4DED-8314-49EAAB75F7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D4FF1B-E43F-4E9D-92A4-FD7B25D5AF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2ECE3A-9760-47CF-89A5-7589F48E8D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BD510D-1BA5-49A1-94BD-2EC467220A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81D1AA-60F7-42D2-8C46-6373791D46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3A6713-6870-4EEF-AB57-AF91315C46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114594-C63F-46D6-BA57-FA5D548949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DF9A16-19F1-4D88-9DC9-4BA4310E55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A6FDA3-3E77-4020-B47D-A3B6283DB1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63799D-494D-4178-AA2B-7F48725FBF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85F72-6A28-4B2D-B47C-012C48E6E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35DD17-9585-43EE-BEFF-9EC2461E6D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42470E-6402-467D-A2AD-BEB2CE2DC1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F36980-506F-4CA2-872C-CB8D834BF2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560197-EE32-4AD4-8ACD-1AE4CAD80A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6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7C3316-71C7-43A5-B214-729AFBEB39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7248ED-3C81-4458-BCFA-D307536077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B93854-56DC-4EA9-AC4D-A047CE29AC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FCCEFA-2FFB-4A93-A479-3B2D14A8B8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2C6513-B12E-4502-9B6B-B7287989E2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845F4B-1136-43CF-854F-51C902ABD3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1B2F6-3882-4D1A-8C46-5713A42FC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6BDFBB-27C7-49ED-8008-134DFE2DD5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5B541E-0FDF-476C-BAFC-3A980F9329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6199CD-9483-4DB5-9626-24F7004AA2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DAE487-598B-4E62-9E68-EF323B38D4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95A381-9291-4D5B-A78B-9011CEA862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0E0A029-07C0-424E-8472-BF927E4453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CF0B5B-C7C0-45BF-92C7-6D2F015D67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22F3C3-3F5B-471A-961E-5D174485BB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73A69E-208D-43F0-8127-C7F8A6567B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BF4CB2-5207-4C24-B171-B5320EAB2C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73E59-B85C-44C0-A270-AB3173547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806B02-5253-4895-8685-7A5D94A0D7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E36F69-D4B4-433B-B5DF-E596D86EEE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CF6833-5B01-4B10-B849-4244AD4C18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09A281-160D-47CA-838F-6B7D3F8A78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B485C7-F80B-4391-8B16-BF762DA4CB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4E4C652-C327-4F46-9837-81CA3F15454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200F4E-5C88-4DF2-BFCF-A0A908AB388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67824-47AE-4443-8910-1DDD32D0C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4B0B8-6302-40E8-B88A-DBCB025C8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CC9A4-096A-4B39-A4B2-8FA1C3B42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3309B-336F-45B7-8E7D-084463344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4C079-DDC1-4DB9-8655-F76737F5E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AAD34-9938-4AA8-9353-D5B354DD4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FDBA9-D94D-4B37-B98D-1CD48D2BD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DB4B4-8CE3-4C5F-98DE-20A198827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6B9A4-D3D8-4C1E-9848-BD985C705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0E43A-6CF3-4755-AA87-2C32F8999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AEE39-578C-4321-9106-1E1191837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524C9B-A42B-4E89-9C50-482E9CB99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B4226-FFA9-4B7C-B178-30E866773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93CFE-784A-4789-B787-82073B75F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9D53F-2008-436E-9973-03387D4AA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7D6E7-9EC8-4CDB-9BE8-7C7E35897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F33851-F502-4C80-A660-67CEADA4E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11023-E5CA-4C50-97CE-C2093358C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1226F-9A17-4E67-B5FD-EF4D2CB72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BE1FD-3BB7-41A9-9223-3B8876EB6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153FF-4AFE-469A-AFDD-12EE53E181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7E8ADD-127A-4DE5-8FDD-1BC4E9BE1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036456-9AAB-479E-B49C-1FFF9DF12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3A5712-E269-4113-B669-5A73932BF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2F8776-0497-4BBB-81E4-22A31C368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F54B60E-EBAA-4F40-A525-9CE12074F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8A55E-45C0-4099-BD43-36F44166A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3AA25D-8106-4F8E-A9EC-F163B894B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F8C9D8F-0268-4AC6-80A6-11903DDAE1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F8F04E-0339-4483-A7D3-5C0BD6718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8785B9-A96D-4116-910C-BB2C556FF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8B56B2-C3F0-4C5B-9CEC-2B2CF147C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1A115E-BBA3-45B1-A114-BC1B3E25A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A1483A-9EAF-478D-BCBA-B2A8DDFDF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D4D0F53-4BBC-47AD-99CB-F217D9486F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FE0A0D0-033E-46A1-A4D0-059393C4E9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CFF9A8-2B73-4580-BAAF-E190B167A7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45364-543F-4ED9-A206-598EB2F8E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1BA9F2-1EB9-4746-BEED-D919EE82E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7AE3E-7868-4201-901B-A40924E6DA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585CFA-AC41-41BF-A853-7798204A9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EF0330-E2C5-492C-9BBA-BB72E9807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4EC69-9AE7-4318-B2D9-61D8BD7C8D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FF890-4BA6-49A6-9D70-82167E293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8925E4-67C9-497F-B262-9017C9CC6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BA15D-9344-44C6-930D-4927F76EF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CEAF7D-F308-4A9F-909B-3111E3ED2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CAE979-330D-4C59-A53E-22F8599BD1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B987-D912-40DD-8EB4-5C4A1CF14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69AA10-E029-4DAC-8BB4-43D0A17D07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A45D74-270F-4E05-8BCD-0CEDE710D1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3FB2B-C839-4689-87A4-37BDAC75D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A6445-1C31-4BE4-B741-1F889A63CE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E8C3B-3B03-4051-886B-92B73231DC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2CED2-1EAD-4417-BE0C-35DBEDEC25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477FD1-977D-4AB9-A6C2-D79F2FF75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9EE6F-9CC8-4CA8-8A4D-31CD091C6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98BE2-5225-4E0E-BDD1-35D004B3B9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E75EC-85D9-47DA-B214-59A9FD08C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9AA0-E499-49B7-B248-B546F7DF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E93E81-9848-4612-94D7-D3DA5028FF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CE46A6-8843-4517-9199-EF2117F3D5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E46606-7B32-4B97-AADC-1E13CEFB6F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93636E-800B-476A-B8A7-DE3C1A873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5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C38C9-B7A0-4EAC-A090-6E91DC63EA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06E974-5CAD-4360-836B-76AB170264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92453E-C96B-4B98-8173-51585E44E0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8CE673-BC1C-4BEF-8FCB-441B478555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09FCD-1F15-4289-B56A-5E7B595E3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CFF78-2DCF-4BAC-80E0-4BBD5EA341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ECFE6-31D4-4248-AB3D-1BD29905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C05B6-B387-4F8C-BA25-C7B1CFFBC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BF87B-030D-407B-9BF8-7698631F4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A34286-7531-4A57-AEAD-E3E561BD3D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CE216C-1A6B-4064-8D1E-92195EA4E2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5764E2-15BA-4BBC-A9D6-3B5BB143BA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B4194A-415A-461F-B828-66D481656B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2551A0-8E63-4A81-AD4D-E7B4C1E59D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65C750-2E4C-4861-B502-3521A60C7D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A1492-FCA1-442A-BE9F-2C5CA4F527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16E9A-E606-4AD1-988B-BE07A0E435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845B-E494-48A3-A9EA-30007C9C1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2E58BA-46B4-4638-9848-5F886373D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1DDA8-D633-4957-B0AA-929E2E07C4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72BC9-B471-4B5D-AE89-91E802571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408FA-2246-4402-8984-935866EC71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F5E848-59C5-454D-B728-24667D898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5FAB33-338D-4D8E-8600-BC75DF92DE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F436B2-6150-4FB8-9646-D92168F919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811DD6-A0D5-4E7A-B13A-EF41B2DE75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5C02D2-6347-4C86-858E-1FBD8A3021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D1617B-991C-4C9F-9B37-913B7FAAE7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EBAE-2082-49E6-B686-7F3A8E81A98E}"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7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7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 name="PlaceHolder 3"/>
          <p:cNvSpPr>
            <a:spLocks noGrp="1"/>
          </p:cNvSpPr>
          <p:nvPr>
            <p:ph type="dt" idx="28"/>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7F2D-0C99-4961-9CD2-64E8EDD7AB1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2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2" name="PlaceHolder 3"/>
          <p:cNvSpPr>
            <a:spLocks noGrp="1"/>
          </p:cNvSpPr>
          <p:nvPr>
            <p:ph type="dt" idx="31"/>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D1FC-2937-4971-A2F5-FE1D786FC3A2}"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6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6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64" name="PlaceHolder 3"/>
          <p:cNvSpPr>
            <a:spLocks noGrp="1"/>
          </p:cNvSpPr>
          <p:nvPr>
            <p:ph type="dt" idx="3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8EC8-F1FA-44B2-9003-ED34B5144A1C}"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50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5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0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6" name="PlaceHolder 3"/>
          <p:cNvSpPr>
            <a:spLocks noGrp="1"/>
          </p:cNvSpPr>
          <p:nvPr>
            <p:ph type="dt" idx="37"/>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351C-53A8-4672-97CF-D20970C5DC2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3"/>
          <p:cNvSpPr>
            <a:spLocks noGrp="1"/>
          </p:cNvSpPr>
          <p:nvPr>
            <p:ph type="dt" idx="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3442-AF4D-4D5A-89D3-6D8114E22CF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3"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8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6" name="PlaceHolder 3"/>
          <p:cNvSpPr>
            <a:spLocks noGrp="1"/>
          </p:cNvSpPr>
          <p:nvPr>
            <p:ph type="dt" idx="7"/>
          </p:nvPr>
        </p:nvSpPr>
        <p:spPr>
          <a:xfrm>
            <a:off x="0" y="6706800"/>
            <a:ext cx="190512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692400"/>
            <a:ext cx="289584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7238880" y="6692400"/>
            <a:ext cx="1905120" cy="1652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7FA0-9F4D-4522-81E3-2A66421DB08E}" type="slidenum">
              <a:rPr b="0" lang="ar-SA"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2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8" name="PlaceHolder 3"/>
          <p:cNvSpPr>
            <a:spLocks noGrp="1"/>
          </p:cNvSpPr>
          <p:nvPr>
            <p:ph type="dt" idx="10"/>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sldNum" idx="11"/>
          </p:nvPr>
        </p:nvSpPr>
        <p:spPr>
          <a:xfrm>
            <a:off x="312408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9326-CE9C-4CE7-82AF-40B8EEC0718F}"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130" name="PlaceHolder 5"/>
          <p:cNvSpPr>
            <a:spLocks noGrp="1"/>
          </p:cNvSpPr>
          <p:nvPr>
            <p:ph type="ftr" idx="12"/>
          </p:nvPr>
        </p:nvSpPr>
        <p:spPr>
          <a:xfrm>
            <a:off x="6248160" y="6552720"/>
            <a:ext cx="2894040" cy="2336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c000"/>
                </a:solidFill>
                <a:latin typeface="Times New Roman"/>
                <a:cs typeface="Traditional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c000"/>
                </a:solidFill>
                <a:latin typeface="Times New Roman"/>
                <a:cs typeface="Traditional Arabic"/>
              </a:rPr>
              <a:t>إعداد / أ. محمود رفيق حمدي الفرا </a:t>
            </a:r>
            <a:r>
              <a:rPr b="1" lang="ar-SA" sz="1400" spc="-1" strike="noStrike">
                <a:solidFill>
                  <a:srgbClr val="ffc000"/>
                </a:solidFill>
                <a:latin typeface="Times New Roman"/>
                <a:ea typeface="Traditional Arabic"/>
              </a:rPr>
              <a:t>2010</a:t>
            </a:r>
            <a:r>
              <a:rPr b="1" lang="ar-SA" sz="1400" spc="-1" strike="noStrike">
                <a:solidFill>
                  <a:srgbClr val="ffc000"/>
                </a:solidFill>
                <a:latin typeface="Times New Roman"/>
                <a:ea typeface="Traditional Arabic"/>
              </a:rPr>
              <a:t>-</a:t>
            </a:r>
            <a:r>
              <a:rPr b="1" lang="ar-SA" sz="1400" spc="-1" strike="noStrike">
                <a:solidFill>
                  <a:srgbClr val="ffc000"/>
                </a:solidFill>
                <a:latin typeface="Times New Roman"/>
                <a:ea typeface="Traditional Arabic"/>
              </a:rPr>
              <a:t>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6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70" name="PlaceHolder 3"/>
          <p:cNvSpPr>
            <a:spLocks noGrp="1"/>
          </p:cNvSpPr>
          <p:nvPr>
            <p:ph type="dt" idx="13"/>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10E9-5BAF-4B87-9706-D9CE93017C4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0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1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12" name="PlaceHolder 3"/>
          <p:cNvSpPr>
            <a:spLocks noGrp="1"/>
          </p:cNvSpPr>
          <p:nvPr>
            <p:ph type="dt" idx="16"/>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B189-3604-426F-BC07-C4B121DE9D66}"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5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5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4" name="PlaceHolder 3"/>
          <p:cNvSpPr>
            <a:spLocks noGrp="1"/>
          </p:cNvSpPr>
          <p:nvPr>
            <p:ph type="dt" idx="19"/>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D96D-860A-4C1E-8AB0-92841B664F02}"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9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9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6" name="PlaceHolder 3"/>
          <p:cNvSpPr>
            <a:spLocks noGrp="1"/>
          </p:cNvSpPr>
          <p:nvPr>
            <p:ph type="dt" idx="22"/>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83EC-2DD4-405B-BF9B-4ECE25E8002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3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3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8" name="PlaceHolder 3"/>
          <p:cNvSpPr>
            <a:spLocks noGrp="1"/>
          </p:cNvSpPr>
          <p:nvPr>
            <p:ph type="dt" idx="25"/>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C16C-9370-4EB9-9A25-A6565FE1931E}"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30320" y="6095520"/>
            <a:ext cx="3070080" cy="3812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9"/>
                </a:solidFill>
                <a:latin typeface="Arial"/>
                <a:cs typeface="Traditional Arabic"/>
              </a:rPr>
              <a:t>إعداد و تدريس/ </a:t>
            </a:r>
            <a:r>
              <a:rPr b="1" lang="ar-IQ" sz="2000" spc="-1" strike="noStrike">
                <a:solidFill>
                  <a:srgbClr val="ffff99"/>
                </a:solidFill>
                <a:latin typeface="Arial"/>
                <a:cs typeface="Traditional Arabic"/>
              </a:rPr>
              <a:t>صباح عبدالمطلب</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4"/>
          <p:cNvSpPr/>
          <p:nvPr/>
        </p:nvSpPr>
        <p:spPr>
          <a:xfrm>
            <a:off x="7346520" y="6323040"/>
            <a:ext cx="16999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8</a:t>
            </a: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9</a:t>
            </a:r>
            <a:endParaRPr b="0" lang="en-US" sz="2000" spc="-1" strike="noStrike">
              <a:solidFill>
                <a:srgbClr val="000000"/>
              </a:solidFill>
              <a:latin typeface="Arial"/>
            </a:endParaRPr>
          </a:p>
        </p:txBody>
      </p:sp>
      <p:sp>
        <p:nvSpPr>
          <p:cNvPr id="547" name="TextBox 5"/>
          <p:cNvSpPr/>
          <p:nvPr/>
        </p:nvSpPr>
        <p:spPr>
          <a:xfrm>
            <a:off x="395280" y="1838160"/>
            <a:ext cx="624060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c000"/>
                </a:solidFill>
                <a:latin typeface="Arial"/>
                <a:cs typeface="Traditional Arabic"/>
              </a:rPr>
              <a:t>المحاضرة </a:t>
            </a:r>
            <a:r>
              <a:rPr b="1" lang="ar-SA" sz="4400" spc="-1" strike="noStrike">
                <a:solidFill>
                  <a:srgbClr val="ffc000"/>
                </a:solidFill>
                <a:latin typeface="Arial"/>
                <a:cs typeface="Traditional Arabic"/>
              </a:rPr>
              <a:t>ال</a:t>
            </a:r>
            <a:r>
              <a:rPr b="1" lang="ar-IQ" sz="4400" spc="-1" strike="noStrike">
                <a:solidFill>
                  <a:srgbClr val="ffc000"/>
                </a:solidFill>
                <a:latin typeface="Arial"/>
                <a:cs typeface="Traditional Arabic"/>
              </a:rPr>
              <a:t>تاسعة</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Arial"/>
              </a:rPr>
              <a:t>الويندوز</a:t>
            </a:r>
            <a:endParaRPr b="0" lang="en-US" sz="4400" spc="-1" strike="noStrike">
              <a:solidFill>
                <a:srgbClr val="000000"/>
              </a:solidFill>
              <a:latin typeface="Arial"/>
            </a:endParaRPr>
          </a:p>
        </p:txBody>
      </p:sp>
      <p:sp>
        <p:nvSpPr>
          <p:cNvPr id="5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8"/>
          <p:cNvSpPr/>
          <p:nvPr/>
        </p:nvSpPr>
        <p:spPr>
          <a:xfrm>
            <a:off x="-218880" y="189000"/>
            <a:ext cx="200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cs typeface="Traditional Arabic"/>
              </a:rPr>
              <a:t>المرحلة الاول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569" name="صورة 10" descr=""/>
          <p:cNvPicPr/>
          <p:nvPr/>
        </p:nvPicPr>
        <p:blipFill>
          <a:blip r:embed="rId1"/>
          <a:stretch/>
        </p:blipFill>
        <p:spPr>
          <a:xfrm>
            <a:off x="2139840" y="2703600"/>
            <a:ext cx="5742000" cy="271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571" name="" descr=""/>
          <p:cNvPicPr/>
          <p:nvPr/>
        </p:nvPicPr>
        <p:blipFill>
          <a:blip r:embed="rId1"/>
          <a:stretch/>
        </p:blipFill>
        <p:spPr>
          <a:xfrm>
            <a:off x="1234800" y="1584000"/>
            <a:ext cx="7551720" cy="495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234800" y="1584000"/>
            <a:ext cx="7551720" cy="4956120"/>
          </a:xfrm>
          <a:prstGeom prst="rect">
            <a:avLst/>
          </a:prstGeom>
          <a:noFill/>
          <a:ln w="0">
            <a:noFill/>
          </a:ln>
        </p:spPr>
        <p:txBody>
          <a:bodyPr anchor="t">
            <a:normAutofit/>
          </a:bodyPr>
          <a:p>
            <a:pPr marL="341280" indent="-34128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عد هذا النظام من اسهل وافضل الانظمة لانه يوفر سهولة الاستخدام وسرعة التنفيذ والتنقل بين التطبيقات المختلفة .وسمي نظام ويندوز لانه على شكل عدة نوافذ معتمدة على البيئة الرسومية حيث يتم تشغيل كل برنامج في نافذة مستقلة ويمكن تشغيل اكثر من برنامج ويتم التعامل معها في وقت واحد لذلك يسمى الويندوز بنظام متعدد المهام</a:t>
            </a:r>
            <a:endParaRPr b="0" lang="en-US" sz="2000" spc="-1" strike="noStrike">
              <a:solidFill>
                <a:srgbClr val="ffffff"/>
              </a:solidFill>
              <a:latin typeface="Arial"/>
            </a:endParaRPr>
          </a:p>
        </p:txBody>
      </p:sp>
      <p:sp>
        <p:nvSpPr>
          <p:cNvPr id="5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صورة 25" descr=""/>
          <p:cNvPicPr/>
          <p:nvPr/>
        </p:nvPicPr>
        <p:blipFill>
          <a:blip r:embed="rId1"/>
          <a:srcRect l="0" t="63440" r="0" b="6729"/>
          <a:stretch/>
        </p:blipFill>
        <p:spPr>
          <a:xfrm>
            <a:off x="1708200" y="3483000"/>
            <a:ext cx="660564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02920" y="1557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زايا نظام التشغيل </a:t>
            </a:r>
            <a:r>
              <a:rPr b="1" lang="en-US" sz="2000" spc="-1" strike="noStrike">
                <a:solidFill>
                  <a:srgbClr val="ffffff"/>
                </a:solidFill>
                <a:latin typeface="Arial"/>
              </a:rPr>
              <a:t>Windows</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 له واجهة استخدام رسومية تستخدم فيها الصور والكلمات والرموز على الشاشة ويمكن التحكم بها باستخدام الفأرة او لوحة المفاتيح او غيرها من اجهزة الادخال المتنوعة.</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 يدعم استخدام البرامج التطبيقية لمعالجة الرسوم الثابتة والمتحركة والنصوص</a:t>
            </a:r>
            <a:r>
              <a:rPr b="0" lang="en-US"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المقدرة على عرض عدة مستندات وتشغيل عدة برامج بوقت واحد.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 يدعم استخدام اكثر من معالج لتنفيذ عدة عمليات في وقت واحد.</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5</a:t>
            </a:r>
            <a:r>
              <a:rPr b="0" lang="ar-SA" sz="2000" spc="-1" strike="noStrike">
                <a:solidFill>
                  <a:srgbClr val="ffffff"/>
                </a:solidFill>
                <a:latin typeface="Arial"/>
              </a:rPr>
              <a:t>- يمكن استخدام نظام الدوس عن طريقه.</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6</a:t>
            </a:r>
            <a:r>
              <a:rPr b="0" lang="ar-SA" sz="2000" spc="-1" strike="noStrike">
                <a:solidFill>
                  <a:srgbClr val="ffffff"/>
                </a:solidFill>
                <a:latin typeface="Arial"/>
              </a:rPr>
              <a:t>- یدعم تعددیة المستخدمین عن طريق انشاء حساب لكل مستخدم والتبديل بينهم عن طريق تسجيل الخروج </a:t>
            </a:r>
            <a:r>
              <a:rPr b="0" lang="en-US" sz="2000" spc="-1" strike="noStrike">
                <a:solidFill>
                  <a:srgbClr val="ffffff"/>
                </a:solidFill>
                <a:latin typeface="Arial"/>
              </a:rPr>
              <a:t>\</a:t>
            </a:r>
            <a:r>
              <a:rPr b="0" lang="ar-IQ" sz="2000" spc="-1" strike="noStrike">
                <a:solidFill>
                  <a:srgbClr val="ffffff"/>
                </a:solidFill>
                <a:latin typeface="Arial"/>
              </a:rPr>
              <a:t>تبديل المستخدم</a:t>
            </a:r>
            <a:endParaRPr b="0" lang="en-US" sz="2000" spc="-1" strike="noStrike">
              <a:solidFill>
                <a:srgbClr val="ffffff"/>
              </a:solidFill>
              <a:latin typeface="Arial"/>
            </a:endParaRPr>
          </a:p>
        </p:txBody>
      </p:sp>
      <p:sp>
        <p:nvSpPr>
          <p:cNvPr id="5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556" name="" descr=""/>
          <p:cNvPicPr/>
          <p:nvPr/>
        </p:nvPicPr>
        <p:blipFill>
          <a:blip r:embed="rId1"/>
          <a:stretch/>
        </p:blipFill>
        <p:spPr>
          <a:xfrm>
            <a:off x="1234800" y="1584000"/>
            <a:ext cx="7551720" cy="4956120"/>
          </a:xfrm>
          <a:prstGeom prst="rect">
            <a:avLst/>
          </a:prstGeom>
          <a:ln w="0">
            <a:noFill/>
          </a:ln>
        </p:spPr>
      </p:pic>
      <p:pic>
        <p:nvPicPr>
          <p:cNvPr id="557" name="صورة 1" descr=""/>
          <p:cNvPicPr/>
          <p:nvPr/>
        </p:nvPicPr>
        <p:blipFill>
          <a:blip r:embed="rId2"/>
          <a:srcRect l="0" t="0" r="0" b="7155"/>
          <a:stretch/>
        </p:blipFill>
        <p:spPr>
          <a:xfrm>
            <a:off x="1763640" y="1773360"/>
            <a:ext cx="4880160" cy="215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9"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كونات ال</a:t>
            </a:r>
            <a:r>
              <a:rPr b="1" lang="ar-IQ" sz="2000" spc="-1" strike="noStrike">
                <a:solidFill>
                  <a:srgbClr val="ffffff"/>
                </a:solidFill>
                <a:latin typeface="Arial"/>
              </a:rPr>
              <a:t>نافذة الرئيسية </a:t>
            </a:r>
            <a:r>
              <a:rPr b="1" lang="ar-SA" sz="2000" spc="-1" strike="noStrike">
                <a:solidFill>
                  <a:srgbClr val="ffffff"/>
                </a:solidFill>
                <a:latin typeface="Arial"/>
              </a:rPr>
              <a:t>للنظام </a:t>
            </a:r>
            <a:r>
              <a:rPr b="1" lang="en-US" sz="2000" spc="-1" strike="noStrike">
                <a:solidFill>
                  <a:srgbClr val="ffffff"/>
                </a:solidFill>
                <a:latin typeface="Arial"/>
              </a:rPr>
              <a:t>Windows</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sk top -1</a:t>
            </a:r>
            <a:r>
              <a:rPr b="0" lang="en-US" sz="2000" spc="-1" strike="noStrike">
                <a:solidFill>
                  <a:srgbClr val="ffffff"/>
                </a:solidFill>
                <a:latin typeface="Arial"/>
              </a:rPr>
              <a:t> </a:t>
            </a:r>
            <a:r>
              <a:rPr b="0" lang="ar-SA" sz="2000" spc="-1" strike="noStrike">
                <a:solidFill>
                  <a:srgbClr val="ffffff"/>
                </a:solidFill>
                <a:latin typeface="Arial"/>
              </a:rPr>
              <a:t>سطح المكتب وهو المساحة الخلفية للشاشة الظاهرة ويكون بلون ازرق او احد الصور وتتجمع عليه كافة الايقونات</a:t>
            </a:r>
            <a:r>
              <a:rPr b="0" lang="en-US"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ons -2</a:t>
            </a:r>
            <a:r>
              <a:rPr b="0" lang="en-US" sz="2000" spc="-1" strike="noStrike">
                <a:solidFill>
                  <a:srgbClr val="ffffff"/>
                </a:solidFill>
                <a:latin typeface="Arial"/>
              </a:rPr>
              <a:t> </a:t>
            </a:r>
            <a:r>
              <a:rPr b="0" lang="ar-SA" sz="2000" spc="-1" strike="noStrike">
                <a:solidFill>
                  <a:srgbClr val="ffffff"/>
                </a:solidFill>
                <a:latin typeface="Arial"/>
              </a:rPr>
              <a:t>الايقونات وهي صور صغيرة تمثل البرامج المتاح تشغيلها وتنفيذها مباشرة من سطح المكتب</a:t>
            </a:r>
            <a:r>
              <a:rPr b="0" lang="en-US"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bar -3</a:t>
            </a:r>
            <a:r>
              <a:rPr b="0" lang="en-US" sz="2000" spc="-1" strike="noStrike">
                <a:solidFill>
                  <a:srgbClr val="ffffff"/>
                </a:solidFill>
                <a:latin typeface="Arial"/>
              </a:rPr>
              <a:t> </a:t>
            </a:r>
            <a:r>
              <a:rPr b="0" lang="ar-SA" sz="2000" spc="-1" strike="noStrike">
                <a:solidFill>
                  <a:srgbClr val="ffffff"/>
                </a:solidFill>
                <a:latin typeface="Arial"/>
              </a:rPr>
              <a:t>شريط المهام وهو شريط ممتد افقيا اسفل الشاشة ويحتوي على زر</a:t>
            </a:r>
            <a:r>
              <a:rPr b="0" lang="en-US" sz="2000" spc="-1" strike="noStrike">
                <a:solidFill>
                  <a:srgbClr val="ffffff"/>
                </a:solidFill>
                <a:latin typeface="Arial"/>
              </a:rPr>
              <a:t> </a:t>
            </a:r>
            <a:r>
              <a:rPr b="0" lang="en-US" sz="2000" spc="-1" strike="noStrike">
                <a:solidFill>
                  <a:srgbClr val="ffffff"/>
                </a:solidFill>
                <a:latin typeface="Arial"/>
              </a:rPr>
              <a:t>Start</a:t>
            </a:r>
            <a:r>
              <a:rPr b="0" lang="en-US" sz="2000" spc="-1" strike="noStrike">
                <a:solidFill>
                  <a:srgbClr val="ffffff"/>
                </a:solidFill>
                <a:latin typeface="Arial"/>
              </a:rPr>
              <a:t> </a:t>
            </a:r>
            <a:r>
              <a:rPr b="0" lang="ar-SA" sz="2000" spc="-1" strike="noStrike">
                <a:solidFill>
                  <a:srgbClr val="ffffff"/>
                </a:solidFill>
                <a:latin typeface="Arial"/>
              </a:rPr>
              <a:t>ويعرض الوقت ورمز اللغة المستخدمة وتتوضح فيه اسماء النوافذ والبرامج قيد الاشتغال</a:t>
            </a:r>
            <a:r>
              <a:rPr b="0" lang="en-US"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4</a:t>
            </a:r>
            <a:r>
              <a:rPr b="0" lang="en-US" sz="2000" spc="-1" strike="noStrike">
                <a:solidFill>
                  <a:srgbClr val="ffffff"/>
                </a:solidFill>
                <a:latin typeface="Arial"/>
              </a:rPr>
              <a:t> </a:t>
            </a:r>
            <a:r>
              <a:rPr b="0" lang="ar-SA" sz="2000" spc="-1" strike="noStrike">
                <a:solidFill>
                  <a:srgbClr val="ffffff"/>
                </a:solidFill>
                <a:latin typeface="Arial"/>
              </a:rPr>
              <a:t>زر وهو زر انطلاق العمل على الكومبيوتر ويحتوي قائمة</a:t>
            </a:r>
            <a:r>
              <a:rPr b="0" lang="en-US" sz="2000" spc="-1" strike="noStrike">
                <a:solidFill>
                  <a:srgbClr val="ffffff"/>
                </a:solidFill>
                <a:latin typeface="Arial"/>
              </a:rPr>
              <a:t>(</a:t>
            </a:r>
            <a:r>
              <a:rPr b="0" lang="en-US" sz="2000" spc="-1" strike="noStrike">
                <a:solidFill>
                  <a:srgbClr val="ffffff"/>
                </a:solidFill>
                <a:latin typeface="Arial"/>
              </a:rPr>
              <a:t>Start menu</a:t>
            </a:r>
            <a:r>
              <a:rPr b="0" lang="en-US" sz="2000" spc="-1" strike="noStrike">
                <a:solidFill>
                  <a:srgbClr val="ffffff"/>
                </a:solidFill>
                <a:latin typeface="Arial"/>
              </a:rPr>
              <a:t>)  </a:t>
            </a:r>
            <a:r>
              <a:rPr b="0" lang="ar-SA" sz="2000" spc="-1" strike="noStrike">
                <a:solidFill>
                  <a:srgbClr val="ffffff"/>
                </a:solidFill>
                <a:latin typeface="Arial"/>
              </a:rPr>
              <a:t>تتضمن اسماء البرامج  والتطبيقات</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561" name="" descr=""/>
          <p:cNvPicPr/>
          <p:nvPr/>
        </p:nvPicPr>
        <p:blipFill>
          <a:blip r:embed="rId1"/>
          <a:stretch/>
        </p:blipFill>
        <p:spPr>
          <a:xfrm>
            <a:off x="1234800" y="1584000"/>
            <a:ext cx="7551720" cy="4956120"/>
          </a:xfrm>
          <a:prstGeom prst="rect">
            <a:avLst/>
          </a:prstGeom>
          <a:ln w="0">
            <a:noFill/>
          </a:ln>
        </p:spPr>
      </p:pic>
      <p:pic>
        <p:nvPicPr>
          <p:cNvPr id="562" name="صورة 21" descr=""/>
          <p:cNvPicPr/>
          <p:nvPr/>
        </p:nvPicPr>
        <p:blipFill>
          <a:blip r:embed="rId2"/>
          <a:stretch/>
        </p:blipFill>
        <p:spPr>
          <a:xfrm>
            <a:off x="1187280" y="1700280"/>
            <a:ext cx="6681960" cy="349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564" name="" descr=""/>
          <p:cNvPicPr/>
          <p:nvPr/>
        </p:nvPicPr>
        <p:blipFill>
          <a:blip r:embed="rId1"/>
          <a:stretch/>
        </p:blipFill>
        <p:spPr>
          <a:xfrm>
            <a:off x="1234800" y="1584000"/>
            <a:ext cx="7551720" cy="4956120"/>
          </a:xfrm>
          <a:prstGeom prst="rect">
            <a:avLst/>
          </a:prstGeom>
          <a:ln w="0">
            <a:noFill/>
          </a:ln>
        </p:spPr>
      </p:pic>
      <p:pic>
        <p:nvPicPr>
          <p:cNvPr id="565" name="صورة 22" descr=""/>
          <p:cNvPicPr/>
          <p:nvPr/>
        </p:nvPicPr>
        <p:blipFill>
          <a:blip r:embed="rId2"/>
          <a:srcRect l="0" t="15551" r="0" b="0"/>
          <a:stretch/>
        </p:blipFill>
        <p:spPr>
          <a:xfrm>
            <a:off x="1187280" y="1600200"/>
            <a:ext cx="5446800" cy="40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7" name=""/>
          <p:cNvSpPr txBox="1"/>
          <p:nvPr/>
        </p:nvSpPr>
        <p:spPr>
          <a:xfrm>
            <a:off x="1234800" y="1584000"/>
            <a:ext cx="7551720" cy="4956120"/>
          </a:xfrm>
          <a:prstGeom prst="rect">
            <a:avLst/>
          </a:prstGeom>
          <a:noFill/>
          <a:ln w="0">
            <a:noFill/>
          </a:ln>
        </p:spPr>
        <p:txBody>
          <a:bodyPr anchor="t">
            <a:normAutofit/>
          </a:bodyPr>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لف  </a:t>
            </a:r>
            <a:r>
              <a:rPr b="1" lang="en-US" sz="1800" spc="-1" strike="noStrike">
                <a:solidFill>
                  <a:srgbClr val="ffffff"/>
                </a:solidFill>
                <a:latin typeface="Arial"/>
              </a:rPr>
              <a:t>File</a:t>
            </a:r>
            <a:r>
              <a:rPr b="1" lang="ar-SA" sz="1800" spc="-1" strike="noStrike">
                <a:solidFill>
                  <a:srgbClr val="ffffff"/>
                </a:solidFill>
                <a:latin typeface="Arial"/>
              </a:rPr>
              <a:t>  </a:t>
            </a:r>
            <a:endParaRPr b="0" lang="en-US" sz="1800" spc="-1" strike="noStrike">
              <a:solidFill>
                <a:srgbClr val="ffffff"/>
              </a:solidFill>
              <a:latin typeface="Arial"/>
            </a:endParaRPr>
          </a:p>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عتبر الملفات وحدة المحتويات الاصغر في جهاز الحاسوب حيث يتميز كل ملف بصفات تميزه عن غيره من ناحية المحتويات او طريقة التشغيل .عندما نقوم بخزن المعلومات في احد الاقراص فان الحاسوب يقوم بحفظ المعلومات على هيئة ملف منفصل حيث تشبه هذه العملية تماما عملية حفظ كافة اوراق احد التقارير في اضبارة واحدة ونختار اسم معين لهذه الاضبارة . اما المجلد (الفولدر</a:t>
            </a:r>
            <a:r>
              <a:rPr b="0" lang="en-US" sz="1800" spc="-1" strike="noStrike">
                <a:solidFill>
                  <a:srgbClr val="ffffff"/>
                </a:solidFill>
                <a:latin typeface="Arial"/>
              </a:rPr>
              <a:t>Folder</a:t>
            </a:r>
            <a:r>
              <a:rPr b="0" lang="en-US" sz="1800" spc="-1" strike="noStrike">
                <a:solidFill>
                  <a:srgbClr val="ffffff"/>
                </a:solidFill>
                <a:latin typeface="Arial"/>
              </a:rPr>
              <a:t> </a:t>
            </a:r>
            <a:r>
              <a:rPr b="0" lang="ar-SA" sz="1800" spc="-1" strike="noStrike">
                <a:solidFill>
                  <a:srgbClr val="ffffff"/>
                </a:solidFill>
                <a:latin typeface="Arial"/>
              </a:rPr>
              <a:t>) فهو قد يحتوي عل ملف او اكثر حتى تجعل عملية ترتيب وتصنيف الملفات اسهل وهي احدى ميزات الانظمة الحديثة.</a:t>
            </a:r>
            <a:endParaRPr b="0" lang="en-US" sz="1800" spc="-1" strike="noStrike">
              <a:solidFill>
                <a:srgbClr val="ffffff"/>
              </a:solidFill>
              <a:latin typeface="Arial"/>
            </a:endParaRPr>
          </a:p>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ن اسم الملف يتكون من جزئين يفص بينهما نقطة فالجزء الاول هو اسم الملف حتى يمكن تمييز الملفات عن بعضها البعض ضمن نفس النوع. والجزء الثاني يسمى الامتداد لكي يميز نوع هذا الملف هل هو نصي</a:t>
            </a:r>
            <a:r>
              <a:rPr b="0" lang="ar-IQ" sz="1800" spc="-1" strike="noStrike">
                <a:solidFill>
                  <a:srgbClr val="ffffff"/>
                </a:solidFill>
                <a:latin typeface="Arial"/>
              </a:rPr>
              <a:t> فقط</a:t>
            </a:r>
            <a:r>
              <a:rPr b="0" lang="ar-SA" sz="1800" spc="-1" strike="noStrike">
                <a:solidFill>
                  <a:srgbClr val="ffffff"/>
                </a:solidFill>
                <a:latin typeface="Arial"/>
              </a:rPr>
              <a:t> (كتابة) او نصي مدعم (كتابة مع صور) والذي يعمل بواسطة برنامج الورد او صورة او ملف فيديوي ..الخ. بذلك انه يمكن لملفين ان يحملا نفس الاسم  بالنوع المختلف ,لكن لايمكن ان يحمل ملفين نفس الاسم ونفس الامتدا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8:00:34Z</dcterms:created>
  <dc:creator>OneWay2Allah</dc:creator>
  <dc:description/>
  <dc:language>en-US</dc:language>
  <cp:lastModifiedBy>sony</cp:lastModifiedBy>
  <dcterms:modified xsi:type="dcterms:W3CDTF">2018-12-17T22:57:53Z</dcterms:modified>
  <cp:revision>54</cp:revision>
  <dc:subject/>
  <dc:title>خوارزميات و مباديء برمجة</dc:title>
</cp:coreProperties>
</file>