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D9F4D-B71D-4625-A942-FE390A670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5B403-BA2F-4D54-AF35-B3C90BF67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86237-55C7-46EB-A01C-40A24ED93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9C4AD-D931-4B02-9D78-D12BEE89FA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5CB5B4-C78F-4AF7-AD39-AF1F9120EC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1C5F8-5EA4-4BF4-A5C8-37C89280E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20397D-4F29-4A42-88C7-B6FFEAF19E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088A7E-8617-4559-8141-FE54D802D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D462DF-61AE-4616-BCB8-55AC6F0D16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38A7E3-765F-4E12-B4E8-A63F90AFCC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3208E8-A6C8-46F1-859D-98E12C5FBB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AF12E7F-CD18-4C88-A5AE-1A6293C0D0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0D047-FBBC-48E7-91D1-84A7503BF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AFAB971-0365-4B3C-B170-36EDDDCED6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044FA0-471A-4D4A-BCEE-365F3DAD8E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B741AD1-6011-4CC3-95C6-49A6A699EB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B5B077F-BD3D-40C7-939A-0AD13303BB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318766-E119-490B-82AA-188D60572C8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318A29-051A-49DB-9921-EA5B3804BA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052FB9-94A7-4C2F-A9A2-3996FA0324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000AC4-790F-4E35-8950-74DCAE088C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61C102-F7B7-457B-9A77-A6B806501F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CB25E4A-511C-4210-BE96-523B8D63BB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75D9A-B632-481E-9156-C5E9536B0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C9E3B27-8FDC-4E40-A559-5EF292CB89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D28097-F40A-4A5E-8791-6DE4326B3A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ED4F95-14C3-481D-BC1B-31C934D17B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694E0B-4B00-40DC-B239-4C8D1B1FD0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68ED00-D3D5-4CB8-8989-28E25774C5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EC4B51-BB84-4CBB-8400-8DDE13C844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BCAA576-B076-483E-BC40-E75A04509E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98D2EE-4FC8-48FF-9125-A6113FFA20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5DC33C-C97A-4277-979E-201C47D230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29AA35-0FF9-4E7B-966B-C07EC2ECED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055824-6C08-401C-8F2E-71579D7C2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FD59DF-6EA6-4580-A191-2AA910E350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56D57F-22DC-448C-94B9-963C398A136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BD79F5-C5DF-4A0A-99AC-0F2F33C9A3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70373F-40BA-432A-8F09-A2F9B71C47A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18AC81-F8F1-4E02-8CCE-61E3B43C28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1C8CA00-F104-4272-84DF-CFD400EF4B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966140-9EF3-4867-B0AE-88690B8C28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9C4285-DA07-41F4-A3BA-F1BA1226CE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7C58D1-1587-4A9B-8AED-A043F142E7F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80620E-1B82-43C7-BBF0-6EC8B4E482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82680-2580-426E-B2B9-0A2926FFF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81E495-3995-4A5A-8EE2-9FE3464DC7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6F29F3-5C46-4011-B911-4E0CA9BE25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FF13E1-4787-4C8D-9756-C74F234502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046746-0F9C-4260-ADA8-430C9EF6C4E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089DCF-8451-4897-8295-81740618A84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16D8A05-D46B-4075-B691-76443A22CA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E447742-64C6-4031-BE15-93695ACA25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8CBB2F-A99C-4DF0-950C-DA8D110481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F5B3FE-0EC9-4283-91B0-8C1CF6D8B9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7F7E3D-BAF5-44C5-8702-D2E7975BFC9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00E14-8618-419C-BAF1-51544100B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540D745-7D25-4B6E-A8C9-44010AC7D9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BBA3840-7AFE-4FA4-9A75-F2161183CE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770CCF-2B66-4909-A746-56EF86DE74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273C385-29B6-486D-8787-8C2AE485F2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5620B3A-040C-491A-B561-98D9D80657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3B7C05-518B-4901-A061-51BA95FDE49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E998697-EC92-4804-9694-F065D0998B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6853F-D96E-4FAC-9D8E-5FBC3487A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6416-B53C-427B-B65F-83E8D675B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52798-4F86-40C4-8CEB-6B5C3E0F7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48E24-1811-442C-BA47-156D7C7D2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0D2F3-CCBB-4BA7-8B4B-CBEBE1339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668C0-AD92-495E-8E9D-4460A9A68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5EB13-1434-4CDA-89A9-6455332E1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12813-B490-4541-B9A2-8544D1516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C825B-BDC2-40F5-BC60-54055F57C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ADAFD-5C00-4DED-A7A9-0FC7D0357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DD3CA3-9994-40CA-87C1-6E2166E33C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2669B-1021-40AF-A406-9515551E5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948FF-A696-41B6-AB74-9E45D3AB5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BD931-3975-47AE-B276-CA56967DEA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69EB57-3778-477F-BD9B-560449358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244E8-F6BA-42C6-B286-FD1139B47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70DD9B-9442-4859-8FE4-2E642D4107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B01CFB-0EF2-4F0E-A17B-392CA21DD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2B8C64-5BCF-42F4-AF9C-2248D4A6FD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B96ACA-D676-424E-BF8D-D272C4BEB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D65EF-95F2-4916-8213-B7E03358BB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97C0D2-1671-4906-B451-5540A487D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FC6760-922D-4CAB-8103-7F6050C9A8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F080EA-7085-4102-A740-4723F960A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AABD495-E40C-4B48-A7C0-5C702529C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FF5423-5CC7-45D0-BE35-461EE08C55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7EA8-4E4B-4FA0-853A-2D7F6960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65DEE66-5EE5-4854-97DC-6FCFDE2E5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AA66554-655E-4D6D-9896-BBF2CCDCEA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F0A04F-86CA-4939-87D6-15AA27FB2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A1DC13-C2F6-48CD-8BDF-CE712691F4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C04F84-C27D-4EBA-8C2D-54C0B1468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FD3172-71DA-4681-9550-3DF7A5A8D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7C2EA48-91D8-41A1-8204-8D5F2D095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3FA6A7-6B4F-4DD6-BEAD-86B9EB3A06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E1967B4-E10D-4451-8C98-A5EB310275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5AF22F-48CB-4CDA-83DC-0EA602153A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EAAA7-0D84-4614-A5E4-2A5E55CE6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4D9F5D-E3D3-468A-8AE8-6C529678F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44DFB-365C-47F4-AF78-B6198B0EE3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2504CA-22D2-4EBD-B418-19A65F989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6B769F-8259-4F18-91D0-30BF6CCA42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D0B92-71FA-4C1F-A3AB-4D47B9EC16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FF50D-7DFF-441E-83AC-670BDDD1E7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EDD1F-10DB-4F2F-8C03-A13DC0BA42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BCA9E-C091-4233-BB14-33F4590CC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D0B29E-3ACF-4984-8D61-467F9A3CA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A8A692-69E4-4941-A58C-8D47C42A20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AB651-5F9C-4374-B48B-145D0E1FA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871724-970E-4A77-A7E4-48CE22170B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CD78D5-8B69-4D47-9CB2-F6D0492EE9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E947F0-32EA-4F49-A268-0BA151C6C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2016D3-BA72-4DD8-9B37-FF292AA52D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8F170F-206B-4668-8382-45E0E3F80A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30AE49-552E-440A-A8D3-68090E29A6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2658D-0DC4-43CD-AF2A-154A87ED4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3BE5B-ADA3-453C-85FB-64B05E89D1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F1168C-13CE-44E0-A2DF-14C6F1B0EA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C7942E-A900-42A5-A053-389AEA030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D7DC-1551-4BE9-8E3A-7139B72F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0D5836-A9B4-45E8-B8E9-69F39ED0E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173EDA-B7C1-4F39-9792-9FC44573AA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14A1B-4DBC-44B2-811E-6BA554AE26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19298C-7C6E-4528-A94B-70251B6F19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20A3F6-9DF9-44E5-8B15-A93395C103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A6F0D-94F3-4471-BEFE-3F39A2D6E5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F4D8A0-2B0A-4EE9-8AD4-8665D219D3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DACBE-D6BC-46BB-BB06-95D5FEE51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85EC1-0F16-4179-A68F-27D3BD2B63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A1838E-93C1-48DB-A084-8A178B8F4F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9728-62D2-4FB9-B619-AE44A36EC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820A6-8BC8-46A6-96B2-F5121A273A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5BB49-65F5-4F84-A30B-CABC6C78F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447AF4-ECC7-431F-9016-BAC00EB060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11845D-0F3B-4121-A70B-BCAA376994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C6326E-89E5-4729-B3AB-87B57388A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16D5AC-B39E-4AD0-A988-836CEC3F86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1F3F3A-8768-43AE-91A0-656A5D89F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7BD9E9-3C27-4CDB-BE4E-302731DE98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885855-E90B-497C-8C47-FAFB98031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15E5EB-685E-4724-9FA2-B5F19D1A5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D7BB-47B7-471B-8FE2-126F73E02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AB60F0-6E61-4127-8296-D7545633B7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6A24BE-93F3-4D82-B3F2-3E3698677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FD77A7-FD27-41DF-9EC4-ED6C4DE8A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C2507-0A3D-4B50-8957-41847EB66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BB5136-681B-44AF-B3BB-CEC6E33B6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3DEE9B-E8F7-4FD0-B693-C75CFBD1A0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0EAFA2-07A8-4B08-B133-0B290EF624E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C37E60-A13E-482F-BDF4-1CCC4E33BF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263351-B515-4D74-BA71-7CBB433E06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30855E-217F-4710-A1A8-7927603D0CF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4AB5-37C7-4C80-8682-8A7DAC5F081B}"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4CB2-A88F-40DD-9A42-A9702D039C44}"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03DF-2EC9-44EC-9DD4-137F155B048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68C6B-2B66-43CF-8BB0-2061DC3CE70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5481B-DDC5-4D96-8E18-2853CE12BB1C}"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4A06-27BF-4173-8677-0E03CA45C7E3}"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41CD2-0B35-457C-B7FC-4AB9B3C795C1}"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F248-3E7F-43E7-ADC9-D4C2410923C1}"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9140-A56B-4703-8BAC-29C7CD962D59}"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394D4-3843-4A1A-A8B3-61C621936ECC}"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4E52-E66D-47EF-A2C6-E5C1BFEB91C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3E4A-E1DD-4E58-93FC-8CE3A383B2BD}"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DC54-AC65-4D04-A478-2DC766F8A16D}"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ar.wikipedia.org/wiki/&#1608;&#1575;&#1580;&#1607;&#1577;_&#1587;&#1591;&#1585;_&#1575;&#1604;&#1575;&#1608;&#1575;&#1605;&#1585;" TargetMode="External"/><Relationship Id="rId2" Type="http://schemas.openxmlformats.org/officeDocument/2006/relationships/hyperlink" Target="http://ar.wikipedia.org/wiki/&#1608;&#1575;&#1580;&#1607;&#1577;_&#1587;&#1591;&#1585;_&#1575;&#1604;&#1575;&#1608;&#1575;&#1605;&#1585;" TargetMode="External"/><Relationship Id="rId3" Type="http://schemas.openxmlformats.org/officeDocument/2006/relationships/hyperlink" Target="http://ar.wikipedia.org/wiki/&#1608;&#1575;&#1580;&#1607;&#1577;_&#1587;&#1591;&#1585;_&#1575;&#1604;&#1575;&#1608;&#1575;&#1605;&#1585;" TargetMode="External"/><Relationship Id="rId4" Type="http://schemas.openxmlformats.org/officeDocument/2006/relationships/hyperlink" Target="http://ar.wikipedia.org/wiki/&#1608;&#1575;&#1580;&#1607;&#1577;_&#1575;&#1604;&#1605;&#1587;&#1578;&#1582;&#1583;&#1605;_&#1575;&#1604;&#1585;&#1587;&#1608;&#1605;&#1610;&#1577;" TargetMode="External"/><Relationship Id="rId5" Type="http://schemas.openxmlformats.org/officeDocument/2006/relationships/hyperlink" Target="http://ar.wikipedia.org/wiki/&#1608;&#1575;&#1580;&#1607;&#1577;_&#1575;&#1604;&#1605;&#1587;&#1578;&#1582;&#1583;&#1605;_&#1575;&#1604;&#1585;&#1587;&#1608;&#1605;&#1610;&#1577;" TargetMode="External"/><Relationship Id="rId6" Type="http://schemas.openxmlformats.org/officeDocument/2006/relationships/hyperlink" Target="http://ar.wikipedia.org/wiki/&#1608;&#1610;&#1606;&#1583;&#1608;&#1586;" TargetMode="External"/><Relationship Id="rId7" Type="http://schemas.openxmlformats.org/officeDocument/2006/relationships/hyperlink" Target="http://ar.wikipedia.org/wiki/&#1604;&#1610;&#1606;&#1603;&#1587;" TargetMode="External"/><Relationship Id="rId8"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ثامن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000000"/>
                </a:solidFill>
                <a:latin typeface="Arial"/>
              </a:rPr>
              <a:t>البرمجيات</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ن الحاسب الالي ماهو الا ألة صماء عاجزة عن الاتيان بأي شئ الا بعد تزويدها بالبرمجيات التي يتم ادخالها بوسائل او اجهزة الادخال المادية . فالبرمجيات هي المكون الغير مادي للحاسب وهي عبارة عن مجموعة تعليمات منظمة ومتسلسلة تخبر المكونات المادية للحاسب ما ينبغي عمله وكيفية انجاز الوظائف المختلفة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u="sng">
                <a:solidFill>
                  <a:srgbClr val="ffffff"/>
                </a:solidFill>
                <a:uFillTx/>
                <a:latin typeface="Arial"/>
              </a:rPr>
              <a:t>البرنامج :</a:t>
            </a:r>
            <a:r>
              <a:rPr b="0" lang="ar-IQ" sz="2000" spc="-1" strike="noStrike">
                <a:solidFill>
                  <a:srgbClr val="ffffff"/>
                </a:solidFill>
                <a:latin typeface="Arial"/>
              </a:rPr>
              <a:t> هو مجموعة او سلسلة ايعازات على شكل خطوات واضحة تبين كيفية ادخال البيانات ثم معالجتها ومن ثم اختيار وسائل الخزن او الاخراج المناسبة لها وحسب الايعاز.</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هناك ثلاثة انواع رئيسية من البرمجيات هم:</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ولا: برمجيات النظام   </a:t>
            </a:r>
            <a:r>
              <a:rPr b="0" lang="en-US" sz="2000" spc="-1" strike="noStrike">
                <a:solidFill>
                  <a:srgbClr val="ffffff"/>
                </a:solidFill>
                <a:latin typeface="Arial"/>
              </a:rPr>
              <a:t>Operating System Software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ثانيا : برمجيات التطبيقية والمساعدة   </a:t>
            </a:r>
            <a:r>
              <a:rPr b="0" lang="en-US" sz="2000" spc="-1" strike="noStrike">
                <a:solidFill>
                  <a:srgbClr val="ffffff"/>
                </a:solidFill>
                <a:latin typeface="Arial"/>
              </a:rPr>
              <a:t>Application Software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ثالثا: لغات البرمجة</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fontScale="85000"/>
          </a:bodyPr>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أولا: برمجيات النظام  </a:t>
            </a:r>
            <a:r>
              <a:rPr b="1" lang="en-US" sz="2000" spc="-1" strike="noStrike">
                <a:solidFill>
                  <a:srgbClr val="ffffff"/>
                </a:solidFill>
                <a:latin typeface="Arial"/>
              </a:rPr>
              <a:t>Operating System SW</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هي مجموعة من البرامج الأساسية التي تقوم بإدارة أجزاء الحاسب وتسيطر على تشغيل لغات البرمجة والبرامج التطبيقية والمساعدة. فالنظام التشغيلي لاي حاسبة هو اهم جزء فيها  مثل اهمية القلب في جسم الانسان وهو معقد البناء حيث يتكون من مجموعة كبيرة من البرامج المبنية بلغة الالة اذ يوفر التسهيلات التي تجعل الحاسبة سهلة واقتصادية الاستخدام وان مجموعة هذه البرامج والبيانات تعمل بصورة منتظمة لادارة واستغلال اجهزة الحاسبة الالكترونية والتحكم في تنفيذ البرامج فيها</a:t>
            </a:r>
            <a:r>
              <a:rPr b="0" lang="en-US" sz="2000" spc="-1" strike="noStrike">
                <a:solidFill>
                  <a:srgbClr val="ffffff"/>
                </a:solidFill>
                <a:latin typeface="Arial"/>
              </a:rPr>
              <a:t>.</a:t>
            </a:r>
            <a:r>
              <a:rPr b="0" lang="ar-IQ" sz="2000" spc="-1" strike="noStrike">
                <a:solidFill>
                  <a:srgbClr val="ffffff"/>
                </a:solidFill>
                <a:latin typeface="Arial"/>
              </a:rPr>
              <a:t>ولكي يقوم النظام التشغيلي باداء وظائفه يجب ان يكون محملا في ذاكرة الحاسبة الثانوية بصورة دائمية  ويستخدم بعض من سعة الذاكرة الرئيسية اثناء عملها وهذا يعني ان جزءا من ذاكرة الحاسبة يكون مخصصا لبرامج نظام التشغيل والبيانات الخاصة .لذا فان اغلب مهام نظام التشغيل هي </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مسار البيانات وادارتها</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توزيع المهام على مصادر واجزاء الحاسب</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تحميل وتشغيل مختلف البرامج التطبيقية والمساعدة</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وحدات الذاكرة الرئيسية</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لتحكم في وحدات الادخال والاخراج</a:t>
            </a:r>
            <a:endParaRPr b="0" lang="en-US" sz="2000" spc="-1" strike="noStrike">
              <a:solidFill>
                <a:srgbClr val="ffffff"/>
              </a:solidFill>
              <a:latin typeface="Arial"/>
            </a:endParaRPr>
          </a:p>
          <a:p>
            <a:pPr marL="289800" indent="-289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ffffff"/>
                </a:solidFill>
                <a:latin typeface="Arial"/>
              </a:rPr>
              <a:t>اكتشاف اخطاء البرامج والاجهزة الملحق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fontScale="81000"/>
          </a:bodyPr>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انواع انظمة التشغيل حسب البيئة المستخدمة:</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ccccff"/>
                </a:solidFill>
                <a:uFillTx/>
                <a:latin typeface="Arial"/>
                <a:hlinkClick r:id="rId1"/>
              </a:rPr>
              <a:t>البيئة</a:t>
            </a:r>
            <a:r>
              <a:rPr b="0" lang="ar-IQ" sz="2000" spc="-1" strike="noStrike" u="sng">
                <a:solidFill>
                  <a:srgbClr val="ccccff"/>
                </a:solidFill>
                <a:uFillTx/>
                <a:latin typeface="Arial"/>
                <a:hlinkClick r:id="rId2"/>
              </a:rPr>
              <a:t> الكتابية (</a:t>
            </a:r>
            <a:r>
              <a:rPr b="0" lang="ar-SA" sz="2000" spc="-1" strike="noStrike" u="sng">
                <a:solidFill>
                  <a:srgbClr val="ccccff"/>
                </a:solidFill>
                <a:uFillTx/>
                <a:latin typeface="Arial"/>
                <a:hlinkClick r:id="rId3"/>
              </a:rPr>
              <a:t>سطر الاوامر</a:t>
            </a:r>
            <a:r>
              <a:rPr b="1" lang="ar-SA" sz="2000" spc="-1" strike="noStrike">
                <a:solidFill>
                  <a:srgbClr val="ffffff"/>
                </a:solidFill>
                <a:latin typeface="Arial"/>
              </a:rPr>
              <a:t>)</a:t>
            </a:r>
            <a:r>
              <a:rPr b="1" lang="en-US" sz="2000" spc="-1" strike="noStrike">
                <a:solidFill>
                  <a:srgbClr val="ffffff"/>
                </a:solidFill>
                <a:latin typeface="Arial"/>
              </a:rPr>
              <a:t>Text Based</a:t>
            </a:r>
            <a:r>
              <a:rPr b="1" lang="en-US" sz="2000" spc="-1" strike="noStrike">
                <a:solidFill>
                  <a:srgbClr val="ffffff"/>
                </a:solidFill>
                <a:latin typeface="Arial"/>
              </a:rPr>
              <a:t> :</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تعتبر من أقدم الواجهات التي تعتمد على كتابة الاوامر بواسطة لوحة المفاتيح فيقوم المعالج بتنفيذها مباشرة ومن هنا يتضح ان هذه الواجهات لاتدعم التنفيذ المتعدد للمهام او الرسومات،من الأنظمة التي تستخدمها نظام الدوس (</a:t>
            </a:r>
            <a:r>
              <a:rPr b="0" lang="en-US" sz="2000" spc="-1" strike="noStrike">
                <a:solidFill>
                  <a:srgbClr val="ffffff"/>
                </a:solidFill>
                <a:latin typeface="Arial"/>
              </a:rPr>
              <a:t>MS-DOS</a:t>
            </a:r>
            <a:r>
              <a:rPr b="0" lang="ar-SA" sz="2000" spc="-1" strike="noStrike">
                <a:solidFill>
                  <a:srgbClr val="ffffff"/>
                </a:solidFill>
                <a:latin typeface="Arial"/>
              </a:rPr>
              <a:t> ) باصداراته المختلفة</a:t>
            </a:r>
            <a:r>
              <a:rPr b="0" lang="en-US" sz="2000" spc="-1" strike="noStrike">
                <a:solidFill>
                  <a:srgbClr val="ffffff"/>
                </a:solidFill>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u="sng">
                <a:solidFill>
                  <a:srgbClr val="ccccff"/>
                </a:solidFill>
                <a:uFillTx/>
                <a:latin typeface="Arial"/>
                <a:hlinkClick r:id="rId4"/>
              </a:rPr>
              <a:t>البيئة</a:t>
            </a:r>
            <a:r>
              <a:rPr b="0" lang="ar-SA" sz="2000" spc="-1" strike="noStrike" u="sng">
                <a:solidFill>
                  <a:srgbClr val="ccccff"/>
                </a:solidFill>
                <a:uFillTx/>
                <a:latin typeface="Arial"/>
                <a:hlinkClick r:id="rId5"/>
              </a:rPr>
              <a:t> الرسومية</a:t>
            </a:r>
            <a:r>
              <a:rPr b="1" lang="en-US" sz="2000" spc="-1" strike="noStrike">
                <a:solidFill>
                  <a:srgbClr val="ffffff"/>
                </a:solidFill>
                <a:latin typeface="Arial"/>
              </a:rPr>
              <a:t> </a:t>
            </a:r>
            <a:r>
              <a:rPr b="1" lang="en-US" sz="2000" spc="-1" strike="noStrike">
                <a:solidFill>
                  <a:srgbClr val="ffffff"/>
                </a:solidFill>
                <a:latin typeface="Arial"/>
              </a:rPr>
              <a:t>Graphic Based</a:t>
            </a:r>
            <a:r>
              <a:rPr b="1" lang="en-US" sz="2000" spc="-1" strike="noStrike">
                <a:solidFill>
                  <a:srgbClr val="ffffff"/>
                </a:solidFill>
                <a:latin typeface="Arial"/>
              </a:rPr>
              <a:t> :</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عبارة عن واجهة توفر صور وايقونات تسهل للمستخدم التعامل معها وتعتبر من ا</a:t>
            </a:r>
            <a:r>
              <a:rPr b="0" lang="ar-IQ" sz="2000" spc="-1" strike="noStrike">
                <a:solidFill>
                  <a:srgbClr val="ffffff"/>
                </a:solidFill>
                <a:latin typeface="Arial"/>
              </a:rPr>
              <a:t>سهل</a:t>
            </a:r>
            <a:r>
              <a:rPr b="0" lang="ar-SA" sz="2000" spc="-1" strike="noStrike">
                <a:solidFill>
                  <a:srgbClr val="ffffff"/>
                </a:solidFill>
                <a:latin typeface="Arial"/>
              </a:rPr>
              <a:t> أنواع الانظمة واكثرها استخداما, من الأنظمة التي تستخدم هذه الواجهات ال</a:t>
            </a:r>
            <a:r>
              <a:rPr b="0" lang="ar-SA" sz="2000" spc="-1" strike="noStrike" u="sng">
                <a:solidFill>
                  <a:srgbClr val="ccccff"/>
                </a:solidFill>
                <a:uFillTx/>
                <a:latin typeface="Arial"/>
                <a:hlinkClick r:id="rId6"/>
              </a:rPr>
              <a:t>ويندوز</a:t>
            </a:r>
            <a:r>
              <a:rPr b="0" lang="en-US" sz="2000" spc="-1" strike="noStrike">
                <a:solidFill>
                  <a:srgbClr val="ffffff"/>
                </a:solidFill>
                <a:latin typeface="Arial"/>
              </a:rPr>
              <a:t> </a:t>
            </a:r>
            <a:r>
              <a:rPr b="0" lang="ar-SA" sz="2000" spc="-1" strike="noStrike">
                <a:solidFill>
                  <a:srgbClr val="ffffff"/>
                </a:solidFill>
                <a:latin typeface="Arial"/>
              </a:rPr>
              <a:t>باصداراته المختلفة </a:t>
            </a:r>
            <a:r>
              <a:rPr b="0" lang="ar-SA" sz="2000" spc="-1" strike="noStrike" u="sng">
                <a:solidFill>
                  <a:srgbClr val="ccccff"/>
                </a:solidFill>
                <a:uFillTx/>
                <a:latin typeface="Arial"/>
                <a:hlinkClick r:id="rId7"/>
              </a:rPr>
              <a:t>ولينكس</a:t>
            </a:r>
            <a:r>
              <a:rPr b="0" lang="en-US" sz="2000" spc="-1" strike="noStrike">
                <a:solidFill>
                  <a:srgbClr val="ffffff"/>
                </a:solidFill>
                <a:latin typeface="Arial"/>
              </a:rPr>
              <a:t> </a:t>
            </a:r>
            <a:r>
              <a:rPr b="0" lang="ar-SA" sz="2000" spc="-1" strike="noStrike">
                <a:solidFill>
                  <a:srgbClr val="ffffff"/>
                </a:solidFill>
                <a:latin typeface="Arial"/>
              </a:rPr>
              <a:t>ويونكس، من الجدير بالذكر ان أكثر هذه الأنظمة الرسومية تدعم استخدام انظمة سطر الاوامر فيها</a:t>
            </a:r>
            <a:r>
              <a:rPr b="0" lang="en-US" sz="2000" spc="-1" strike="noStrike">
                <a:solidFill>
                  <a:srgbClr val="ffffff"/>
                </a:solidFill>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u="sng">
                <a:solidFill>
                  <a:srgbClr val="ffffff"/>
                </a:solidFill>
                <a:uFillTx/>
                <a:latin typeface="Arial"/>
              </a:rPr>
              <a:t>البيئة القابلة للتكبير</a:t>
            </a:r>
            <a:r>
              <a:rPr b="0" lang="en-US" sz="2000" spc="-1" strike="noStrike" u="sng">
                <a:solidFill>
                  <a:srgbClr val="ffffff"/>
                </a:solidFill>
                <a:uFillTx/>
                <a:latin typeface="Arial"/>
              </a:rPr>
              <a:t> </a:t>
            </a:r>
            <a:r>
              <a:rPr b="1" lang="en-US" sz="2000" spc="-1" strike="noStrike" u="sng">
                <a:solidFill>
                  <a:srgbClr val="ffffff"/>
                </a:solidFill>
                <a:uFillTx/>
                <a:latin typeface="Arial"/>
              </a:rPr>
              <a:t>Zooming Based</a:t>
            </a:r>
            <a:r>
              <a:rPr b="1" lang="en-US" sz="2000" spc="-1" strike="noStrike" u="sng">
                <a:solidFill>
                  <a:srgbClr val="ffffff"/>
                </a:solidFill>
                <a:uFillTx/>
                <a:latin typeface="Arial"/>
              </a:rPr>
              <a:t>:</a:t>
            </a:r>
            <a:endParaRPr b="0" lang="en-US" sz="2000" spc="-1" strike="noStrike">
              <a:solidFill>
                <a:srgbClr val="ffffff"/>
              </a:solidFill>
              <a:latin typeface="Arial"/>
            </a:endParaRPr>
          </a:p>
          <a:p>
            <a:pPr marL="276120" indent="-27612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هذا النوع من الواجهات تكون جميع التطبيقات</a:t>
            </a:r>
            <a:r>
              <a:rPr b="0" lang="en-US" sz="2000" spc="-1" strike="noStrike">
                <a:solidFill>
                  <a:srgbClr val="ffffff"/>
                </a:solidFill>
                <a:latin typeface="Arial"/>
              </a:rPr>
              <a:t> </a:t>
            </a:r>
            <a:r>
              <a:rPr b="0" lang="ar-SA" sz="2000" spc="-1" strike="noStrike">
                <a:solidFill>
                  <a:srgbClr val="ffffff"/>
                </a:solidFill>
                <a:latin typeface="Arial"/>
              </a:rPr>
              <a:t>قيد التشغيل ولكنها تكون مصغرة في سطح المكتب وبمجرد النقر على إيقوناتها يقوم نظام التشغيل بتكبيرها فقط وعند الانتهاء أيضا يقوم بتصغيرها، من التطبيقات التي تستخدم هذا النوع من الواجهات </a:t>
            </a:r>
            <a:r>
              <a:rPr b="0" lang="en-US" sz="2000" spc="-1" strike="noStrike" u="sng">
                <a:solidFill>
                  <a:srgbClr val="ffffff"/>
                </a:solidFill>
                <a:uFillTx/>
                <a:latin typeface="Arial"/>
              </a:rPr>
              <a:t>Iphone</a:t>
            </a:r>
            <a:r>
              <a:rPr b="0" lang="ar-SA" sz="2000" spc="-1" strike="noStrike">
                <a:solidFill>
                  <a:srgbClr val="ffffff"/>
                </a:solidFill>
                <a:latin typeface="Arial"/>
              </a:rPr>
              <a:t>، </a:t>
            </a:r>
            <a:r>
              <a:rPr b="0" lang="en-US" sz="2000" spc="-1" strike="noStrike" u="sng">
                <a:solidFill>
                  <a:srgbClr val="ffffff"/>
                </a:solidFill>
                <a:uFillTx/>
                <a:latin typeface="Arial"/>
              </a:rPr>
              <a:t>google Maps</a:t>
            </a:r>
            <a:r>
              <a:rPr b="0" lang="ar-SA" sz="2000" spc="-1" strike="noStrike">
                <a:solidFill>
                  <a:srgbClr val="ffffff"/>
                </a:solidFill>
                <a:latin typeface="Arial"/>
              </a:rPr>
              <a:t>، لكنها غير محبذة لأنظمة التشغيل العملاقة كونها تستوجب ان تكون جميع التطبيقات قيد التشغيل وبالتالي تكون متواجدة في الذاكرة الأساسية، وهذا ما يصعب تنفيذه للأنظمة ذات البرامج والتطبيقات الكثيرة</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ذا النظام لايسمح للمستخدم بتشغيل أكثر من تطبيق في نفس الوقت وفي حال إحتياجه لتشغيل تطبيق اخرلابد من انهاء التطبيق السابق ليتمكن من العمل على التالي ومن امثلة هذا النظام </a:t>
            </a:r>
            <a:r>
              <a:rPr b="0" lang="en-US" sz="2000" spc="-1" strike="noStrike">
                <a:solidFill>
                  <a:srgbClr val="ffffff"/>
                </a:solidFill>
                <a:latin typeface="Arial"/>
              </a:rPr>
              <a:t>MS-DOS</a:t>
            </a:r>
            <a:r>
              <a:rPr b="0"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ffff"/>
                </a:solidFill>
                <a:latin typeface="Arial"/>
              </a:rPr>
              <a:t>تصنيف انظمة التشغيل حسب المهام والمستخدمين</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نقسم نظم التشغيل من حيث قدرتها على تشغيل اكثر من برنامج للمستخدم في نفس الوقت الى متعددة المهام</a:t>
            </a:r>
            <a:r>
              <a:rPr b="0" lang="ar-IQ" sz="2000" spc="-1" strike="noStrike">
                <a:solidFill>
                  <a:srgbClr val="ffffff"/>
                </a:solidFill>
                <a:latin typeface="Arial"/>
              </a:rPr>
              <a:t> و</a:t>
            </a:r>
            <a:r>
              <a:rPr b="0" lang="ar-SA" sz="2000" spc="-1" strike="noStrike">
                <a:solidFill>
                  <a:srgbClr val="ffffff"/>
                </a:solidFill>
                <a:latin typeface="Arial"/>
              </a:rPr>
              <a:t>وحيدة المهام</a:t>
            </a:r>
            <a:r>
              <a:rPr b="0" lang="en-US" sz="2000" spc="-1" strike="noStrike">
                <a:solidFill>
                  <a:srgbClr val="ffffff"/>
                </a:solidFill>
                <a:latin typeface="Arial"/>
              </a:rPr>
              <a:t> </a:t>
            </a:r>
            <a:r>
              <a:rPr b="0" lang="ar-SA" sz="2000" spc="-1" strike="noStrike">
                <a:solidFill>
                  <a:srgbClr val="ffffff"/>
                </a:solidFill>
                <a:latin typeface="Arial"/>
              </a:rPr>
              <a:t>وكذلك تنقسم نظم التشغيل من حيث قدرتها على السماح لأكثر من مستخدم بالعمل على الجهاز في نفس الوقت إلى متعددة المستخدمين</a:t>
            </a:r>
            <a:r>
              <a:rPr b="0" lang="ar-IQ" sz="2000" spc="-1" strike="noStrike">
                <a:solidFill>
                  <a:srgbClr val="ffffff"/>
                </a:solidFill>
                <a:latin typeface="Arial"/>
              </a:rPr>
              <a:t> و</a:t>
            </a:r>
            <a:r>
              <a:rPr b="0" lang="ar-SA" sz="2000" spc="-1" strike="noStrike">
                <a:solidFill>
                  <a:srgbClr val="ffffff"/>
                </a:solidFill>
                <a:latin typeface="Arial"/>
              </a:rPr>
              <a:t>وحيدة المستخدم</a:t>
            </a:r>
            <a:r>
              <a:rPr b="0" lang="ar-IQ"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أولا</a:t>
            </a:r>
            <a:r>
              <a:rPr b="1" lang="en-US" sz="2000" spc="-1" strike="noStrike">
                <a:solidFill>
                  <a:srgbClr val="ffffff"/>
                </a:solidFill>
                <a:latin typeface="Arial"/>
              </a:rPr>
              <a:t>-</a:t>
            </a:r>
            <a:r>
              <a:rPr b="1" lang="ar-SA" sz="2000" spc="-1" strike="noStrike">
                <a:solidFill>
                  <a:srgbClr val="ffffff"/>
                </a:solidFill>
                <a:latin typeface="Arial"/>
              </a:rPr>
              <a:t>المستخدم الواحد والمهمه الواحد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fontScale="83000"/>
          </a:bodyPr>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نيا-المستخدم الواحد ومتعدد المهام</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ذا النظام لايسمح لأكثرمن مستخدم للعمل عليه وهو أكثر الأنظمة استخدام حيث يسمح للمستخدم بتشغيل أكثر من تطبيق في نفس الوقت والتبديل بينها حسب الحاجة ومن امثلة هذا النظام  </a:t>
            </a:r>
            <a:r>
              <a:rPr b="0" lang="en-US" sz="2000" spc="-1" strike="noStrike">
                <a:solidFill>
                  <a:srgbClr val="ffffff"/>
                </a:solidFill>
                <a:latin typeface="Arial"/>
              </a:rPr>
              <a:t>Microsoft Windows</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ثالثا-المتعدد المستخدمين المنفرد المهمه</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سمح لاكثر من مستخدم ان ينفذ كل واحد برنامج في وقت واحد بحيث يزود كل مستخدم بوحدة ادخال واخراج مكونة من لوحة مفاتيح وشاشة عرض تتصل مع الحاسب المركزي  ويسمى ايضا هذا النظام بنظام المشاركه الزمنية لانه يعطي المستخدمين فترات زمنيه ثابته لاستخدام المعالج ومن امثلة هذا النظام </a:t>
            </a:r>
            <a:r>
              <a:rPr b="0" lang="en-US" sz="2000" spc="-1" strike="noStrike">
                <a:solidFill>
                  <a:srgbClr val="ffffff"/>
                </a:solidFill>
                <a:latin typeface="Arial"/>
              </a:rPr>
              <a:t>Windows NT</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رابعا-متعدد المستخدمين ومتعدد المهام</a:t>
            </a:r>
            <a:endParaRPr b="0" lang="en-US" sz="2000" spc="-1" strike="noStrike">
              <a:solidFill>
                <a:srgbClr val="ffffff"/>
              </a:solidFill>
              <a:latin typeface="Arial"/>
            </a:endParaRPr>
          </a:p>
          <a:p>
            <a:pPr marL="282960" indent="-28296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ar-SA" sz="2000" spc="-1" strike="noStrike">
                <a:solidFill>
                  <a:srgbClr val="ffffff"/>
                </a:solidFill>
                <a:latin typeface="Arial"/>
              </a:rPr>
              <a:t>يسمح ل</a:t>
            </a:r>
            <a:r>
              <a:rPr b="0" lang="ar-IQ" sz="2000" spc="-1" strike="noStrike">
                <a:solidFill>
                  <a:srgbClr val="ffffff"/>
                </a:solidFill>
                <a:latin typeface="Arial"/>
              </a:rPr>
              <a:t>عدة </a:t>
            </a:r>
            <a:r>
              <a:rPr b="0" lang="ar-SA" sz="2000" spc="-1" strike="noStrike">
                <a:solidFill>
                  <a:srgbClr val="ffffff"/>
                </a:solidFill>
                <a:latin typeface="Arial"/>
              </a:rPr>
              <a:t>مستخدمين ان يستغلوا موارد الحاسب في ان واحد مع وجود ادارة من قبل النظام على مصادره حتى يضمن عدم تأثير اي مستخدم على الاخر بحيث يتعامل كل مستخدم مع الحاسب عن طريق وحدة طرفية خاصه ومن امثلة هذا النظام </a:t>
            </a:r>
            <a:r>
              <a:rPr b="0" lang="en-US" sz="2000" spc="-1" strike="noStrike">
                <a:solidFill>
                  <a:srgbClr val="ffffff"/>
                </a:solidFill>
                <a:latin typeface="Arial"/>
              </a:rPr>
              <a:t>Linux,Uinux</a:t>
            </a:r>
            <a:r>
              <a:rPr b="0" lang="ar-IQ" sz="2000" spc="-1" strike="noStrike">
                <a:solidFill>
                  <a:srgbClr val="ffffff"/>
                </a:solidFill>
                <a:latin typeface="Arial"/>
              </a:rPr>
              <a:t>. وهناك خاصية في الويندوز تدعم نفس المبدأ من خلال استغلال الحاسوب الواحد من قبل عدة مستخدمين عن طريق تخصيص حساب لكل مستخدم على نفس الحاسوب لكن السلبية في ذلك هي مستخدم واحد في كل وق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fontScale="94000"/>
          </a:bodyPr>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خامسا-نظام تشغيل الوقت الحقيقي</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SA" sz="1800" spc="-1" strike="noStrike">
                <a:solidFill>
                  <a:srgbClr val="ffffff"/>
                </a:solidFill>
                <a:latin typeface="Arial"/>
              </a:rPr>
              <a:t>نظم تشغيل سريعة صممت للتحكم في الالات والادوات العلمية والنظم الصناعية وهذه الانظمة لاتتعامل مع المستخدم بشكل كبير لانها لاتقدم له الكثير من الخدمات وهذه الانظمة تحتوي على ميكانيكيه عالية في التوقيت مثل اجهزة تخطيط القلب</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سادسا-نظام التشغيل المتعدد المعالجه</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ar-SA" sz="1800" spc="-1" strike="noStrike">
                <a:solidFill>
                  <a:srgbClr val="ffffff"/>
                </a:solidFill>
                <a:latin typeface="Arial"/>
              </a:rPr>
              <a:t>ينفذ تعليمات عديدة بشكل متواز في نظام حاسوب واحد يمتلك وحدات معالجة مركزية عديدة والانظمة متعددة المعالجة تنفذ الوظائف بشكل متواقف زمنيا اي في نفس اللحظة وتتميز بالسرعة مثل </a:t>
            </a:r>
            <a:r>
              <a:rPr b="0" lang="en-US" sz="1800" spc="-1" strike="noStrike">
                <a:solidFill>
                  <a:srgbClr val="ffffff"/>
                </a:solidFill>
                <a:latin typeface="Arial"/>
              </a:rPr>
              <a:t>SUN-OS</a:t>
            </a:r>
            <a:r>
              <a:rPr b="0" lang="ar-SA" sz="1800" spc="-1" strike="noStrike">
                <a:solidFill>
                  <a:srgbClr val="ffffff"/>
                </a:solidFill>
                <a:latin typeface="Arial"/>
              </a:rPr>
              <a:t>. شركة انتل في ايام الحالية استخدمت هذا المبدأ بصناعة المعالجات الثنائية والرباعية ..الخ. </a:t>
            </a:r>
            <a:r>
              <a:rPr b="0" lang="en-US" sz="1800" spc="-1" strike="noStrike">
                <a:solidFill>
                  <a:srgbClr val="ffffff"/>
                </a:solidFill>
                <a:latin typeface="Arial"/>
              </a:rPr>
              <a:t>Intel Core Duo Processor, Quad</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أشهرانظمة التشغيل</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rogram for microprocessor (CP/M)</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disk operating system (MS- DOS)</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Linux</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r>
              <a:rPr b="0" lang="en-US" sz="1800" spc="-1" strike="noStrike">
                <a:solidFill>
                  <a:srgbClr val="ffffff"/>
                </a:solidFill>
                <a:latin typeface="Arial"/>
              </a:rPr>
              <a:t>.</a:t>
            </a:r>
            <a:endParaRPr b="0" lang="en-US" sz="1800" spc="-1" strike="noStrike">
              <a:solidFill>
                <a:srgbClr val="ffffff"/>
              </a:solidFill>
              <a:latin typeface="Arial"/>
            </a:endParaRPr>
          </a:p>
          <a:p>
            <a:pPr marL="320760" indent="-32076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OS</a:t>
            </a: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crosoft disk operating system (MS- DOS)</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endParaRPr b="0" lang="en-US" sz="2500" spc="-1" strike="noStrike">
              <a:solidFill>
                <a:srgbClr val="ffffff"/>
              </a:solidFill>
              <a:latin typeface="Arial"/>
            </a:endParaRPr>
          </a:p>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500" spc="-1" strike="noStrike">
                <a:solidFill>
                  <a:srgbClr val="ffffff"/>
                </a:solidFill>
                <a:latin typeface="Arial"/>
              </a:rPr>
              <a:t>انتجته شركت مايكروسوفت في بداية الثمانينات وكان في وقتها نقلة نوعية في تاريخ انظمة الحاسوب فهو يعتمد على البيئة الكتابية من خلال كتابة الايعازات والاوامر عن طريق لوحة المفاتيح فلو مثلا اردت استنساخ فايل معين من الحاسب الى دسك تحتاج سطرين من الايعازات احدهما نسخ وموقع الفايل والثاني لصق والموقع المراد خزنه فيه. بينما في انظمة البيئة الرسومية (مثلا الويندوز) كل الذي تحتاجه هو نقرتين على الماوس.</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4" name=""/>
          <p:cNvSpPr txBox="1"/>
          <p:nvPr/>
        </p:nvSpPr>
        <p:spPr>
          <a:xfrm>
            <a:off x="1234800" y="1584000"/>
            <a:ext cx="7551720" cy="4956120"/>
          </a:xfrm>
          <a:prstGeom prst="rect">
            <a:avLst/>
          </a:prstGeom>
          <a:noFill/>
          <a:ln w="0">
            <a:noFill/>
          </a:ln>
        </p:spPr>
        <p:txBody>
          <a:bodyPr anchor="t">
            <a:normAutofit/>
          </a:bodyPr>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میزات</a:t>
            </a:r>
            <a:r>
              <a:rPr b="1" lang="en-US" sz="1800" spc="-1" strike="noStrike">
                <a:solidFill>
                  <a:srgbClr val="ffffff"/>
                </a:solidFill>
                <a:latin typeface="Arial"/>
              </a:rPr>
              <a:t>DOS</a:t>
            </a:r>
            <a:r>
              <a:rPr b="1" lang="en-US" sz="1800" spc="-1" strike="noStrike">
                <a:solidFill>
                  <a:srgbClr val="ffffff"/>
                </a:solidFill>
                <a:latin typeface="Arial"/>
              </a:rPr>
              <a:t>  </a:t>
            </a:r>
            <a:r>
              <a:rPr b="1" lang="ar-SA" sz="1800" spc="-1" strike="noStrike">
                <a:solidFill>
                  <a:srgbClr val="ffffff"/>
                </a:solidFill>
                <a:latin typeface="Arial"/>
              </a:rPr>
              <a:t>بمختلف إصداراته</a:t>
            </a:r>
            <a:r>
              <a:rPr b="1" lang="en-US" sz="1800" spc="-1" strike="noStrike">
                <a:solidFill>
                  <a:srgbClr val="ffffff"/>
                </a:solidFill>
                <a:latin typeface="Arial"/>
              </a:rPr>
              <a:t> :</a:t>
            </a:r>
            <a:r>
              <a:rPr b="0" lang="en-US" sz="1800" spc="-1" strike="noStrike">
                <a:solidFill>
                  <a:srgbClr val="ffffff"/>
                </a:solidFill>
                <a:latin typeface="Arial"/>
              </a:rPr>
              <a:t> </a:t>
            </a:r>
            <a:br>
              <a:rPr sz="1800"/>
            </a:br>
            <a:r>
              <a:rPr b="1" lang="ar-SA" sz="1800" spc="-1" strike="noStrike">
                <a:solidFill>
                  <a:srgbClr val="ffffff"/>
                </a:solidFill>
                <a:latin typeface="Arial"/>
              </a:rPr>
              <a:t>1</a:t>
            </a:r>
            <a:r>
              <a:rPr b="1" lang="ar-SA" sz="1800" spc="-1" strike="noStrike">
                <a:solidFill>
                  <a:srgbClr val="ffffff"/>
                </a:solidFill>
                <a:latin typeface="Arial"/>
              </a:rPr>
              <a:t>-  السرعة العالیة : حیث یعد نظام التشغیل</a:t>
            </a:r>
            <a:r>
              <a:rPr b="1" lang="en-US" sz="1800" spc="-1" strike="noStrike">
                <a:solidFill>
                  <a:srgbClr val="ffffff"/>
                </a:solidFill>
                <a:latin typeface="Arial"/>
              </a:rPr>
              <a:t> </a:t>
            </a:r>
            <a:r>
              <a:rPr b="1" lang="en-US" sz="1800" spc="-1" strike="noStrike">
                <a:solidFill>
                  <a:srgbClr val="ffffff"/>
                </a:solidFill>
                <a:latin typeface="Arial"/>
              </a:rPr>
              <a:t>DOS</a:t>
            </a:r>
            <a:r>
              <a:rPr b="1" lang="en-US" sz="1800" spc="-1" strike="noStrike">
                <a:solidFill>
                  <a:srgbClr val="ffffff"/>
                </a:solidFill>
                <a:latin typeface="Arial"/>
              </a:rPr>
              <a:t> </a:t>
            </a:r>
            <a:r>
              <a:rPr b="1" lang="ar-SA" sz="1800" spc="-1" strike="noStrike">
                <a:solidFill>
                  <a:srgbClr val="ffffff"/>
                </a:solidFill>
                <a:latin typeface="Arial"/>
              </a:rPr>
              <a:t>من أسرع النظم</a:t>
            </a:r>
            <a:endParaRPr b="0" lang="en-US" sz="1800" spc="-1" strike="noStrike">
              <a:solidFill>
                <a:srgbClr val="ffffff"/>
              </a:solidFill>
              <a:latin typeface="Arial"/>
            </a:endParaRPr>
          </a:p>
          <a:p>
            <a:pPr marL="341280" indent="-341280" algn="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2-  </a:t>
            </a:r>
            <a:r>
              <a:rPr b="1" lang="ar-SA" sz="1800" spc="-1" strike="noStrike">
                <a:solidFill>
                  <a:srgbClr val="ffffff"/>
                </a:solidFill>
                <a:latin typeface="Arial"/>
              </a:rPr>
              <a:t>صغر الحجم : یمتاز أصل النظام بالصغر كما یمتاز بالصغر عند التنفیذ بحیث أنه یتناسب مع الأجھزة القدیمة التي تحتوي على ذاكرة عشوائیة صغیرة جداً</a:t>
            </a:r>
            <a:r>
              <a:rPr b="1" lang="en-US" sz="1800" spc="-1" strike="noStrike">
                <a:solidFill>
                  <a:srgbClr val="ffffff"/>
                </a:solidFill>
                <a:latin typeface="Arial"/>
              </a:rPr>
              <a:t> .</a:t>
            </a:r>
            <a:br>
              <a:rPr sz="1800"/>
            </a:br>
            <a:r>
              <a:rPr b="1" lang="ar-SA" sz="1800" spc="-1" strike="noStrike">
                <a:solidFill>
                  <a:srgbClr val="ffffff"/>
                </a:solidFill>
                <a:latin typeface="Arial"/>
              </a:rPr>
              <a:t>3</a:t>
            </a:r>
            <a:r>
              <a:rPr b="1" lang="ar-SA" sz="1800" spc="-1" strike="noStrike">
                <a:solidFill>
                  <a:srgbClr val="ffffff"/>
                </a:solidFill>
                <a:latin typeface="Arial"/>
              </a:rPr>
              <a:t>-  إمكانیة التعامل مع الشبكات المحلیة</a:t>
            </a:r>
            <a:r>
              <a:rPr b="1" lang="en-US" sz="1800" spc="-1" strike="noStrike">
                <a:solidFill>
                  <a:srgbClr val="ffffff"/>
                </a:solidFill>
                <a:latin typeface="Arial"/>
              </a:rPr>
              <a:t> .</a:t>
            </a:r>
            <a:br>
              <a:rPr sz="1800"/>
            </a:br>
            <a:r>
              <a:rPr b="1" lang="ar-SA" sz="1800" spc="-1" strike="noStrike">
                <a:solidFill>
                  <a:srgbClr val="ffffff"/>
                </a:solidFill>
                <a:latin typeface="Arial"/>
              </a:rPr>
              <a:t>4</a:t>
            </a:r>
            <a:r>
              <a:rPr b="1" lang="ar-SA" sz="1800" spc="-1" strike="noStrike">
                <a:solidFill>
                  <a:srgbClr val="ffffff"/>
                </a:solidFill>
                <a:latin typeface="Arial"/>
              </a:rPr>
              <a:t>-  إمكانیة التعامل مع الأقراص المرنة ذات الوجھین</a:t>
            </a:r>
            <a:r>
              <a:rPr b="1" lang="en-US" sz="1800" spc="-1" strike="noStrike">
                <a:solidFill>
                  <a:srgbClr val="ffffff"/>
                </a:solidFill>
                <a:latin typeface="Arial"/>
              </a:rPr>
              <a:t> .</a:t>
            </a:r>
            <a:br>
              <a:rPr sz="1800"/>
            </a:br>
            <a:r>
              <a:rPr b="1" lang="ar-SA" sz="1800" spc="-1" strike="noStrike">
                <a:solidFill>
                  <a:srgbClr val="ffffff"/>
                </a:solidFill>
                <a:latin typeface="Arial"/>
              </a:rPr>
              <a:t>5</a:t>
            </a:r>
            <a:r>
              <a:rPr b="1" lang="ar-SA" sz="1800" spc="-1" strike="noStrike">
                <a:solidFill>
                  <a:srgbClr val="ffffff"/>
                </a:solidFill>
                <a:latin typeface="Arial"/>
              </a:rPr>
              <a:t>-  تم في الإصدار</a:t>
            </a:r>
            <a:r>
              <a:rPr b="1" lang="en-US" sz="1800" spc="-1" strike="noStrike">
                <a:solidFill>
                  <a:srgbClr val="ffffff"/>
                </a:solidFill>
                <a:latin typeface="Arial"/>
              </a:rPr>
              <a:t> </a:t>
            </a:r>
            <a:r>
              <a:rPr b="1" lang="en-US" sz="1800" spc="-1" strike="noStrike">
                <a:solidFill>
                  <a:srgbClr val="ffffff"/>
                </a:solidFill>
                <a:latin typeface="Arial"/>
              </a:rPr>
              <a:t>MS-DOS 5.0 </a:t>
            </a:r>
            <a:r>
              <a:rPr b="1" lang="ar-SA" sz="1800" spc="-1" strike="noStrike">
                <a:solidFill>
                  <a:srgbClr val="ffffff"/>
                </a:solidFill>
                <a:latin typeface="Arial"/>
              </a:rPr>
              <a:t>إضافة تحسینات واستخدام منسق نصوص جدید كما أضیفت تحسینات كثیرة للاستفادة  من الذاكرة والتعامل مع الذاكرة الإضافیة، و أضیفت أوامر جدیدة لاسترجاع الملفات المحذوفة أو إعادة القرص إلى حالته السابقة قبل إعادة تشكیله، كما أضیفت تسھیلات في التعامل مع سطر الأوامر تتمثل في الحصول على معلومات مساعدة</a:t>
            </a:r>
            <a:br>
              <a:rPr sz="1800"/>
            </a:br>
            <a:r>
              <a:rPr b="1" lang="ar-SA" sz="1800" spc="-1" strike="noStrike">
                <a:solidFill>
                  <a:srgbClr val="ffffff"/>
                </a:solidFill>
                <a:latin typeface="Arial"/>
              </a:rPr>
              <a:t>عن صيغة أي أمر أو تخزین الأوامر السابقة واسترجاعھا و تعدیلھا بسھولة</a:t>
            </a:r>
            <a:r>
              <a:rPr b="1" lang="en-US" sz="1800" spc="-1" strike="noStrike">
                <a:solidFill>
                  <a:srgbClr val="ffffff"/>
                </a:solidFill>
                <a:latin typeface="Arial"/>
              </a:rPr>
              <a:t> </a:t>
            </a:r>
            <a:r>
              <a:rPr b="1"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2:53:12Z</dcterms:modified>
  <cp:revision>52</cp:revision>
  <dc:subject/>
  <dc:title>خوارزميات و مباديء برمجة</dc:title>
</cp:coreProperties>
</file>