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10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wmf" ContentType="image/x-wmf"/>
  <Override PartName="/ppt/media/image29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3D8-B1E2-4383-AD21-B8F6757F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104-D70B-472A-A1A4-C25A1DDD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A5B-6B21-427D-A01B-C700FB3C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37B-0FF4-443F-9672-3A7AC4D3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262E-6727-4134-8D3B-AAA9953C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3D9F-D085-4CAD-B685-C402C5DD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AB6A-D050-493E-B08C-3332F476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08A7-7018-41CA-98E0-5CC337BB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2A55-4ECC-46C4-9309-8BCF69C7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E93F-A501-4F3B-A43A-13649D3B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36E8-1206-430B-A649-A85DF0ED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6F1-42EE-413F-B319-B6318970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4F67-3D36-4B23-9875-2F161D60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D66E-2B89-459D-8A2F-980FE12A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7369-E045-414E-97F2-BA3527A0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20FA-E1D8-486F-9FD4-D16C7E24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865F-ACE9-4C5C-984D-F62655FD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00A-237C-475A-85E6-F7D27E15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DD4-4A7E-4DDB-9F2E-E1BA01C1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94A-533B-48A5-8EE9-0689F941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49F-0989-4683-952E-EAE11241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D94-B9BC-4B1F-A369-BFC75CFF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C90-144E-4F1E-9C4D-C43BD5A7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5538-C34A-44E2-8672-C88EB5E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8124-C0C1-4BE1-AD72-623B10207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790A-9F1D-476D-9084-058372135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مقدمة إلى دراسةِ العضلات وعلم الميكانيكا الحيويةِ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24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4YEOSPORT"/>
              </a:rPr>
              <a:t>Qwertyuiopasdfghjkl;zxcvbnm,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Structural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ss-Strain Cur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Points on Cu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stic Modul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ield Poi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stic Reg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stic Reg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idual Stra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fety Fact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Verdana"/>
              </a:rPr>
              <a:t>Mechanical Energ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= ½ stress * str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Area under the cur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4952880" y="2039760"/>
            <a:ext cx="38862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Materi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ast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near relationship between stress &amp; stra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7" descr="elastic"/>
          <p:cNvPicPr/>
          <p:nvPr/>
        </p:nvPicPr>
        <p:blipFill>
          <a:blip r:embed="rId1"/>
          <a:stretch/>
        </p:blipFill>
        <p:spPr>
          <a:xfrm>
            <a:off x="5486400" y="3500280"/>
            <a:ext cx="2906640" cy="251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elastic1"/>
          <p:cNvPicPr/>
          <p:nvPr/>
        </p:nvPicPr>
        <p:blipFill>
          <a:blip r:embed="rId2"/>
          <a:stretch/>
        </p:blipFill>
        <p:spPr>
          <a:xfrm>
            <a:off x="1219320" y="3610080"/>
            <a:ext cx="32763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Materi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6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coelast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arly all biologic tiss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ifestations of Viscoelastic Prope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te of Load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yster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ee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10" descr="viscoelastic"/>
          <p:cNvPicPr/>
          <p:nvPr/>
        </p:nvPicPr>
        <p:blipFill>
          <a:blip r:embed="rId1"/>
          <a:stretch/>
        </p:blipFill>
        <p:spPr>
          <a:xfrm>
            <a:off x="4572000" y="2133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Materi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6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coelast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arly all biologic tiss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ifestations of Viscoelastic Prope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Rate of Load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yster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ee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6" descr="laoding rates"/>
          <p:cNvPicPr/>
          <p:nvPr/>
        </p:nvPicPr>
        <p:blipFill>
          <a:blip r:embed="rId1"/>
          <a:stretch/>
        </p:blipFill>
        <p:spPr>
          <a:xfrm>
            <a:off x="5638680" y="1523880"/>
            <a:ext cx="2613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Materi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6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coelast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arly all biologic tiss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ifestations of Viscoelastic Prope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te of Load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Hyster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ee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6" descr="hysteresis"/>
          <p:cNvPicPr/>
          <p:nvPr/>
        </p:nvPicPr>
        <p:blipFill>
          <a:blip r:embed="rId1"/>
          <a:stretch/>
        </p:blipFill>
        <p:spPr>
          <a:xfrm>
            <a:off x="5105520" y="1600200"/>
            <a:ext cx="2985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Materi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6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coelast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arly all biologic tiss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ifestations of Viscoelastic Prope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te of Load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yster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Cree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6" descr="creep1"/>
          <p:cNvPicPr/>
          <p:nvPr/>
        </p:nvPicPr>
        <p:blipFill>
          <a:blip r:embed="rId1"/>
          <a:stretch/>
        </p:blipFill>
        <p:spPr>
          <a:xfrm>
            <a:off x="4876920" y="1441440"/>
            <a:ext cx="4267080" cy="2368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reep"/>
          <p:cNvPicPr/>
          <p:nvPr/>
        </p:nvPicPr>
        <p:blipFill>
          <a:blip r:embed="rId2"/>
          <a:stretch/>
        </p:blipFill>
        <p:spPr>
          <a:xfrm>
            <a:off x="5757840" y="3976560"/>
            <a:ext cx="221616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teri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if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i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itt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6" descr="material properties"/>
          <p:cNvPicPr/>
          <p:nvPr/>
        </p:nvPicPr>
        <p:blipFill>
          <a:blip r:embed="rId1"/>
          <a:stretch/>
        </p:blipFill>
        <p:spPr>
          <a:xfrm>
            <a:off x="3886200" y="2286000"/>
            <a:ext cx="47307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view Anatomical Te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rectional Te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ior/Infer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ximal/Dis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terior/Poster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l/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ficial/Dee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vement Te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on/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duction/Ad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rizontal Abduction/Hor. Ad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Rotation/Ex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ial Deviation/Ulnar Dev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ination/Pro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rsion/E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solute vs Relat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olute Reference Fr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gments intersect in joint center &amp; movement of segment is described with respect to that joi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7" descr="absolute reference frame"/>
          <p:cNvPicPr/>
          <p:nvPr/>
        </p:nvPicPr>
        <p:blipFill>
          <a:blip r:embed="rId1"/>
          <a:stretch/>
        </p:blipFill>
        <p:spPr>
          <a:xfrm>
            <a:off x="1905120" y="1752480"/>
            <a:ext cx="152244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absolute reference frame1"/>
          <p:cNvPicPr/>
          <p:nvPr/>
        </p:nvPicPr>
        <p:blipFill>
          <a:blip r:embed="rId2"/>
          <a:stretch/>
        </p:blipFill>
        <p:spPr>
          <a:xfrm>
            <a:off x="1973160" y="3809880"/>
            <a:ext cx="1400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8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تعاري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600" spc="-1" strike="noStrike">
                <a:solidFill>
                  <a:srgbClr val="000000"/>
                </a:solidFill>
                <a:latin typeface="Verdana"/>
              </a:rPr>
              <a:t>دراسة العضلا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600" spc="-1" strike="noStrike">
                <a:solidFill>
                  <a:srgbClr val="000000"/>
                </a:solidFill>
                <a:latin typeface="Verdana"/>
              </a:rPr>
              <a:t>علم الميكانيكا الحيوي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10" descr="davinci"/>
          <p:cNvPicPr/>
          <p:nvPr/>
        </p:nvPicPr>
        <p:blipFill>
          <a:blip r:embed="rId1"/>
          <a:stretch/>
        </p:blipFill>
        <p:spPr>
          <a:xfrm>
            <a:off x="1371600" y="2971800"/>
            <a:ext cx="269244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biodef"/>
          <p:cNvPicPr/>
          <p:nvPr/>
        </p:nvPicPr>
        <p:blipFill>
          <a:blip r:embed="rId2"/>
          <a:stretch/>
        </p:blipFill>
        <p:spPr>
          <a:xfrm>
            <a:off x="4876920" y="2971800"/>
            <a:ext cx="35319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solute vs Rel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solute Reference Fr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tive Reference Fr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ment of segment described relative to adjacent seg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8" descr="relative reference frame"/>
          <p:cNvPicPr/>
          <p:nvPr/>
        </p:nvPicPr>
        <p:blipFill>
          <a:blip r:embed="rId1"/>
          <a:stretch/>
        </p:blipFill>
        <p:spPr>
          <a:xfrm>
            <a:off x="1981080" y="1752480"/>
            <a:ext cx="1395360" cy="2057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relative reference frame1"/>
          <p:cNvPicPr/>
          <p:nvPr/>
        </p:nvPicPr>
        <p:blipFill>
          <a:blip r:embed="rId2"/>
          <a:stretch/>
        </p:blipFill>
        <p:spPr>
          <a:xfrm>
            <a:off x="1982880" y="3962520"/>
            <a:ext cx="1414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25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tial Reference Fra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vement of body relative to grou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ccurs in xyz direc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8"/>
          <p:cNvSpPr/>
          <p:nvPr/>
        </p:nvSpPr>
        <p:spPr>
          <a:xfrm flipV="1">
            <a:off x="3505320" y="21333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9"/>
          <p:cNvSpPr/>
          <p:nvPr/>
        </p:nvSpPr>
        <p:spPr>
          <a:xfrm flipH="1">
            <a:off x="1219320" y="45720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1"/>
          <p:cNvSpPr/>
          <p:nvPr/>
        </p:nvSpPr>
        <p:spPr>
          <a:xfrm flipH="1" flipV="1">
            <a:off x="2514600" y="2437920"/>
            <a:ext cx="99072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35268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8380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220968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65760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ward (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3657600" y="4191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ward (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304920" y="4724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ft (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304812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ght (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15238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 (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981080" y="4038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wn (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tesian Coordinate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xed reference po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,y and z coordin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8" descr="cartesian-coordinate-system"/>
          <p:cNvPicPr/>
          <p:nvPr/>
        </p:nvPicPr>
        <p:blipFill>
          <a:blip r:embed="rId1"/>
          <a:stretch/>
        </p:blipFill>
        <p:spPr>
          <a:xfrm>
            <a:off x="457200" y="17524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mme74gr"/>
          <p:cNvPicPr/>
          <p:nvPr/>
        </p:nvPicPr>
        <p:blipFill>
          <a:blip r:embed="rId2"/>
          <a:stretch/>
        </p:blipFill>
        <p:spPr>
          <a:xfrm>
            <a:off x="2590920" y="2666880"/>
            <a:ext cx="2330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atomical Planes &amp; A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ne of Mo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dimensional flat surf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x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int about which movement occu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pendicular to the plane of mov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ole Body Planes and Ax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gmental Planes and Ax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atomical Pla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3" descr="PLANES"/>
          <p:cNvPicPr/>
          <p:nvPr/>
        </p:nvPicPr>
        <p:blipFill>
          <a:blip r:embed="rId1"/>
          <a:stretch/>
        </p:blipFill>
        <p:spPr>
          <a:xfrm>
            <a:off x="457200" y="1523880"/>
            <a:ext cx="8377200" cy="51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anes of move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git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ft/right hal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pendicular Axis -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Frontal or Mediolater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4" descr="whole body"/>
          <p:cNvPicPr/>
          <p:nvPr/>
        </p:nvPicPr>
        <p:blipFill>
          <a:blip r:embed="rId1"/>
          <a:stretch/>
        </p:blipFill>
        <p:spPr>
          <a:xfrm>
            <a:off x="4419720" y="1752480"/>
            <a:ext cx="44956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anes &amp; A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ntal Pla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erior/posterior hal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xis -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Anteroposterior or Sagitt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4" descr="FRONTAL"/>
          <p:cNvPicPr/>
          <p:nvPr/>
        </p:nvPicPr>
        <p:blipFill>
          <a:blip r:embed="rId1"/>
          <a:stretch/>
        </p:blipFill>
        <p:spPr>
          <a:xfrm>
            <a:off x="4645080" y="2035080"/>
            <a:ext cx="392256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anes &amp; A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verse Pla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per/lower hal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xis -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Longitudi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transverse"/>
          <p:cNvPicPr/>
          <p:nvPr/>
        </p:nvPicPr>
        <p:blipFill>
          <a:blip r:embed="rId1"/>
          <a:stretch/>
        </p:blipFill>
        <p:spPr>
          <a:xfrm>
            <a:off x="3962520" y="2362320"/>
            <a:ext cx="49528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Planes and a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agonal or Obliqu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e of mov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pendicular to the pla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to fi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5080" y="1752480"/>
            <a:ext cx="392256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8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تعاري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kinematic"/>
          <p:cNvPicPr/>
          <p:nvPr/>
        </p:nvPicPr>
        <p:blipFill>
          <a:blip r:embed="rId1"/>
          <a:stretch/>
        </p:blipFill>
        <p:spPr>
          <a:xfrm>
            <a:off x="1082520" y="2666880"/>
            <a:ext cx="2374920" cy="2743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inemat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inet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grf"/>
          <p:cNvPicPr/>
          <p:nvPr/>
        </p:nvPicPr>
        <p:blipFill>
          <a:blip r:embed="rId2"/>
          <a:stretch/>
        </p:blipFill>
        <p:spPr>
          <a:xfrm>
            <a:off x="5029200" y="3276720"/>
            <a:ext cx="270504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8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تعاري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18284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600" spc="-1" strike="noStrike">
                <a:solidFill>
                  <a:srgbClr val="000000"/>
                </a:solidFill>
                <a:latin typeface="ae_Hor"/>
                <a:cs typeface="ae_Hor"/>
              </a:rPr>
              <a:t>التحليل الساكن</a:t>
            </a:r>
            <a:r>
              <a:rPr b="0" lang="en-US" sz="2600" spc="-1" strike="noStrike">
                <a:solidFill>
                  <a:srgbClr val="000000"/>
                </a:solidFill>
                <a:latin typeface="ae_Hor"/>
                <a:ea typeface="ae_Hor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e_Hor"/>
                <a:ea typeface="ae_Hor"/>
              </a:rPr>
              <a:t>                      </a:t>
            </a:r>
            <a:r>
              <a:rPr b="0" lang="ar-IQ" sz="2600" spc="-1" strike="noStrike">
                <a:solidFill>
                  <a:srgbClr val="000000"/>
                </a:solidFill>
                <a:latin typeface="ae_Hor"/>
                <a:cs typeface="ae_Hor"/>
              </a:rPr>
              <a:t>تحليل ديناميكا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6" descr="emg1a"/>
          <p:cNvPicPr/>
          <p:nvPr/>
        </p:nvPicPr>
        <p:blipFill>
          <a:blip r:embed="rId1"/>
          <a:stretch/>
        </p:blipFill>
        <p:spPr>
          <a:xfrm>
            <a:off x="4881600" y="2819520"/>
            <a:ext cx="1967040" cy="2971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biodex stableometer"/>
          <p:cNvPicPr/>
          <p:nvPr/>
        </p:nvPicPr>
        <p:blipFill>
          <a:blip r:embed="rId2"/>
          <a:stretch/>
        </p:blipFill>
        <p:spPr>
          <a:xfrm>
            <a:off x="1322280" y="2819520"/>
            <a:ext cx="2027520" cy="3047760"/>
          </a:xfrm>
          <a:prstGeom prst="rect">
            <a:avLst/>
          </a:prstGeom>
          <a:ln w="0">
            <a:noFill/>
          </a:ln>
        </p:spPr>
      </p:pic>
      <p:sp>
        <p:nvSpPr>
          <p:cNvPr id="99" name="Line 8"/>
          <p:cNvSpPr/>
          <p:nvPr/>
        </p:nvSpPr>
        <p:spPr>
          <a:xfrm flipH="1">
            <a:off x="2285640" y="2133720"/>
            <a:ext cx="6858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572000" y="2743200"/>
            <a:ext cx="304920" cy="533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تعاري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600" spc="-1" strike="noStrike">
                <a:solidFill>
                  <a:srgbClr val="000000"/>
                </a:solidFill>
                <a:latin typeface="ae_Hor"/>
                <a:cs typeface="ae_Hor"/>
              </a:rPr>
              <a:t>علم قياسات الجسم البشري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antro"/>
          <p:cNvPicPr/>
          <p:nvPr/>
        </p:nvPicPr>
        <p:blipFill>
          <a:blip r:embed="rId1"/>
          <a:stretch/>
        </p:blipFill>
        <p:spPr>
          <a:xfrm>
            <a:off x="4889520" y="1752480"/>
            <a:ext cx="3432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800" spc="-1" strike="noStrike">
                <a:solidFill>
                  <a:srgbClr val="000000"/>
                </a:solidFill>
                <a:latin typeface="ae_Cortoba"/>
                <a:cs typeface="ae_Cortoba"/>
              </a:rPr>
              <a:t>لماذا يَدْرسُ علم الميكانيكا الحيويةُ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e_Hor"/>
                <a:cs typeface="ae_Hor"/>
              </a:rPr>
              <a:t>تطبيق القوانين الميكانيكية على الحركات الرياضي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e_Hor"/>
                <a:cs typeface="ae_Hor"/>
              </a:rPr>
              <a:t>الأداء الرياضي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e_Hor"/>
                <a:cs typeface="ae_Hor"/>
              </a:rPr>
              <a:t>الهندسة البشري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e_Hor"/>
                <a:cs typeface="ae_Hor"/>
              </a:rPr>
              <a:t>تجنب الإصابات الرياضي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600" spc="-1" strike="noStrike">
                <a:solidFill>
                  <a:srgbClr val="000000"/>
                </a:solidFill>
                <a:latin typeface="ae_Hor"/>
                <a:cs typeface="ae_Hor"/>
              </a:rPr>
              <a:t>إعادة التأهيل المُحسَّن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9" descr="biomech"/>
          <p:cNvPicPr/>
          <p:nvPr/>
        </p:nvPicPr>
        <p:blipFill>
          <a:blip r:embed="rId1"/>
          <a:stretch/>
        </p:blipFill>
        <p:spPr>
          <a:xfrm>
            <a:off x="4419720" y="1828800"/>
            <a:ext cx="1844640" cy="4419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applied biomech"/>
          <p:cNvPicPr/>
          <p:nvPr/>
        </p:nvPicPr>
        <p:blipFill>
          <a:blip r:embed="rId2"/>
          <a:stretch/>
        </p:blipFill>
        <p:spPr>
          <a:xfrm>
            <a:off x="6553080" y="1828800"/>
            <a:ext cx="227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e_AlArabiya"/>
                <a:cs typeface="ae_AlArabiya"/>
              </a:rPr>
              <a:t>طرق حل المشاكل بايوميكانيكيا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vs Quantit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lar vs Vector Quant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5" descr="thinking"/>
          <p:cNvPicPr/>
          <p:nvPr/>
        </p:nvPicPr>
        <p:blipFill>
          <a:blip r:embed="rId1"/>
          <a:stretch/>
        </p:blipFill>
        <p:spPr>
          <a:xfrm>
            <a:off x="1233360" y="1905120"/>
            <a:ext cx="25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Structural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ss-Strain Cur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Points on Cu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stic Modul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ield Poi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stic Reg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stic Reg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idual Stra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fety Fact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chanical Energ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5" descr="elastic modulus"/>
          <p:cNvPicPr/>
          <p:nvPr/>
        </p:nvPicPr>
        <p:blipFill>
          <a:blip r:embed="rId1"/>
          <a:stretch/>
        </p:blipFill>
        <p:spPr>
          <a:xfrm>
            <a:off x="4753080" y="2571840"/>
            <a:ext cx="3705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Structural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ss-Strain Cur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Points on Cu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stic Modul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ield Poi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stic Reg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stic Reg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Verdana"/>
              </a:rPr>
              <a:t>Residual Stra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fety Fact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chanical Energ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10" descr="residual strain"/>
          <p:cNvPicPr/>
          <p:nvPr/>
        </p:nvPicPr>
        <p:blipFill>
          <a:blip r:embed="rId1"/>
          <a:stretch/>
        </p:blipFill>
        <p:spPr>
          <a:xfrm>
            <a:off x="4786200" y="2128680"/>
            <a:ext cx="363852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3:56:53Z</dcterms:created>
  <dc:creator>sterner</dc:creator>
  <dc:description/>
  <dc:language>en-US</dc:language>
  <cp:lastModifiedBy>A</cp:lastModifiedBy>
  <dcterms:modified xsi:type="dcterms:W3CDTF">2011-03-20T12:56:31Z</dcterms:modified>
  <cp:revision>6</cp:revision>
  <dc:subject/>
  <dc:title>Introduction to Kinesiology &amp; Biomechanics</dc:title>
</cp:coreProperties>
</file>