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804-F704-4CF3-AB3C-113F3622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4E9-B408-4EEE-9297-8562C5D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15F-AD47-45DA-A554-EE512968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58E-F3A5-4F16-894E-7ACEFF38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C658-1E81-4252-8806-C657C2E9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8EE6-6862-42B6-AE38-EBFA13E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795-C7BF-45F4-AE2B-2C7065B4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686-C2B4-4118-B99C-7FF072CA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557-7211-4BA6-B243-0F74C5EC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8A8-28AC-42D1-9D7F-ABAC381D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FBF-343E-4FB7-A98F-660716E9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C6F-19AB-4249-844E-BCE3E042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9A16-FB94-4AD0-8622-2C178FD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259-9794-4BF1-BA94-544607A5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C3E-8EC7-4ECC-BB53-FDE2F3E6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B5F3-A915-4194-BD9B-AA5E6C09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F3EB-E59B-4EDD-9719-58E70A00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2DE-5B6F-40B9-93C8-9A72F538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76A-3AC7-4C37-8298-73F1C035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754-CAAF-4CD4-A2BA-74135051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CB6-E1E5-4A8F-887C-3ED5E4C5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A76-2EF4-43B2-BC24-6878464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DDE-322C-42D4-8059-2F34643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E49-A4C2-445D-9821-5EEB2867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C601-6E0A-4284-A17C-C47CB6504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BAB-9687-4786-8708-9C296E05A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مقدمة إلى دراسةِ العضلات وعلم الميكانيكا الحيويةِ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24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4YEOSPORT"/>
              </a:rPr>
              <a:t>Qwertyuiopasdfghjkl;zxcvbnm,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= ½ stress * str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Area under the curv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4952880" y="2039760"/>
            <a:ext cx="38862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near relationship between stress &amp; str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elastic"/>
          <p:cNvPicPr/>
          <p:nvPr/>
        </p:nvPicPr>
        <p:blipFill>
          <a:blip r:embed="rId1"/>
          <a:stretch/>
        </p:blipFill>
        <p:spPr>
          <a:xfrm>
            <a:off x="5486400" y="3500280"/>
            <a:ext cx="2906640" cy="251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elastic1"/>
          <p:cNvPicPr/>
          <p:nvPr/>
        </p:nvPicPr>
        <p:blipFill>
          <a:blip r:embed="rId2"/>
          <a:stretch/>
        </p:blipFill>
        <p:spPr>
          <a:xfrm>
            <a:off x="1219320" y="3610080"/>
            <a:ext cx="32763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10" descr="viscoelastic"/>
          <p:cNvPicPr/>
          <p:nvPr/>
        </p:nvPicPr>
        <p:blipFill>
          <a:blip r:embed="rId1"/>
          <a:stretch/>
        </p:blipFill>
        <p:spPr>
          <a:xfrm>
            <a:off x="4572000" y="2133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laoding rates"/>
          <p:cNvPicPr/>
          <p:nvPr/>
        </p:nvPicPr>
        <p:blipFill>
          <a:blip r:embed="rId1"/>
          <a:stretch/>
        </p:blipFill>
        <p:spPr>
          <a:xfrm>
            <a:off x="5638680" y="1523880"/>
            <a:ext cx="2613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6" descr="hysteresis"/>
          <p:cNvPicPr/>
          <p:nvPr/>
        </p:nvPicPr>
        <p:blipFill>
          <a:blip r:embed="rId1"/>
          <a:stretch/>
        </p:blipFill>
        <p:spPr>
          <a:xfrm>
            <a:off x="5105520" y="1600200"/>
            <a:ext cx="2985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Materia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6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coelas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arly all biologic t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ifestations of Viscoelastic Proper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of Loa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Cree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6" descr="creep1"/>
          <p:cNvPicPr/>
          <p:nvPr/>
        </p:nvPicPr>
        <p:blipFill>
          <a:blip r:embed="rId1"/>
          <a:stretch/>
        </p:blipFill>
        <p:spPr>
          <a:xfrm>
            <a:off x="4876920" y="1441440"/>
            <a:ext cx="4267080" cy="236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creep"/>
          <p:cNvPicPr/>
          <p:nvPr/>
        </p:nvPicPr>
        <p:blipFill>
          <a:blip r:embed="rId2"/>
          <a:stretch/>
        </p:blipFill>
        <p:spPr>
          <a:xfrm>
            <a:off x="5757840" y="3976560"/>
            <a:ext cx="22161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ri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i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i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tt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6" descr="material properties"/>
          <p:cNvPicPr/>
          <p:nvPr/>
        </p:nvPicPr>
        <p:blipFill>
          <a:blip r:embed="rId1"/>
          <a:stretch/>
        </p:blipFill>
        <p:spPr>
          <a:xfrm>
            <a:off x="3886200" y="2286000"/>
            <a:ext cx="47307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view Anatomical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ional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/Infer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ximal/Dis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/Poster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/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ficial/Dee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vement Te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on/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duction/Ad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rizontal Abduction/Hor. Ad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Rotation/Ex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ial Deviation/Ulnar Dev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ination/Pro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rsion/E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 vs Relati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olute Reference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gments intersect in joint center &amp; movement of segment is described with respect to that j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7" descr="absolute reference frame"/>
          <p:cNvPicPr/>
          <p:nvPr/>
        </p:nvPicPr>
        <p:blipFill>
          <a:blip r:embed="rId1"/>
          <a:stretch/>
        </p:blipFill>
        <p:spPr>
          <a:xfrm>
            <a:off x="1905120" y="1752480"/>
            <a:ext cx="1522440" cy="205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absolute reference frame1"/>
          <p:cNvPicPr/>
          <p:nvPr/>
        </p:nvPicPr>
        <p:blipFill>
          <a:blip r:embed="rId2"/>
          <a:stretch/>
        </p:blipFill>
        <p:spPr>
          <a:xfrm>
            <a:off x="1973160" y="3809880"/>
            <a:ext cx="1400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Verdana"/>
              </a:rPr>
              <a:t>دراسة العضلا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Verdana"/>
              </a:rPr>
              <a:t>علم الميكانيكا الحيو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0" descr="davinci"/>
          <p:cNvPicPr/>
          <p:nvPr/>
        </p:nvPicPr>
        <p:blipFill>
          <a:blip r:embed="rId1"/>
          <a:stretch/>
        </p:blipFill>
        <p:spPr>
          <a:xfrm>
            <a:off x="1371600" y="2971800"/>
            <a:ext cx="269244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iodef"/>
          <p:cNvPicPr/>
          <p:nvPr/>
        </p:nvPicPr>
        <p:blipFill>
          <a:blip r:embed="rId2"/>
          <a:stretch/>
        </p:blipFill>
        <p:spPr>
          <a:xfrm>
            <a:off x="4876920" y="2971800"/>
            <a:ext cx="35319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olute vs Rel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lute Reference Fr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ve Reference Fr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ment of segment described relative to adjacent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8" descr="relative reference frame"/>
          <p:cNvPicPr/>
          <p:nvPr/>
        </p:nvPicPr>
        <p:blipFill>
          <a:blip r:embed="rId1"/>
          <a:stretch/>
        </p:blipFill>
        <p:spPr>
          <a:xfrm>
            <a:off x="1981080" y="1752480"/>
            <a:ext cx="1395360" cy="2057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relative reference frame1"/>
          <p:cNvPicPr/>
          <p:nvPr/>
        </p:nvPicPr>
        <p:blipFill>
          <a:blip r:embed="rId2"/>
          <a:stretch/>
        </p:blipFill>
        <p:spPr>
          <a:xfrm>
            <a:off x="1982880" y="3962520"/>
            <a:ext cx="1414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25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tial Reference Fr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vement of body relative to grou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curs in xyz dire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8"/>
          <p:cNvSpPr/>
          <p:nvPr/>
        </p:nvSpPr>
        <p:spPr>
          <a:xfrm flipV="1">
            <a:off x="3505320" y="21333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1219320" y="45720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1"/>
          <p:cNvSpPr/>
          <p:nvPr/>
        </p:nvSpPr>
        <p:spPr>
          <a:xfrm flipH="1" flipV="1">
            <a:off x="2514600" y="2437920"/>
            <a:ext cx="99072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35268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8380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20968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6576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ward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65760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ward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04920" y="4724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304812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15238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 (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981080" y="4038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wn (-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tesian Coordinat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xed reference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,y and z coordin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8" descr="cartesian-coordinate-system"/>
          <p:cNvPicPr/>
          <p:nvPr/>
        </p:nvPicPr>
        <p:blipFill>
          <a:blip r:embed="rId1"/>
          <a:stretch/>
        </p:blipFill>
        <p:spPr>
          <a:xfrm>
            <a:off x="457200" y="17524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mme74gr"/>
          <p:cNvPicPr/>
          <p:nvPr/>
        </p:nvPicPr>
        <p:blipFill>
          <a:blip r:embed="rId2"/>
          <a:stretch/>
        </p:blipFill>
        <p:spPr>
          <a:xfrm>
            <a:off x="2590920" y="2666880"/>
            <a:ext cx="2330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ical 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ne of Mo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 dimensional flat surf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x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about which movement occ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pendicular to the plane of mov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le Body Planes and Ax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mental Planes and Ax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ical Pla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3" descr="PLANES"/>
          <p:cNvPicPr/>
          <p:nvPr/>
        </p:nvPicPr>
        <p:blipFill>
          <a:blip r:embed="rId1"/>
          <a:stretch/>
        </p:blipFill>
        <p:spPr>
          <a:xfrm>
            <a:off x="457200" y="1523880"/>
            <a:ext cx="8377200" cy="51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of mov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git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/right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pendicular 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Frontal or Mediolat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4" descr="whole body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ntal Pla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erior/posterior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Anteroposterior or Sagitt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4" descr="FRONTAL"/>
          <p:cNvPicPr/>
          <p:nvPr/>
        </p:nvPicPr>
        <p:blipFill>
          <a:blip r:embed="rId1"/>
          <a:stretch/>
        </p:blipFill>
        <p:spPr>
          <a:xfrm>
            <a:off x="4645080" y="2035080"/>
            <a:ext cx="39225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nes &amp;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verse Pla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per/lower hal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xis - </a:t>
            </a:r>
            <a:r>
              <a:rPr b="0" lang="en-US" sz="2200" spc="-1" strike="noStrike">
                <a:solidFill>
                  <a:srgbClr val="cc0000"/>
                </a:solidFill>
                <a:latin typeface="Verdana"/>
              </a:rPr>
              <a:t>Longitudi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transverse"/>
          <p:cNvPicPr/>
          <p:nvPr/>
        </p:nvPicPr>
        <p:blipFill>
          <a:blip r:embed="rId1"/>
          <a:stretch/>
        </p:blipFill>
        <p:spPr>
          <a:xfrm>
            <a:off x="3962520" y="236232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Planes and a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agonal or Obliqu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e of mov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pendicular to the pla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 to fi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kinematic"/>
          <p:cNvPicPr/>
          <p:nvPr/>
        </p:nvPicPr>
        <p:blipFill>
          <a:blip r:embed="rId1"/>
          <a:stretch/>
        </p:blipFill>
        <p:spPr>
          <a:xfrm>
            <a:off x="1082520" y="2666880"/>
            <a:ext cx="2374920" cy="2743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nema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inet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grf"/>
          <p:cNvPicPr/>
          <p:nvPr/>
        </p:nvPicPr>
        <p:blipFill>
          <a:blip r:embed="rId2"/>
          <a:stretch/>
        </p:blipFill>
        <p:spPr>
          <a:xfrm>
            <a:off x="5029200" y="3276720"/>
            <a:ext cx="270504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التحليل الساكن</a:t>
            </a:r>
            <a:r>
              <a:rPr b="0" lang="en-US" sz="2600" spc="-1" strike="noStrike">
                <a:solidFill>
                  <a:srgbClr val="000000"/>
                </a:solidFill>
                <a:latin typeface="ae_Hor"/>
                <a:ea typeface="ae_Hor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e_Hor"/>
                <a:ea typeface="ae_Hor"/>
              </a:rPr>
              <a:t>                      </a:t>
            </a: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تحليل ديناميكا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emg1a"/>
          <p:cNvPicPr/>
          <p:nvPr/>
        </p:nvPicPr>
        <p:blipFill>
          <a:blip r:embed="rId1"/>
          <a:stretch/>
        </p:blipFill>
        <p:spPr>
          <a:xfrm>
            <a:off x="4881600" y="2819520"/>
            <a:ext cx="196704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biodex stableometer"/>
          <p:cNvPicPr/>
          <p:nvPr/>
        </p:nvPicPr>
        <p:blipFill>
          <a:blip r:embed="rId2"/>
          <a:stretch/>
        </p:blipFill>
        <p:spPr>
          <a:xfrm>
            <a:off x="1322280" y="2819520"/>
            <a:ext cx="2027520" cy="3047760"/>
          </a:xfrm>
          <a:prstGeom prst="rect">
            <a:avLst/>
          </a:prstGeom>
          <a:ln w="0">
            <a:noFill/>
          </a:ln>
        </p:spPr>
      </p:pic>
      <p:sp>
        <p:nvSpPr>
          <p:cNvPr id="99" name="Line 8"/>
          <p:cNvSpPr/>
          <p:nvPr/>
        </p:nvSpPr>
        <p:spPr>
          <a:xfrm flipH="1">
            <a:off x="2285640" y="2133720"/>
            <a:ext cx="6858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572000" y="2743200"/>
            <a:ext cx="304920" cy="533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ae_AlArabiya"/>
                <a:cs typeface="ae_AlArabiya"/>
              </a:rPr>
              <a:t>التعاري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علم قياسات الجسم البشر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antro"/>
          <p:cNvPicPr/>
          <p:nvPr/>
        </p:nvPicPr>
        <p:blipFill>
          <a:blip r:embed="rId1"/>
          <a:stretch/>
        </p:blipFill>
        <p:spPr>
          <a:xfrm>
            <a:off x="4889520" y="1752480"/>
            <a:ext cx="3432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800" spc="-1" strike="noStrike">
                <a:solidFill>
                  <a:srgbClr val="000000"/>
                </a:solidFill>
                <a:latin typeface="ae_Cortoba"/>
                <a:cs typeface="ae_Cortoba"/>
              </a:rPr>
              <a:t>لماذا يَدْرسُ علم الميكانيكا الحيويةُ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تطبيق القوانين الميكانيكية على الحركات الرياض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الأداء الرياض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الهندسة البشر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e_Hor"/>
                <a:cs typeface="ae_Hor"/>
              </a:rPr>
              <a:t>تجنب الإصابات الرياضي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600" spc="-1" strike="noStrike">
                <a:solidFill>
                  <a:srgbClr val="000000"/>
                </a:solidFill>
                <a:latin typeface="ae_Hor"/>
                <a:cs typeface="ae_Hor"/>
              </a:rPr>
              <a:t>إعادة التأهيل المُحسَّن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9" descr="biomech"/>
          <p:cNvPicPr/>
          <p:nvPr/>
        </p:nvPicPr>
        <p:blipFill>
          <a:blip r:embed="rId1"/>
          <a:stretch/>
        </p:blipFill>
        <p:spPr>
          <a:xfrm>
            <a:off x="4419720" y="1828800"/>
            <a:ext cx="1844640" cy="441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applied biomech"/>
          <p:cNvPicPr/>
          <p:nvPr/>
        </p:nvPicPr>
        <p:blipFill>
          <a:blip r:embed="rId2"/>
          <a:stretch/>
        </p:blipFill>
        <p:spPr>
          <a:xfrm>
            <a:off x="6553080" y="1828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e_AlArabiya"/>
                <a:cs typeface="ae_AlArabiya"/>
              </a:rPr>
              <a:t>طرق حل المشاكل بايوميكانيكيا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ative vs Quantit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lar vs Vector Quant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thinking"/>
          <p:cNvPicPr/>
          <p:nvPr/>
        </p:nvPicPr>
        <p:blipFill>
          <a:blip r:embed="rId1"/>
          <a:stretch/>
        </p:blipFill>
        <p:spPr>
          <a:xfrm>
            <a:off x="1233360" y="1905120"/>
            <a:ext cx="25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elastic modulus"/>
          <p:cNvPicPr/>
          <p:nvPr/>
        </p:nvPicPr>
        <p:blipFill>
          <a:blip r:embed="rId1"/>
          <a:stretch/>
        </p:blipFill>
        <p:spPr>
          <a:xfrm>
            <a:off x="4753080" y="2571840"/>
            <a:ext cx="37051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Structural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ss-Strain Cur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y Points on Cu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ield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stic Reg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Residual Stra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ail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fety Fact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cal Energ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0" descr="residual strain"/>
          <p:cNvPicPr/>
          <p:nvPr/>
        </p:nvPicPr>
        <p:blipFill>
          <a:blip r:embed="rId1"/>
          <a:stretch/>
        </p:blipFill>
        <p:spPr>
          <a:xfrm>
            <a:off x="4786200" y="2128680"/>
            <a:ext cx="363852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3:56:53Z</dcterms:created>
  <dc:creator>sterner</dc:creator>
  <dc:description/>
  <dc:language>en-US</dc:language>
  <cp:lastModifiedBy>A</cp:lastModifiedBy>
  <dcterms:modified xsi:type="dcterms:W3CDTF">2011-03-20T12:56:31Z</dcterms:modified>
  <cp:revision>6</cp:revision>
  <dc:subject/>
  <dc:title>Introduction to Kinesiology &amp; Biomechanics</dc:title>
</cp:coreProperties>
</file>