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BCFDF-A6B8-471B-AA9A-5399EECA0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BA5EB-D4CE-4479-8018-C5BB615AD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780AB-B705-4B99-8534-B6853569E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1788D-9105-4F6B-8053-7F6BE4D21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1A7A7-3218-42B4-893F-8253F489A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2CE62-4731-468A-9255-2A8BF30FB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3EFBA-689E-4580-A303-69E0FCBC1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21290-C977-4643-9565-9FFBC928E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B1206-9486-48D4-8F95-6E8109B02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FBB6B-C2FA-4C5E-80D9-FF769D76D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560B0-02FE-442D-AA50-D802C4278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F6CF7-DF5B-4629-8B21-82A87EA2C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0A37C-9319-4117-833E-FAC77F010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2BBF6-C6E3-44E7-AD98-71292BFC9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7D59C-A341-404C-8D73-8E9CAC46A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5357F4-8D26-4DF3-8011-40FA5EF744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C8D18C-D8CF-4B65-A08B-338F6885F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7E79CA-6168-4FA6-B43D-032E91C2EA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8C5510-9EC8-45BB-8733-A593399ACA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F7051B-6820-4182-B265-978DC824AF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3138E9-EE7E-400C-8F82-69A3053C3E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4E836E-8571-46BE-93AD-1B9F2FBCA8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0A322-F915-4CF4-B918-0FE0081B4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B3B63A-354F-4828-AD2F-DEC788FBA6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3992B0-D2BC-48DA-B97A-E1FCCC61F8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B09AA-5778-454D-B2EB-A15E6152D3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853CCC-057F-434A-A493-482AA8A63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B357D9-1FCF-4A76-88F2-03F37002A7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4D6085-44C7-4F4E-BC93-0BBCC65D56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6679AE-4F3D-4472-B474-5F16078A7A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EAE7FD-D5C3-4660-9179-3E601A4FA0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E0BE57-1B73-4F29-83ED-B750678559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D4D198-43E7-4C76-8B34-761CE28A67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3EE28-0874-442A-B28A-8AC9A5699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552B8B-A68F-4D3E-98D2-7B62DA933D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188A33-4E00-40B7-A30D-7F6F1BE0BF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F0DA73-CE24-4997-A294-8606030624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C88FC5-1142-4F4B-AE84-A02F718C17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704828-D504-46FD-B1F9-4EA535AE80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7F7D89-9A58-40DD-909B-878B76D392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D8545F-A6A9-4834-ACEB-A1D5BA7CFD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CC1130-0981-4908-BB22-325DB5B648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D2D56D-56A5-44C4-9A32-6FD231DFF5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36E3DB-6B74-4ECB-9CB5-E0EE2CB6CF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6184D-5AA6-4FD6-A940-FB5D5F2B1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88C3F6-64A7-44CC-B12D-DBFD324F3E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429E7E-564E-43D8-BE83-5E37C66004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480514-099F-4503-80EE-40854394F7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348331-2CBF-4593-B920-FC49A68CA0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DFC3FA-6B8B-47D0-958E-7E692981CD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EB56A7-717D-4055-B6CB-0734DA28F5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3B794C-8231-45E6-B2F0-5525130F04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163B6-F708-4C8B-81E7-52A7C30152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01D336-CDA6-449A-852E-F540E11961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724ECB-587A-4E32-84EF-E55DCF7AC0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93A39-16E2-44F6-B30A-C75557E54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98C655-C4D3-45D7-A18A-D828007206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5ADE14-9E5F-47D3-976A-1E523B8FF1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BC3A9C-8300-43BC-8B32-5E23B75E29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1F3380-D3DE-41C2-A452-D88DBBCDDF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D0B814-B701-4856-BFA1-2A33398AE5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1AF32F-69C3-4A48-8E2D-78E0838FA7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202CC4-BFB2-4468-A54E-6E6B884E68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34EDC1-820F-4EBA-8CB1-8B2067B0B4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4BA813-9232-40A9-AEAC-5884875E0C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413681-4742-4BA7-8CD8-F1F2DDC8F5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D3941-4BD6-4F9C-84E1-3A1D7F683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38CD2E-C6B7-4D92-9EB2-5D15276335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F32047-9624-4500-9D0A-1B43A7C363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80A17D-F23E-46B8-8742-361D5C3EF0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379C50-D871-4C16-8B7D-4D7C975C87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A7BA9E-87FD-4DBF-9D8A-0EFCA68EE4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9FEFF8-1956-401F-B521-4A3CBF38B5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BB9331-9070-4701-92B8-2DDC07C9B2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9CDDCE-4CAB-4BD3-A92A-FCF8084410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323E12-63C5-48E8-A7DC-8619F52940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068EAF-67DB-45C8-BB29-2057079DD6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F9661-6CFD-4F09-B9FD-3C6D88F1B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BAD681-3D93-4D12-837D-1D9C6287D7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77BD52-BFCE-43B3-9F82-6D9C818381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6A1647-35A9-4627-A892-C4B00D8106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E9701A-C5F8-49E0-A401-8BD4C8CB02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128200-A1D3-410D-86D5-032BB2E8E0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DB7D7-FD7B-4B22-AC03-4B8870DF4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9907-E78D-4FC3-9306-FD9B82E35616}"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3C16-BBC7-4154-8979-8AC18C463D03}"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5720-6781-45AB-98A4-13C0D120FBBC}"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0C127-988E-4B9E-A259-F6BE3E2DCBD9}"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623F-9429-4B84-8CA6-E36D34A6B20E}"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89DDD-A18F-45BC-9114-65C98DC7FFCA}"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1CC0-7A01-44C2-8D5F-ECE9F34A652D}"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11280" y="1844280"/>
            <a:ext cx="7772400" cy="2521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IQ" sz="6500" spc="-1" strike="noStrike">
                <a:solidFill>
                  <a:srgbClr val="000000"/>
                </a:solidFill>
                <a:latin typeface="Gill Sans MT"/>
                <a:cs typeface="SKR HEAD1"/>
              </a:rPr>
              <a:t>ماهية التنس الارضي</a:t>
            </a:r>
            <a:br>
              <a:rPr sz="6500"/>
            </a:br>
            <a:r>
              <a:rPr b="0" lang="ar-IQ" sz="4000" spc="-1" strike="noStrike">
                <a:solidFill>
                  <a:srgbClr val="000000"/>
                </a:solidFill>
                <a:latin typeface="Gill Sans MT"/>
                <a:ea typeface="SKR HEAD1"/>
              </a:rPr>
              <a:t> </a:t>
            </a:r>
            <a:endParaRPr b="0"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18"/>
                                        </p:tgtEl>
                                        <p:attrNameLst>
                                          <p:attrName>style.visibility</p:attrName>
                                        </p:attrNameLst>
                                      </p:cBhvr>
                                      <p:to>
                                        <p:strVal val="visible"/>
                                      </p:to>
                                    </p:set>
                                    <p:anim calcmode="lin" valueType="num">
                                      <p:cBhvr additive="base">
                                        <p:cTn id="7" dur="500" fill="hold"/>
                                        <p:tgtEl>
                                          <p:spTgt spid="318"/>
                                        </p:tgtEl>
                                        <p:attrNameLst>
                                          <p:attrName>ppt_x</p:attrName>
                                        </p:attrNameLst>
                                      </p:cBhvr>
                                      <p:tavLst>
                                        <p:tav tm="0">
                                          <p:val>
                                            <p:strVal val="#ppt_x"/>
                                          </p:val>
                                        </p:tav>
                                        <p:tav tm="100000">
                                          <p:val>
                                            <p:strVal val="#ppt_x"/>
                                          </p:val>
                                        </p:tav>
                                      </p:tavLst>
                                    </p:anim>
                                    <p:anim calcmode="lin" valueType="num">
                                      <p:cBhvr additive="base">
                                        <p:cTn id="8"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01680" y="259920"/>
            <a:ext cx="8686800" cy="619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0070c0"/>
                </a:solidFill>
                <a:latin typeface="Gill Sans MT"/>
              </a:rPr>
              <a:t>ماهية التنس الأرضي</a:t>
            </a:r>
            <a:br>
              <a:rPr sz="3900"/>
            </a:br>
            <a:br>
              <a:rPr sz="3900"/>
            </a:br>
            <a:r>
              <a:rPr b="0" lang="ar-SA" sz="3900" spc="-1" strike="noStrike">
                <a:solidFill>
                  <a:srgbClr val="000000"/>
                </a:solidFill>
                <a:latin typeface="Gill Sans MT"/>
                <a:cs typeface="SKR HEAD1"/>
              </a:rPr>
              <a:t>تعد لعبة التنس من الرياضات التي تشغف قلوب ومشاعر محبيها بالشكل الذي هيأ لها أجواء الاستحواذ على أوسع الصفحات ومعظم الأخبار الرياضية المحلية والإقليمية والدولية لما تتميز به من إمكانية رفد ممارسيها من الجنسين بالحيوية والنشاط ناهيك عن قدرتها في تمكينهم من الاحتفاظ بلياقتهم البدنية</a:t>
            </a:r>
            <a:r>
              <a:rPr b="0" lang="en-US" sz="3900" spc="-1" strike="noStrike">
                <a:solidFill>
                  <a:srgbClr val="000000"/>
                </a:solidFill>
                <a:latin typeface="Gill Sans MT"/>
                <a:ea typeface="SKR HEAD1"/>
              </a:rPr>
              <a:t> </a:t>
            </a:r>
            <a:r>
              <a:rPr b="0" lang="ar-SA" sz="3900" spc="-1" strike="noStrike">
                <a:solidFill>
                  <a:srgbClr val="000000"/>
                </a:solidFill>
                <a:latin typeface="Gill Sans MT"/>
                <a:cs typeface="SKR HEAD1"/>
              </a:rPr>
              <a:t>فضلا عن أن لعبة التنس الأرضي تعمل على زيادة الروح المعنوية وأنها تضيف التنوع والمتعة إلى اللاعبين في أثناء ممارستها </a:t>
            </a: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9">
                                  <p:stCondLst>
                                    <p:cond delay="0"/>
                                  </p:stCondLst>
                                  <p:childTnLst>
                                    <p:set>
                                      <p:cBhvr>
                                        <p:cTn id="14" dur="1" fill="hold">
                                          <p:stCondLst>
                                            <p:cond delay="0"/>
                                          </p:stCondLst>
                                        </p:cTn>
                                        <p:tgtEl>
                                          <p:spTgt spid="319"/>
                                        </p:tgtEl>
                                        <p:attrNameLst>
                                          <p:attrName>style.visibility</p:attrName>
                                        </p:attrNameLst>
                                      </p:cBhvr>
                                      <p:to>
                                        <p:strVal val="visible"/>
                                      </p:to>
                                    </p:set>
                                    <p:anim calcmode="lin" valueType="num">
                                      <p:cBhvr additive="repl">
                                        <p:cTn id="15" dur="1000" fill="hold"/>
                                        <p:tgtEl>
                                          <p:spTgt spid="319"/>
                                        </p:tgtEl>
                                        <p:attrNameLst>
                                          <p:attrName>ppt_x</p:attrName>
                                        </p:attrNameLst>
                                      </p:cBhvr>
                                      <p:tavLst>
                                        <p:tav tm="0">
                                          <p:val>
                                            <p:strVal val="#ppt_x-.2"/>
                                          </p:val>
                                        </p:tav>
                                        <p:tav tm="100000">
                                          <p:val>
                                            <p:strVal val="#ppt_x"/>
                                          </p:val>
                                        </p:tav>
                                      </p:tavLst>
                                    </p:anim>
                                    <p:anim calcmode="lin" valueType="num">
                                      <p:cBhvr additive="repl">
                                        <p:cTn id="16" dur="1000" fill="hold"/>
                                        <p:tgtEl>
                                          <p:spTgt spid="319"/>
                                        </p:tgtEl>
                                        <p:attrNameLst>
                                          <p:attrName>ppt_y</p:attrName>
                                        </p:attrNameLst>
                                      </p:cBhvr>
                                      <p:tavLst>
                                        <p:tav tm="0">
                                          <p:val>
                                            <p:strVal val="#ppt_y"/>
                                          </p:val>
                                        </p:tav>
                                        <p:tav tm="100000">
                                          <p:val>
                                            <p:strVal val="#ppt_y"/>
                                          </p:val>
                                        </p:tav>
                                      </p:tavLst>
                                    </p:anim>
                                    <p:animEffect filter="wipe(right)" transition="in">
                                      <p:cBhvr additive="repl">
                                        <p:cTn id="17"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01680" y="456840"/>
            <a:ext cx="8686800" cy="5924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00"/>
                </a:solidFill>
                <a:latin typeface="Gill Sans MT"/>
                <a:cs typeface="SKR HEAD1"/>
              </a:rPr>
              <a:t>وتسعى لعبة التنس الأرضي إلى الوصول بالرياضي إلى كمال صحته، إذ بمقدوره القيام بكل الإعمال البدنية بكفاءة عالية وهي تعمل على اكتساب الفرد منها صفات خلقية واجتماعية وهو المظهر الفعال من مظاهر التربية البدنية التي تحقق لنا أهم أهداف التربية الرياضية زيادة على أنها تعد من الأنشطة الترويحية في أوقات الفراغ للفرد بعد انتهائه من عمله ومسؤولياته الأخرى ولغرض الإشراف على هذه اللعبة وتنظيم عملها والنهوض بها فقد تأسس الاتحاد الدولي للتنس الأرضي قبل اكثر من قرن عام </a:t>
            </a:r>
            <a:r>
              <a:rPr b="0" lang="ar-SA" sz="3900" spc="-1" strike="noStrike">
                <a:solidFill>
                  <a:srgbClr val="000000"/>
                </a:solidFill>
                <a:latin typeface="Gill Sans MT"/>
                <a:ea typeface="SKR HEAD1"/>
              </a:rPr>
              <a:t>1913</a:t>
            </a:r>
            <a:r>
              <a:rPr b="0" lang="ar-SA" sz="3900" spc="-1" strike="noStrike">
                <a:solidFill>
                  <a:srgbClr val="000000"/>
                </a:solidFill>
                <a:latin typeface="Gill Sans MT"/>
                <a:cs typeface="SKR HEAD1"/>
              </a:rPr>
              <a:t>، وذلك في الاجتماع الذي عقد بباريس ومنذ ذلك الوقت اخذ الاتحاد على عاتقه مسؤولية النهوض بهذه اللعبة والإشراف عليها وهو من أوائل الاتحادات التي انضمت إلى اللجنة الاولمبية الدولية </a:t>
            </a:r>
            <a:r>
              <a:rPr b="0" lang="en-US" sz="3900" spc="-1" strike="noStrike">
                <a:solidFill>
                  <a:srgbClr val="000000"/>
                </a:solidFill>
                <a:latin typeface="Gill Sans MT"/>
                <a:ea typeface="SKR HEAD1"/>
              </a:rPr>
              <a:t> </a:t>
            </a: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7">
                                  <p:stCondLst>
                                    <p:cond delay="0"/>
                                  </p:stCondLst>
                                  <p:childTnLst>
                                    <p:set>
                                      <p:cBhvr>
                                        <p:cTn id="23" dur="1" fill="hold">
                                          <p:stCondLst>
                                            <p:cond delay="0"/>
                                          </p:stCondLst>
                                        </p:cTn>
                                        <p:tgtEl>
                                          <p:spTgt spid="320"/>
                                        </p:tgtEl>
                                        <p:attrNameLst>
                                          <p:attrName>style.visibility</p:attrName>
                                        </p:attrNameLst>
                                      </p:cBhvr>
                                      <p:to>
                                        <p:strVal val="visible"/>
                                      </p:to>
                                    </p:set>
                                    <p:animEffect filter="fade" transition="in">
                                      <p:cBhvr additive="repl">
                                        <p:cTn id="24" dur="1000"/>
                                        <p:tgtEl>
                                          <p:spTgt spid="320"/>
                                        </p:tgtEl>
                                      </p:cBhvr>
                                    </p:animEffect>
                                    <p:anim calcmode="lin" valueType="num">
                                      <p:cBhvr additive="repl">
                                        <p:cTn id="25" dur="1000" fill="hold"/>
                                        <p:tgtEl>
                                          <p:spTgt spid="320"/>
                                        </p:tgtEl>
                                        <p:attrNameLst>
                                          <p:attrName>ppt_x</p:attrName>
                                        </p:attrNameLst>
                                      </p:cBhvr>
                                      <p:tavLst>
                                        <p:tav tm="0">
                                          <p:val>
                                            <p:strVal val="#ppt_x"/>
                                          </p:val>
                                        </p:tav>
                                        <p:tav tm="100000">
                                          <p:val>
                                            <p:strVal val="#ppt_x"/>
                                          </p:val>
                                        </p:tav>
                                      </p:tavLst>
                                    </p:anim>
                                    <p:anim calcmode="lin" valueType="num">
                                      <p:cBhvr additive="repl">
                                        <p:cTn id="26" dur="900" fill="hold"/>
                                        <p:tgtEl>
                                          <p:spTgt spid="320"/>
                                        </p:tgtEl>
                                        <p:attrNameLst>
                                          <p:attrName>ppt_y</p:attrName>
                                        </p:attrNameLst>
                                      </p:cBhvr>
                                      <p:tavLst>
                                        <p:tav tm="0">
                                          <p:val>
                                            <p:strVal val="#ppt_y+1"/>
                                          </p:val>
                                        </p:tav>
                                        <p:tav tm="100000">
                                          <p:val>
                                            <p:strVal val="#ppt_y-.03"/>
                                          </p:val>
                                        </p:tav>
                                      </p:tavLst>
                                    </p:anim>
                                    <p:anim calcmode="lin" valueType="num">
                                      <p:cBhvr additive="repl">
                                        <p:cTn id="27" dur="100" fill="hold">
                                          <p:stCondLst>
                                            <p:cond delay="900"/>
                                          </p:stCondLst>
                                        </p:cTn>
                                        <p:tgtEl>
                                          <p:spTgt spid="32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01680" y="456840"/>
            <a:ext cx="8686800" cy="6211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cs typeface="SKR HEAD1"/>
              </a:rPr>
              <a:t>أما فيما يخص العراق فهناك جهود كبيرة تبذل للارتقاء بمستوى اللعبة حيث تأسس الاتحاد العراقي للتنس في </a:t>
            </a:r>
            <a:r>
              <a:rPr b="0" lang="ar-SA" sz="3900" spc="-1" strike="noStrike">
                <a:solidFill>
                  <a:srgbClr val="572314"/>
                </a:solidFill>
                <a:latin typeface="Gill Sans MT"/>
                <a:ea typeface="SKR HEAD1"/>
              </a:rPr>
              <a:t>25/8/1959</a:t>
            </a:r>
            <a:r>
              <a:rPr b="0" lang="ar-SA" sz="3900" spc="-1" strike="noStrike">
                <a:solidFill>
                  <a:srgbClr val="572314"/>
                </a:solidFill>
                <a:latin typeface="Gill Sans MT"/>
                <a:ea typeface="SKR HEAD1"/>
              </a:rPr>
              <a:t> وقد تم قبوله عضوا في الاتحاد الدولي للتنس في </a:t>
            </a:r>
            <a:r>
              <a:rPr b="0" lang="ar-SA" sz="3900" spc="-1" strike="noStrike">
                <a:solidFill>
                  <a:srgbClr val="572314"/>
                </a:solidFill>
                <a:latin typeface="Gill Sans MT"/>
                <a:ea typeface="SKR HEAD1"/>
              </a:rPr>
              <a:t>6/8/1960</a:t>
            </a:r>
            <a:r>
              <a:rPr b="0" lang="ar-SA" sz="3900" spc="-1" strike="noStrike">
                <a:solidFill>
                  <a:srgbClr val="572314"/>
                </a:solidFill>
                <a:latin typeface="Gill Sans MT"/>
                <a:ea typeface="SKR HEAD1"/>
              </a:rPr>
              <a:t> ، وربما تكون رياضة التنس سبقت غيرها من الألعاب الرياضية في العراق حيث جاء بها علماء الآثار الألمان بحدود عام </a:t>
            </a:r>
            <a:r>
              <a:rPr b="0" lang="ar-SA" sz="3900" spc="-1" strike="noStrike">
                <a:solidFill>
                  <a:srgbClr val="572314"/>
                </a:solidFill>
                <a:latin typeface="Gill Sans MT"/>
                <a:ea typeface="SKR HEAD1"/>
              </a:rPr>
              <a:t>1913</a:t>
            </a:r>
            <a:r>
              <a:rPr b="0" lang="ar-SA" sz="3900" spc="-1" strike="noStrike">
                <a:solidFill>
                  <a:srgbClr val="572314"/>
                </a:solidFill>
                <a:latin typeface="Gill Sans MT"/>
                <a:cs typeface="SKR HEAD1"/>
              </a:rPr>
              <a:t>، وكانوا يمارسوها بشكل محدود خلال أيام العطل ، ومنذ ذلك الحين حتى الآن هناك جهود تبذل من اجل الارتقاء بمستوى هذه اللعبة في العراق وذلك بتشجيع ممارستها وتوفير الأدوات وإقامة البطولات المحلية وإنشاء الملاعب وإعداد المدربين وتشجيع الناشئين</a:t>
            </a:r>
            <a:r>
              <a:rPr b="0" lang="ar-IQ" sz="3900" spc="-1" strike="noStrike">
                <a:solidFill>
                  <a:srgbClr val="572314"/>
                </a:solidFill>
                <a:latin typeface="Gill Sans MT"/>
                <a:ea typeface="SKR HEAD1"/>
              </a:rPr>
              <a:t> </a:t>
            </a:r>
            <a:r>
              <a:rPr b="0" lang="ar-SA" sz="3900" spc="-1" strike="noStrike">
                <a:solidFill>
                  <a:srgbClr val="572314"/>
                </a:solidFill>
                <a:latin typeface="Gill Sans MT"/>
                <a:cs typeface="SKR HEAD1"/>
              </a:rPr>
              <a:t>و التنس الارضي من الرياضات المنتشرة في كثير من بلاد العالم وهناك أثر تصاعدي في زيادة عدد ممارسيها، ويرجع ذلك إلى أنها رياضة ممتعة لجميع الأعمار من سن الثامنة حتى سن السبعين أو أكثر كل على حسب قدراته ومهاراته ، كما أنها رياضة ملائمة لكل جنس ولا تحتاج سوى إلى لاعبين أو أربعة فقط على ألأكثر ويمارس اللعب بها في وقت قصير نسبيا</a:t>
            </a:r>
            <a:endParaRPr b="0" lang="en-US" sz="3900" spc="-1" strike="noStrike">
              <a:solidFill>
                <a:srgbClr val="572314"/>
              </a:solidFill>
              <a:latin typeface="Gill Sans MT"/>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06280" y="981000"/>
            <a:ext cx="8686800" cy="5616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ea typeface="SKR HEAD1"/>
              </a:rPr>
              <a:t> </a:t>
            </a:r>
            <a:r>
              <a:rPr b="1" lang="ar-SA" sz="3900" spc="-1" strike="noStrike">
                <a:solidFill>
                  <a:srgbClr val="ff0000"/>
                </a:solidFill>
                <a:latin typeface="Gill Sans MT"/>
                <a:cs typeface="SKR HEAD1"/>
              </a:rPr>
              <a:t>أنواع ملاعب التنس الأرضي: </a:t>
            </a:r>
            <a:br>
              <a:rPr sz="3900"/>
            </a:br>
            <a:r>
              <a:rPr b="0" lang="ar-SA" sz="3900" spc="-1" strike="noStrike">
                <a:solidFill>
                  <a:srgbClr val="572314"/>
                </a:solidFill>
                <a:latin typeface="Gill Sans MT"/>
                <a:ea typeface="SKR HEAD1"/>
              </a:rPr>
              <a:t>    تصنف لعبة التنس بحسب الأرضية التي تقام عليها المباريات، ولعبة التنس الأرضي تصنف في منافساتها بحسب نوع الأرضية التي تقام عليها المسابقة مثلها مثل الألعاب الأخرى ، وتصنف ملاعب التنس على النحو الاتي : </a:t>
            </a:r>
            <a:br>
              <a:rPr sz="3900"/>
            </a:br>
            <a:br>
              <a:rPr sz="3900"/>
            </a:br>
            <a:r>
              <a:rPr b="0" lang="ar-SA" sz="3900" spc="-1" strike="noStrike">
                <a:solidFill>
                  <a:srgbClr val="572314"/>
                </a:solidFill>
                <a:latin typeface="Gill Sans MT"/>
                <a:cs typeface="SKR HEAD1"/>
              </a:rPr>
              <a:t>أولا :- الساحات الناعمة (الترابية)</a:t>
            </a:r>
            <a:br>
              <a:rPr sz="3900"/>
            </a:br>
            <a:r>
              <a:rPr b="0" lang="ar-SA" sz="3900" spc="-1" strike="noStrike">
                <a:solidFill>
                  <a:srgbClr val="572314"/>
                </a:solidFill>
                <a:latin typeface="Gill Sans MT"/>
                <a:cs typeface="SKR HEAD1"/>
              </a:rPr>
              <a:t>ثانيا:- الساحات الصلبة</a:t>
            </a:r>
            <a:br>
              <a:rPr sz="3900"/>
            </a:br>
            <a:r>
              <a:rPr b="0" lang="ar-SA" sz="3900" spc="-1" strike="noStrike">
                <a:solidFill>
                  <a:srgbClr val="572314"/>
                </a:solidFill>
                <a:latin typeface="Gill Sans MT"/>
                <a:cs typeface="SKR HEAD1"/>
              </a:rPr>
              <a:t>ثالثا :-  الساحات المغطاة بالثيل الطبيعي</a:t>
            </a:r>
            <a:br>
              <a:rPr sz="3900"/>
            </a:br>
            <a:r>
              <a:rPr b="0" lang="ar-IQ" sz="3900" spc="-1" strike="noStrike">
                <a:solidFill>
                  <a:srgbClr val="572314"/>
                </a:solidFill>
                <a:latin typeface="Gill Sans MT"/>
                <a:cs typeface="SKR HEAD1"/>
              </a:rPr>
              <a:t>كل نوع من هذه الانواع له بطولاته الخاصة </a:t>
            </a:r>
            <a:r>
              <a:rPr b="0" lang="ar-SA" sz="3900" spc="-1" strike="noStrike">
                <a:solidFill>
                  <a:srgbClr val="572314"/>
                </a:solidFill>
                <a:latin typeface="Gill Sans MT"/>
                <a:cs typeface="SKR HEAD1"/>
              </a:rPr>
              <a:t>الملاعب الترابية ,وهي مثل ملاعب بطولة فرنسا المفتوحة</a:t>
            </a:r>
            <a:r>
              <a:rPr b="0" lang="en-US" sz="3900" spc="-1" strike="noStrike">
                <a:solidFill>
                  <a:srgbClr val="572314"/>
                </a:solidFill>
                <a:latin typeface="Gill Sans MT"/>
                <a:ea typeface="SKR HEAD1"/>
              </a:rPr>
              <a:t> </a:t>
            </a:r>
            <a:r>
              <a:rPr b="0" lang="ar-SA" sz="3900" spc="-1" strike="noStrike">
                <a:solidFill>
                  <a:srgbClr val="572314"/>
                </a:solidFill>
                <a:latin typeface="Gill Sans MT"/>
                <a:cs typeface="SKR HEAD1"/>
              </a:rPr>
              <a:t>الملاعب الصلبة مثل المستخدمة في بطولة</a:t>
            </a:r>
            <a:r>
              <a:rPr b="0" lang="en-US" sz="3900" spc="-1" strike="noStrike">
                <a:solidFill>
                  <a:srgbClr val="572314"/>
                </a:solidFill>
                <a:latin typeface="Gill Sans MT"/>
                <a:ea typeface="SKR HEAD1"/>
              </a:rPr>
              <a:t> </a:t>
            </a:r>
            <a:r>
              <a:rPr b="0" lang="ar-SA" sz="3900" spc="-1" strike="noStrike">
                <a:solidFill>
                  <a:srgbClr val="572314"/>
                </a:solidFill>
                <a:latin typeface="Gill Sans MT"/>
                <a:cs typeface="SKR HEAD1"/>
              </a:rPr>
              <a:t>استراليا المفتوحة , وبطولة امريكا المفتوحة</a:t>
            </a:r>
            <a:r>
              <a:rPr b="0" lang="en-US" sz="3900" spc="-1" strike="noStrike">
                <a:solidFill>
                  <a:srgbClr val="572314"/>
                </a:solidFill>
                <a:latin typeface="Gill Sans MT"/>
                <a:ea typeface="SKR HEAD1"/>
              </a:rPr>
              <a:t> </a:t>
            </a:r>
            <a:r>
              <a:rPr b="0" lang="ar-IQ" sz="3900" spc="-1" strike="noStrike">
                <a:solidFill>
                  <a:srgbClr val="572314"/>
                </a:solidFill>
                <a:latin typeface="Gill Sans MT"/>
              </a:rPr>
              <a:t>، </a:t>
            </a:r>
            <a:r>
              <a:rPr b="0" lang="ar-SA" sz="3900" spc="-1" strike="noStrike">
                <a:solidFill>
                  <a:srgbClr val="572314"/>
                </a:solidFill>
                <a:latin typeface="Gill Sans MT"/>
                <a:cs typeface="SKR HEAD1"/>
              </a:rPr>
              <a:t>الملاعب العشبية كمثل المستخدمة في بطولة ويمبلدون </a:t>
            </a:r>
            <a:br>
              <a:rPr sz="3900"/>
            </a:br>
            <a:br>
              <a:rPr sz="3900"/>
            </a:br>
            <a:br>
              <a:rPr sz="3900"/>
            </a:br>
            <a:endParaRPr b="0" lang="en-US" sz="3900" spc="-1" strike="noStrike">
              <a:solidFill>
                <a:srgbClr val="572314"/>
              </a:solidFill>
              <a:latin typeface="Gill Sans MT"/>
            </a:endParaRPr>
          </a:p>
        </p:txBody>
      </p:sp>
    </p:spTree>
  </p:cSld>
  <p:transition>
    <p:dissolv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322"/>
                                        </p:tgtEl>
                                        <p:attrNameLst>
                                          <p:attrName>style.visibility</p:attrName>
                                        </p:attrNameLst>
                                      </p:cBhvr>
                                      <p:to>
                                        <p:strVal val="visible"/>
                                      </p:to>
                                    </p:set>
                                    <p:animEffect filter="fade" transition="in">
                                      <p:cBhvr additive="repl">
                                        <p:cTn id="34"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01680" y="457200"/>
            <a:ext cx="8686800" cy="6400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SKR HEAD1"/>
              </a:rPr>
              <a:t>يمكننا ملاحظة ان نوع الملعب يتدخل كثيرا في مجريات المباريات فمثلا الملعب قد يحدد السرعة , حيث ان بعض الملاعب يكون اللعب عليه يحتاج الي سرعة اكبر من الانواع الاخرى</a:t>
            </a:r>
            <a:r>
              <a:rPr b="1" lang="en-US" sz="4300" spc="-1" strike="noStrike">
                <a:solidFill>
                  <a:srgbClr val="572314"/>
                </a:solidFill>
                <a:latin typeface="Gill Sans MT"/>
                <a:ea typeface="SKR HEAD1"/>
              </a:rPr>
              <a:t> .</a:t>
            </a:r>
            <a:r>
              <a:rPr b="0" lang="en-US" sz="4300" spc="-1" strike="noStrike">
                <a:solidFill>
                  <a:srgbClr val="572314"/>
                </a:solidFill>
                <a:latin typeface="Gill Sans MT"/>
                <a:ea typeface="SKR HEAD1"/>
              </a:rPr>
              <a:t> </a:t>
            </a:r>
            <a:r>
              <a:rPr b="0" lang="ar-SA" sz="4300" spc="-1" strike="noStrike">
                <a:solidFill>
                  <a:srgbClr val="572314"/>
                </a:solidFill>
                <a:latin typeface="Gill Sans MT"/>
                <a:cs typeface="SKR HEAD1"/>
              </a:rPr>
              <a:t>فمثلا الملاعب الترابية تعتبر بطئية حيث ان السطح يقوم بالعمل علي افقاد الكرة سرعتها</a:t>
            </a:r>
            <a:r>
              <a:rPr b="0" lang="en-US" sz="4300" spc="-1" strike="noStrike">
                <a:solidFill>
                  <a:srgbClr val="572314"/>
                </a:solidFill>
                <a:latin typeface="Gill Sans MT"/>
                <a:ea typeface="SKR HEAD1"/>
              </a:rPr>
              <a:t> , </a:t>
            </a:r>
            <a:r>
              <a:rPr b="0" lang="ar-SA" sz="4300" spc="-1" strike="noStrike">
                <a:solidFill>
                  <a:srgbClr val="572314"/>
                </a:solidFill>
                <a:latin typeface="Gill Sans MT"/>
                <a:cs typeface="SKR HEAD1"/>
              </a:rPr>
              <a:t>وترتد سرعة كبيرة .وهذا سيكون لصالح اللاعب الذي يبدأ بالارسال اذ انه سيكون لديه وقت أكبر للوصول للكرة وصدها مرة اخرى .ومن أشهر اللاعبين في مثل هذا النوع من الملاعب اللاعب الاسباني رافاييل نادال ملك الملاعب الترابية والمصنف الرابع عالميا</a:t>
            </a:r>
            <a:r>
              <a:rPr b="0" lang="en-US" sz="4300" spc="-1" strike="noStrike">
                <a:solidFill>
                  <a:srgbClr val="572314"/>
                </a:solidFill>
                <a:latin typeface="Gill Sans MT"/>
                <a:ea typeface="SKR HEAD1"/>
              </a:rPr>
              <a:t> </a:t>
            </a:r>
            <a:r>
              <a:rPr b="0" lang="ar-SA" sz="4300" spc="-1" strike="noStrike">
                <a:solidFill>
                  <a:srgbClr val="572314"/>
                </a:solidFill>
                <a:latin typeface="Gill Sans MT"/>
                <a:cs typeface="SKR HEAD1"/>
              </a:rPr>
              <a:t>وما يميز هذه الملاعب أن الكرة عندما تصطدم بأرضية الملعب تترك علامة واضحة على</a:t>
            </a:r>
            <a:r>
              <a:rPr b="0" lang="en-US" sz="4300" spc="-1" strike="noStrike">
                <a:solidFill>
                  <a:srgbClr val="572314"/>
                </a:solidFill>
                <a:latin typeface="Gill Sans MT"/>
                <a:ea typeface="SKR HEAD1"/>
              </a:rPr>
              <a:t> </a:t>
            </a:r>
            <a:r>
              <a:rPr b="0" lang="ar-SA" sz="4300" spc="-1" strike="noStrike">
                <a:solidFill>
                  <a:srgbClr val="572314"/>
                </a:solidFill>
                <a:latin typeface="Gill Sans MT"/>
                <a:cs typeface="SKR HEAD1"/>
              </a:rPr>
              <a:t>أرضية الملعب . لهذا تكنس الملاعب بين كل مجموعة والاخرى لإزالة هذه الاثار الناتجة عن ارتطام الكرات بالارضية </a:t>
            </a:r>
            <a:r>
              <a:rPr b="0" lang="en-US" sz="4300" spc="-1" strike="noStrike">
                <a:solidFill>
                  <a:srgbClr val="572314"/>
                </a:solidFill>
                <a:latin typeface="Gill Sans MT"/>
                <a:ea typeface="SKR HEAD1"/>
              </a:rPr>
              <a:t>.</a:t>
            </a:r>
            <a:br>
              <a:rPr sz="4300"/>
            </a:b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7" presetSubtype="4">
                                  <p:stCondLst>
                                    <p:cond delay="0"/>
                                  </p:stCondLst>
                                  <p:childTnLst>
                                    <p:set>
                                      <p:cBhvr>
                                        <p:cTn id="40" dur="1" fill="hold">
                                          <p:stCondLst>
                                            <p:cond delay="0"/>
                                          </p:stCondLst>
                                        </p:cTn>
                                        <p:tgtEl>
                                          <p:spTgt spid="323"/>
                                        </p:tgtEl>
                                        <p:attrNameLst>
                                          <p:attrName>style.visibility</p:attrName>
                                        </p:attrNameLst>
                                      </p:cBhvr>
                                      <p:to>
                                        <p:strVal val="visible"/>
                                      </p:to>
                                    </p:set>
                                    <p:anim calcmode="lin" valueType="num">
                                      <p:cBhvr additive="base">
                                        <p:cTn id="41" dur="5000" fill="hold"/>
                                        <p:tgtEl>
                                          <p:spTgt spid="323"/>
                                        </p:tgtEl>
                                        <p:attrNameLst>
                                          <p:attrName>ppt_x</p:attrName>
                                        </p:attrNameLst>
                                      </p:cBhvr>
                                      <p:tavLst>
                                        <p:tav tm="0">
                                          <p:val>
                                            <p:strVal val="#ppt_x"/>
                                          </p:val>
                                        </p:tav>
                                        <p:tav tm="100000">
                                          <p:val>
                                            <p:strVal val="#ppt_x"/>
                                          </p:val>
                                        </p:tav>
                                      </p:tavLst>
                                    </p:anim>
                                    <p:anim calcmode="lin" valueType="num">
                                      <p:cBhvr additive="base">
                                        <p:cTn id="42" dur="5000" fill="hold"/>
                                        <p:tgtEl>
                                          <p:spTgt spid="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1680" y="456840"/>
            <a:ext cx="8686800" cy="6140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572314"/>
                </a:solidFill>
                <a:latin typeface="Gill Sans MT"/>
                <a:cs typeface="SKR HEAD1"/>
              </a:rPr>
              <a:t>أ</a:t>
            </a:r>
            <a:r>
              <a:rPr b="0" lang="ar-SA" sz="4300" spc="-1" strike="noStrike">
                <a:solidFill>
                  <a:srgbClr val="572314"/>
                </a:solidFill>
                <a:latin typeface="Gill Sans MT"/>
                <a:cs typeface="SKR HEAD1"/>
              </a:rPr>
              <a:t>ما الملاعب الصلبة تعتبر اسرع من الملاعب الترابية ,وتعتمد سرعة اللعب في الملعب على طريقة انشاء هذا الملعب</a:t>
            </a:r>
            <a:r>
              <a:rPr b="0" lang="en-US" sz="4300" spc="-1" strike="noStrike">
                <a:solidFill>
                  <a:srgbClr val="572314"/>
                </a:solidFill>
                <a:latin typeface="Gill Sans MT"/>
                <a:ea typeface="SKR HEAD1"/>
              </a:rPr>
              <a:t> .</a:t>
            </a:r>
            <a:br>
              <a:rPr sz="4300"/>
            </a:br>
            <a:r>
              <a:rPr b="0" lang="ar-SA" sz="4300" spc="-1" strike="noStrike">
                <a:solidFill>
                  <a:srgbClr val="572314"/>
                </a:solidFill>
                <a:latin typeface="Gill Sans MT"/>
                <a:cs typeface="SKR HEAD1"/>
              </a:rPr>
              <a:t>أما الملاعب العشبية فانها تعتبر سريعة , كانت هناك ثلاث ملاعب من</a:t>
            </a:r>
            <a:r>
              <a:rPr b="0" lang="en-US" sz="4300" spc="-1" strike="noStrike">
                <a:solidFill>
                  <a:srgbClr val="572314"/>
                </a:solidFill>
                <a:latin typeface="Gill Sans MT"/>
                <a:ea typeface="SKR HEAD1"/>
              </a:rPr>
              <a:t> </a:t>
            </a:r>
            <a:r>
              <a:rPr b="0" lang="en-US" sz="4300" spc="-1" strike="noStrike">
                <a:solidFill>
                  <a:srgbClr val="572314"/>
                </a:solidFill>
                <a:latin typeface="Gill Sans MT"/>
                <a:ea typeface="SKR HEAD1"/>
              </a:rPr>
              <a:t>Grand Slam</a:t>
            </a:r>
            <a:r>
              <a:rPr b="0" lang="en-US" sz="4300" spc="-1" strike="noStrike">
                <a:solidFill>
                  <a:srgbClr val="572314"/>
                </a:solidFill>
                <a:latin typeface="Gill Sans MT"/>
                <a:ea typeface="SKR HEAD1"/>
              </a:rPr>
              <a:t> </a:t>
            </a:r>
            <a:r>
              <a:rPr b="0" lang="ar-SA" sz="4300" spc="-1" strike="noStrike">
                <a:solidFill>
                  <a:srgbClr val="572314"/>
                </a:solidFill>
                <a:latin typeface="Gill Sans MT"/>
                <a:cs typeface="SKR HEAD1"/>
              </a:rPr>
              <a:t>تقام علي ملاعب عشبية , الى ان تم تحويل ملاعب استراليا المفتوحة و امريكا المفتوحة الي ملاعب صلبة .وهي تعطي الامتياز للاعب الذي يقوم بعمل ضربة أو ارسال قوي ,وهذا النوع من الملاعب يتميز بصعوبة التنبؤ بأي اتجاه سيكون اتجاه الكرة بعد ضربها , وهذا يعتمد علي حالة العشب وعلي الكيفية</a:t>
            </a:r>
            <a:r>
              <a:rPr b="0" lang="en-US" sz="4300" spc="-1" strike="noStrike">
                <a:solidFill>
                  <a:srgbClr val="572314"/>
                </a:solidFill>
                <a:latin typeface="Gill Sans MT"/>
                <a:ea typeface="SKR HEAD1"/>
              </a:rPr>
              <a:t> </a:t>
            </a:r>
            <a:r>
              <a:rPr b="0" lang="ar-SA" sz="4300" spc="-1" strike="noStrike">
                <a:solidFill>
                  <a:srgbClr val="572314"/>
                </a:solidFill>
                <a:latin typeface="Gill Sans MT"/>
                <a:ea typeface="SKR HEAD1"/>
              </a:rPr>
              <a:t> التي جرت بها تقليمه _ حصده _ مؤخرا .لذا يكون التهديد من الضربات القريبة من الشبكة في هذه الملاعب </a:t>
            </a:r>
            <a:r>
              <a:rPr b="1" lang="en-US" sz="4300" spc="-1" strike="noStrike">
                <a:solidFill>
                  <a:srgbClr val="572314"/>
                </a:solidFill>
                <a:latin typeface="Gill Sans MT"/>
                <a:ea typeface="SKR HEAD1"/>
              </a:rPr>
              <a:t>.</a:t>
            </a:r>
            <a:br>
              <a:rPr sz="4300"/>
            </a:b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324"/>
                                        </p:tgtEl>
                                        <p:attrNameLst>
                                          <p:attrName>style.visibility</p:attrName>
                                        </p:attrNameLst>
                                      </p:cBhvr>
                                      <p:to>
                                        <p:strVal val="visible"/>
                                      </p:to>
                                    </p:set>
                                    <p:animEffect filter="randombar(horizontal)" transition="in">
                                      <p:cBhvr additive="repl">
                                        <p:cTn id="49"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01680" y="456840"/>
            <a:ext cx="8686800" cy="5924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572314"/>
                </a:solidFill>
                <a:latin typeface="Gill Sans MT"/>
                <a:cs typeface="SKR HEAD1"/>
              </a:rPr>
              <a:t>كذلك نوع الملعب يكون سبب في اصابات بعض اللاعبين وخصوصا الملاعب الصلبة والترابية والتي تكون اكثر عرضت اللاعبين للإصابة وخصوصا اصابات الكاحل  </a:t>
            </a:r>
            <a:endParaRPr b="0" lang="en-US" sz="48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12:53:08Z</dcterms:created>
  <dc:creator>jinsta</dc:creator>
  <dc:description/>
  <dc:language>en-US</dc:language>
  <cp:lastModifiedBy>jinsta</cp:lastModifiedBy>
  <dcterms:modified xsi:type="dcterms:W3CDTF">2018-12-15T10:11:46Z</dcterms:modified>
  <cp:revision>8</cp:revision>
  <dc:subject/>
  <dc:title>ماهية التنس الارضي المهارات الاساسية للتنس الارضي</dc:title>
</cp:coreProperties>
</file>