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CC604-86A0-4DB3-B9BD-A8C633532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9C1AD-BA6E-4678-8A16-2AB95B496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8652D-2DD8-41DD-AC49-983C6EBC2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212BE-80CF-4561-A0F5-00FD9F4B8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59764-C179-474F-A20E-19C75C7A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ECD0C-A80F-4063-BD8B-92F8CB4F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40C1-1182-46F3-85A7-E4CFD7F5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70989-64F9-48BB-9806-A52E09C1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53D4E-F668-4C28-A4B3-9700036D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AD4A-751D-4D6D-A953-1F6BF912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F3DCD-16E9-47D3-B350-9F43BF07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A329-AD24-4CB3-9CBE-D802FBD1F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D7B7-6EF9-4F62-AD4C-D003027732BC}" type="slidenum">
              <a:rPr b="0" lang="ar-IQ"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75920"/>
            <a:ext cx="8134200" cy="6048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SKR HEAD1"/>
              </a:rPr>
              <a:t>ضربة الارسال</a:t>
            </a:r>
            <a:r>
              <a:rPr b="1" lang="en-US" sz="4400" spc="-1" strike="noStrike">
                <a:solidFill>
                  <a:srgbClr val="ff0000"/>
                </a:solidFill>
                <a:latin typeface="Calibri"/>
                <a:ea typeface="SKR HEAD1"/>
              </a:rPr>
              <a:t> (</a:t>
            </a:r>
            <a:r>
              <a:rPr b="1" lang="en-US" sz="4400" spc="-1" strike="noStrike">
                <a:solidFill>
                  <a:srgbClr val="ff0000"/>
                </a:solidFill>
                <a:latin typeface="Calibri"/>
                <a:ea typeface="SKR HEAD1"/>
              </a:rPr>
              <a:t>Service</a:t>
            </a:r>
            <a:r>
              <a:rPr b="1" lang="en-US" sz="4400" spc="-1" strike="noStrike">
                <a:solidFill>
                  <a:srgbClr val="ff0000"/>
                </a:solidFill>
                <a:latin typeface="Calibri"/>
                <a:ea typeface="SKR HEAD1"/>
              </a:rPr>
              <a:t> ).</a:t>
            </a:r>
            <a:br>
              <a:rPr sz="4400"/>
            </a:br>
            <a:r>
              <a:rPr b="0" lang="ar-SA" sz="4400" spc="-1" strike="noStrike">
                <a:solidFill>
                  <a:srgbClr val="000000"/>
                </a:solidFill>
                <a:latin typeface="Calibri"/>
                <a:cs typeface="SKR HEAD1"/>
              </a:rPr>
              <a:t>تعد ضربة الارسال من المهارات الاساسية في لعبة التنس والتي تتطلب الانتباه المستمر والدراسة الكافية لاستيعابها بالطريقة الصحيحة وتعد من الضربات المهمة جداً بعد الهجوم المباشر كسباً للكرة</a:t>
            </a:r>
            <a:r>
              <a:rPr b="0" lang="en-US" sz="4400" spc="-1" strike="noStrike">
                <a:solidFill>
                  <a:srgbClr val="000000"/>
                </a:solidFill>
                <a:latin typeface="Calibri"/>
                <a:ea typeface="SKR HEAD1"/>
              </a:rPr>
              <a:t>. </a:t>
            </a:r>
            <a:r>
              <a:rPr b="0" lang="ar-SA" sz="4400" spc="-1" strike="noStrike">
                <a:solidFill>
                  <a:srgbClr val="000000"/>
                </a:solidFill>
                <a:latin typeface="Calibri"/>
                <a:cs typeface="SKR HEAD1"/>
              </a:rPr>
              <a:t>ويذكر(طارق</a:t>
            </a:r>
            <a:r>
              <a:rPr b="0" lang="ar-SA" sz="4400" spc="-1" strike="noStrike">
                <a:solidFill>
                  <a:srgbClr val="000000"/>
                </a:solidFill>
                <a:latin typeface="Calibri"/>
                <a:ea typeface="SKR HEAD1"/>
              </a:rPr>
              <a:t>1987</a:t>
            </a:r>
            <a:r>
              <a:rPr b="0" lang="ar-SA" sz="4400" spc="-1" strike="noStrike">
                <a:solidFill>
                  <a:srgbClr val="000000"/>
                </a:solidFill>
                <a:latin typeface="Calibri"/>
                <a:ea typeface="SKR HEAD1"/>
              </a:rPr>
              <a:t>) بان الارسال "من الضربات الصعبة لكونه يحتاج الى سيطرة واتقان كي يتمكن المرسل من تنفيذه اذ بعد نجاح الضربة يمكن </a:t>
            </a: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456840"/>
            <a:ext cx="8686800" cy="5635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cs typeface="SKR HEAD1"/>
              </a:rPr>
              <a:t>تسجيل النقطة</a:t>
            </a:r>
            <a:r>
              <a:rPr b="0" lang="en-US" sz="4800" spc="-1" strike="noStrike">
                <a:solidFill>
                  <a:srgbClr val="000000"/>
                </a:solidFill>
                <a:latin typeface="Calibri"/>
                <a:ea typeface="SKR HEAD1"/>
              </a:rPr>
              <a:t>". </a:t>
            </a:r>
            <a:r>
              <a:rPr b="0" lang="ar-SA" sz="4800" spc="-1" strike="noStrike">
                <a:solidFill>
                  <a:srgbClr val="000000"/>
                </a:solidFill>
                <a:latin typeface="Calibri"/>
                <a:cs typeface="SKR HEAD1"/>
              </a:rPr>
              <a:t>ويشير (احسان</a:t>
            </a:r>
            <a:r>
              <a:rPr b="0" lang="ar-SA" sz="4800" spc="-1" strike="noStrike">
                <a:solidFill>
                  <a:srgbClr val="000000"/>
                </a:solidFill>
                <a:latin typeface="Calibri"/>
                <a:ea typeface="SKR HEAD1"/>
              </a:rPr>
              <a:t>2004</a:t>
            </a:r>
            <a:r>
              <a:rPr b="0" lang="ar-SA" sz="4800" spc="-1" strike="noStrike">
                <a:solidFill>
                  <a:srgbClr val="000000"/>
                </a:solidFill>
                <a:latin typeface="Calibri"/>
                <a:ea typeface="SKR HEAD1"/>
              </a:rPr>
              <a:t>) إلى ان " أداء الإرسال بشكل جيد يؤدي الى زيادة فرصة اللاعب بالفوز في المباراة بأقل ما يمكن من المجهود البدني ، هذا بالإضافة إلى تأثير ذلك على معنويات اللاعب الخصم أثناء المباراة لذا يكون من الضروري جداً الاهتمام بمهارة الإرسال والتدريب عليها بشكل مستمر وبما يضمن إتقانها على مستوى عالٍ من الثبات في الأداء</a:t>
            </a:r>
            <a:r>
              <a:rPr b="0" lang="en-US" sz="4800" spc="-1" strike="noStrike">
                <a:solidFill>
                  <a:srgbClr val="000000"/>
                </a:solidFill>
                <a:latin typeface="Calibri"/>
                <a:ea typeface="SKR HEAD1"/>
              </a:rPr>
              <a: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457200"/>
            <a:ext cx="8686800" cy="6400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SKR HEAD1"/>
              </a:rPr>
              <a:t>الضربة الساحقة" الكبس</a:t>
            </a:r>
            <a:r>
              <a:rPr b="1" lang="en-US" sz="4400" spc="-1" strike="noStrike">
                <a:solidFill>
                  <a:srgbClr val="ff0000"/>
                </a:solidFill>
                <a:latin typeface="Calibri"/>
                <a:ea typeface="SKR HEAD1"/>
              </a:rPr>
              <a:t>" ( </a:t>
            </a:r>
            <a:r>
              <a:rPr b="1" lang="en-US" sz="4400" spc="-1" strike="noStrike">
                <a:solidFill>
                  <a:srgbClr val="ff0000"/>
                </a:solidFill>
                <a:latin typeface="Calibri"/>
                <a:ea typeface="SKR HEAD1"/>
              </a:rPr>
              <a:t>The smash</a:t>
            </a:r>
            <a:r>
              <a:rPr b="1" lang="en-US" sz="4400" spc="-1" strike="noStrike">
                <a:solidFill>
                  <a:srgbClr val="ff0000"/>
                </a:solidFill>
                <a:latin typeface="Calibri"/>
                <a:ea typeface="SKR HEAD1"/>
              </a:rPr>
              <a:t>)</a:t>
            </a:r>
            <a:br>
              <a:rPr sz="4400"/>
            </a:br>
            <a:r>
              <a:rPr b="0" lang="en-US" sz="4400" spc="-1" strike="noStrike">
                <a:solidFill>
                  <a:srgbClr val="000000"/>
                </a:solidFill>
                <a:latin typeface="Calibri"/>
                <a:ea typeface="SKR HEAD1"/>
              </a:rPr>
              <a:t>" </a:t>
            </a:r>
            <a:r>
              <a:rPr b="0" lang="ar-SA" sz="4400" spc="-1" strike="noStrike">
                <a:solidFill>
                  <a:srgbClr val="000000"/>
                </a:solidFill>
                <a:latin typeface="Calibri"/>
                <a:cs typeface="SKR HEAD1"/>
              </a:rPr>
              <a:t>تعد الضربة الساحقة من الضربات المهمة في لعبة كرة التنس وتستعمل في حالة الكرات العالية الاتية من المنافس,وهي شبيهة بضرب الارسال من حيث طريقة ادائها, ولكنها تختلف عنها في سهولة تنفيذها حيث ان اللاعب يستطيع لعبها من اي مكان في الملعب كما يستطيع توجهها الى اي نقطة في الملعب الخاص بالمنافس .وتتركز صعوبة الضربة الساحقة في ان اللاعب يؤدي هذه الضرب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457200"/>
            <a:ext cx="8686800" cy="6400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cs typeface="SKR HEAD1"/>
              </a:rPr>
              <a:t>اثناء الحركة وعادة من الركض السريع لملاقاة الكرة وليس من الثبات فقط كما هي في الارسال.وعليه يجب على اللاعب تقدير المكان الصحيح لملاقاة الكرة بمجرد ملاحظة خط سيرها اثناء لعبها من المنافس. وتؤدي الضربة الساحقة اما بطريقة الضربة الامامية او الضربة الخلفية كما في الضربات الاخرى,وهناك انواع مختلفة من الضربة الساحقة المستقيمة,والدوران الواطئ,والدوران العالي</a:t>
            </a:r>
            <a:r>
              <a:rPr b="0" lang="en-US" sz="4800" spc="-1" strike="noStrike">
                <a:solidFill>
                  <a:srgbClr val="000000"/>
                </a:solidFill>
                <a:latin typeface="Calibri"/>
                <a:ea typeface="SKR HEAD1"/>
              </a:rPr>
              <a:t>.</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0:57:49Z</dcterms:created>
  <dc:creator>jinsta</dc:creator>
  <dc:description/>
  <dc:language>en-US</dc:language>
  <cp:lastModifiedBy>jinsta</cp:lastModifiedBy>
  <dcterms:modified xsi:type="dcterms:W3CDTF">2018-12-15T10:10:17Z</dcterms:modified>
  <cp:revision>2</cp:revision>
  <dc:subject/>
  <dc:title>ضربة الارسال (Service ). تعد ضربة الارسال من المهارات الاساسية في لعبة التنس والتي تتطلب الانتباه المستمر والدراسة الكافية لاستيعابها بالطريقة الصحيحة وتعد من الضربات المهمة جداً بعد الهجوم المباشر كسباً للكرة. ويذكر(طارق1987) بان الارسال "من الضربات الصعبة لكونه يحتاج الى سيطرة واتقان كي يتمكن المرسل من تنفيذه اذ بعد نجاح الضربة يمكن  </dc:title>
</cp:coreProperties>
</file>