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1E21F-B396-4AD4-843A-BDC9A04DD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027C8-3FE6-4B02-AFFC-05CED9F77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4FC3E3-708B-4289-93BA-B989843C2A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C05491-2CA4-4D97-A8E7-3AA225E874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2832D5-ACA0-41C2-8523-173C4107E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74E0E1-3BA9-4B48-8A81-DCD19CF6E5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F2BE1-BFE1-479F-8E8C-E176FE0FF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444913-04F1-450A-A75F-24B0CAF366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47B808-9D94-455B-BCC7-A6136B98BF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52907D-178D-48CB-A094-DA9C8D2C50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5EFAC1-FB2D-4EE2-8BC4-76838527EF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3D836-C41B-43EB-8235-73BE8654E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155AD-4C66-4136-936E-4D8F54628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EB403-659B-464A-AFD5-9F4534D1E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1ABCA-88D7-4CB8-8682-162A7B3AE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8EED0-7C30-4FD7-8642-6EE54A461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2F7D0-BE3E-4796-B267-841DD37C2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7A369-2358-4802-BBF5-002A614A3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CD248-F10D-4353-8774-AF01D23FE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A8DC4-BED8-4B65-AB38-A93FF9D9D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95977-27BE-422D-A22F-2CC15C653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960E9-9607-42EA-85E7-FD2133547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E9175-F335-4AAB-BFE9-AD6C2234A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258AA-B5B2-4834-90A7-E57001A3D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DF9B5-81A9-4968-A226-C9D31FEBC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F58C9-5546-46B7-B808-138597056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8017D1-3F54-4B44-9A0E-B2F8A042F6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C2E45-2573-4299-8DA2-C18C6C6D6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C37BD-38AA-45BA-82B1-11E0F6E81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9934B-6101-4B08-B28D-E45D620857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14E61-0B62-49FF-8A21-F7486B443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BF967-731C-4D01-A9A6-B0BB67C02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E40F2-78D1-42E7-82F6-608797E8D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C8591-A950-4600-AFE8-4B06B3B19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380D9-E9C5-4D8F-ABCA-5B261DC0C5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B7324-431E-43A5-9484-0FAFF8A69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5144A-E7E9-4921-8BD3-BD8500983B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7CE2EC-7C98-437B-9132-4DF3743785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361685-4804-42D6-B875-1AD43732D1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A79B5B-AF6D-471E-BD8C-9E51E28AA5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B09D13-EA8E-4935-BDB8-197CC2316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A6923-65D2-4C9B-942D-EFC8FE886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14666-3E1A-4EF7-A88D-734D6CF7A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045678-018A-4858-AA7E-74EC19E9F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7B6B1-4D73-4E27-BD97-00B8C3041C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9A44C3-CB04-41A2-9BC6-DACD6E781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DA804-D9F0-474E-9F05-6FC11E926A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8BFB3-44CE-4186-8AD2-CE29C3155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7B725-06F0-4D8D-A076-22E729F9B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ED0D4E-793E-4E34-B4EE-6E95E89B2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F144F0-B327-4955-A6FA-F3922832D2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434DD7-1C0B-4978-BC05-E63C627CAF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32B867-0D39-4323-AFAD-802A748649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EE1D-78B5-409B-AA97-5C08AA011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D6891-DD80-49A8-9CA2-AADF58D0F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730558-285F-47EC-91CA-A7CCA66E98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9CAB04-0517-4209-8A46-05C19C6C2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AC06D8-0837-425F-AE22-1C2518674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1EC082-5E8E-422E-822C-0A3CF7251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2D184-34C7-435F-9FA4-909635251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10F345-E30A-4F82-8F39-2E6F692B4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0B1D4-1E6A-4BBF-A703-701F5556F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B2E95-FC5E-4534-8DEB-51C525097E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721FC4-396C-4D22-9EE4-F2F9945F9A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1AEAC-35F1-44B6-A348-26A92A5B7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91E88F-C4EA-49D6-B1FA-1FB1143314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BE9881-CD02-4B10-B4C8-AC28F3093A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2705C-BCC2-4E21-BF3D-951D41B03B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D568E-88D3-4BD7-8320-D280BB502F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5D2166-E87A-48E9-BBEA-9B15904F31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EF179C-35A3-4BD0-9F5C-6E96973647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3BF65E-B586-46F8-B0D9-7252509DCF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E639C-94F6-422E-B5C8-BE9E08A5A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D88826-CFEF-49CF-8C4A-477745B21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03F1F-8308-4ACE-8D29-040D8BC5B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20E64-B8D7-4238-B37C-986F5188C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D0793-7017-4F59-B8C2-1BB812AAB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E2D025-ACE2-42A7-B4E2-E12501983D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467D7F-50C4-4CCF-96AE-7BF9A0F694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0F438E-683C-4ABD-898D-89BF5B0AE6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7AB19E-0A94-4E0A-8A13-AC31E21ECE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780EFD-A664-4340-80CF-9A631AAE2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8A4B88-B86D-4947-85DE-033B66793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79C5C3-F7CE-4327-ADDB-BD5E4C617E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1E39E-5A61-487A-95A5-4891517C13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C94C96-D351-4F32-A2B8-DF101EDD8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9241-1CBA-425E-9803-7A7DCDC43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0B62D-8D62-4CB3-AFC4-542108ADD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503235-CB4D-4CCA-B068-B49DD5FAA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11D19B-A6DA-4069-982B-1A6CA8711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BC02AB-2246-4FE2-A932-CC46373FB8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5E6F09-FE86-4EBA-AFE6-974313306A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D9B16F-B87C-4036-9FB3-AEFACFF6B6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2C3FFD-90C9-4FF5-BEB3-4F1EF3708B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167DC-B894-4138-A3C2-17FD11EBBF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0C04AD-AD07-4CA4-B729-FC76AE273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D1431-0561-473D-B79C-E644F871A8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CEDC-2FC2-48DD-BFBD-68CF39572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60336C-2E96-441C-A8AC-A844890211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62040-D6CA-4A34-B034-5FF6CAC9FB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6E334-DC11-4DAD-8BE2-9C19D72BF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DF838-9184-40EF-AD74-CD650B973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1E1599-FB94-4335-8151-8694721B6F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2FDAFB-8E8A-4237-BABA-3109740715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FA4962-7033-410F-AC8F-B9E0B9EACB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141F1D-3144-409D-B32C-E83EE70E5F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1B3E98-F782-4733-931C-431FC717ED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87054E-E7C7-4599-84F7-E964671D51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0973-558B-4C10-AD31-E68028DFD7BB}"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0054-DE39-44C0-A784-C0B750F04CE1}"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592B-DBC3-45F7-86A9-F219681A88B8}"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56BD-9242-47AF-A89C-683809807EB3}" type="slidenum">
              <a:rPr b="0" lang="ar-IQ"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10EB-2558-4133-98D9-6E860756A966}"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8BC0-9038-4AD1-B4F3-D0EF8D46B78A}"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39AB-EB30-49AA-AF46-3488162E716C}"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B46D-23EC-4D8F-96C1-CA8379DFDAE3}"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1E9A-B7A2-4444-937E-E518F6BE58B5}"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عنوان 1" descr=""/>
          <p:cNvPicPr/>
          <p:nvPr/>
        </p:nvPicPr>
        <p:blipFill>
          <a:blip r:embed="rId1"/>
          <a:stretch/>
        </p:blipFill>
        <p:spPr>
          <a:xfrm>
            <a:off x="476280" y="182520"/>
            <a:ext cx="8180280" cy="649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عنوان 1" descr=""/>
          <p:cNvPicPr/>
          <p:nvPr/>
        </p:nvPicPr>
        <p:blipFill>
          <a:blip r:embed="rId1"/>
          <a:stretch/>
        </p:blipFill>
        <p:spPr>
          <a:xfrm>
            <a:off x="176040" y="12600"/>
            <a:ext cx="9010800" cy="654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21:05:55Z</dcterms:created>
  <dc:creator>jinsta</dc:creator>
  <dc:description/>
  <dc:language>en-US</dc:language>
  <cp:lastModifiedBy>jinsta</cp:lastModifiedBy>
  <dcterms:modified xsi:type="dcterms:W3CDTF">2018-12-14T21:09:22Z</dcterms:modified>
  <cp:revision>1</cp:revision>
  <dc:subject/>
  <dc:title>الضربة نصف طائرة او المرتدة : تؤدى هذه الضربة عندما يضرب الكرة اللاعب الخصم وتأتي الكرة او تكون قريبة من جسم اللاعب فيطر اللاعب الى رد الكرة بشكل غير دقيق وليس بالقوة المطلوبة حيث يقوم اللاعب بصد الكرة بالمضرب لحظة ارتدادها من الارض مباشرة دون السماح لها بالارتفاع من وضع الاستعداد ومن ثم الانثناء بالجسم ابتداءاً بالركبتين ومن ثم الجذع والمضرب يكون تقريبا بالقرب من جسم اللاعب مع مسكه بشكل قوي. </dc:title>
</cp:coreProperties>
</file>