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733B5-DA41-4851-BD30-9DE1471D3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46989-8BD5-4165-BE63-376FC78A6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FB2270-A525-402F-99AE-3A011B0919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1E5103-87C9-4BB8-9D10-8F3A0B3976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FBE26B-C9E4-40D5-AE0C-A608BB4047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3CCFC8-6988-4096-A617-EC28C42B06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C235B0-DB29-4E51-A960-CC220257F5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B228D3-6070-4FD4-8068-52012CC912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FA536F-EE1E-4F42-9EC4-71D97400B4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880D8D-6D36-4D5B-BA02-533D917B42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B80DBF-7906-42D6-ADDF-E27975511B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067CC-6141-4A2A-94B4-64233A200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F4282-C325-4239-B58A-9D789F46F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E392A-A78E-412E-934E-81B919505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3B3E1-D160-42BF-B273-5D01A3C23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DFF23-5196-4100-87E8-389994E2D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1079F-0DD1-4C9B-8C8E-A0452A674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13CA2-9D31-4601-9F1B-90F6CD28F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73E92-9A54-4616-B069-C0FDADE6E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9371E-310C-4734-92B6-37F2EB778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270C7-B664-4997-BC4F-A3978815F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F06F3-4DEC-47F6-A288-B0987572E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6E281-6FCF-4764-8F9D-57C5131E6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68CBC-B739-4891-91BE-728A77285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5CB3A-E437-4D52-A749-62CA05F9A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6CFF9-BDC1-4484-B798-B02DB719AB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2EA53C-9A66-4AB7-A5ED-D8178C25A4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7298D1-5100-4BA3-9671-5139734107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DB5344-0BB0-41F0-AF9C-6AD8D95F99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247A66-BCD3-4F1D-99B1-62D8363628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984BF6-430F-49FA-A74E-FE385815D5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9A142-1258-4188-B82F-ABDCDC4C8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A40727-8CE1-4DA6-ADA9-E954C5677A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2EC185-112E-445C-B9D6-F55A8A07D9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5F0847-8FB2-4A9A-AFC1-3FD827631D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B85E8C-F39A-4110-99FC-547ADCD15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999FDC-25D2-4A97-A5AE-A6C38BA3E0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8DC019-DDA5-4D60-A7C8-FD9256B6D0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EB5C4E-6950-4973-8E04-40B34D47DA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DF6A87-E7BB-4896-B038-EB359B38BE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E49164-20A4-4AEF-B576-83FE9FA7A9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EB78A5-D15A-4A1F-A0EF-787254C262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8A8ED-DC4D-41D2-9B9E-2B2124928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38DF31-B083-4870-96BD-D5F61311C6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4F70CD-AE00-4D8A-B3C2-2EAC6A0916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AFED22-F4D6-4246-8C22-EAE0CBA513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5A2180-B3B2-4330-B71D-336C4A5DC3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DEBBA-8CB6-4357-AA9F-55149FC087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63820A-FF11-4E81-AA21-E99ED9899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F33779-0B46-4CC9-9C0C-67C4F7A616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1DCCF9-C5D7-46C2-898B-EE891CACE2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D291B3-3C5B-41F8-B468-E8A250FAA2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0AA52A-ACC2-449E-84F2-84DDAF075C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6C373-EADC-42DE-BDDA-18BD151B2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9D2A8F-87D9-4622-9CED-C5ADEDF9C9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E47E16-F84C-4153-A6B5-B3DDF28974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D46EB0-A779-4A7B-AD9F-425E621EF9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03309F-4DBB-4C24-B08E-18A4FDDCAA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5816E3-003C-4FEF-83F7-5E401D8BF9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35A98A-E6B7-43BE-9D7C-8EE43BD167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B789E4-9C76-416D-9B4C-8C5CF1BEC8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1BD8F3-A61D-44B3-B624-4C55558C5B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420E1D-FB6F-4302-AA6C-1F5F594E24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6EB27F-6EE2-4D42-AC17-5AE7D68E87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D3C63-801C-46F3-8E5F-D15B2A56D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559674-B8A6-44C3-AAC1-0DE6F96639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5A4D26-F0C1-41D9-A73B-DAB66F67CB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26E2A0-E1CC-4407-AAEB-C067BADBDF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D6C070-C8F8-4ABA-A919-A1AC2C56EF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259978-2181-4718-8239-6319C77569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0AD001-6CD3-44A2-AE08-D4F60140B1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B22D77-6AA5-4076-9DD6-9497F32B4B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174CA3-6D11-4454-A477-C51CF4162B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97F77D-87D2-4836-AA46-0EF8C3AE6F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56A506-4329-40BF-817A-4CDE33A17E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B50CC-97A3-4B7F-AC5A-7E0CF8A6D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816003-6B05-4B54-91DD-B996879484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8D1F91-B75C-4573-90F1-DF2BBE612F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A4DD93-7A3F-4C1F-B71B-629C5C6F44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2D4C20-0690-43C0-8FC5-FEE322C0BD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89A181-0029-4D09-AAC1-76339C2527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648742-5371-4677-86E3-07A9D3C74F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22CAFA-726D-442C-972C-418B90D233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1627D8-0EA4-4455-AC9E-8965169A53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7F0E83-EE5F-40A9-8313-5CD07E4B6A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F1EA6B-40FC-4694-A267-FB54A1AA59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9C018-5DB6-471B-BDF5-A65318AB7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D9E45C-5172-44AD-8A64-9F9DA7F3F4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DFC4D3-11E3-45FE-BF78-5A355DF4CA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F91BB4-FB9C-4A21-86F7-41AC518ACE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5BE1B7-3A96-491C-ADBD-D4BBB49F25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97BB4F-50D3-4C83-9BE1-79362BF232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D17BD1-B506-4FED-93E3-CDF7D7E433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A76FD5-C770-4724-8E70-0458748BBE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9D8F38-5E39-4E8E-BDC0-F8CB8AF59F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AD6D08-88A8-471C-B9AC-2C7B50FFD5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B53BE2-51BF-4E24-9CEB-985383BEF1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FCC02-6A42-4CFC-953C-E1BE8DD95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D232BE-13EE-4161-9671-605B2CFF02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CF8056-4ACC-449B-AC22-BDF9826242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3BDD71-0F9A-4DA1-8435-7904D17670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EAA06A-B7EC-4948-9B74-4FBB687740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8B6393-7998-4860-AEC4-938D154A78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C1E3AC-FA26-4395-A83A-7360348CF2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DF2BD4-9B57-4DBA-9098-FF0FD78210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5337D9-A331-4DF1-85A1-259D324B59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690402-D47E-4941-BD0A-65AF0E0FDE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070A66-14CE-4C29-82EA-D3C352F9463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رابط مستقيم 6"/>
          <p:cNvGrpSpPr/>
          <p:nvPr/>
        </p:nvGrpSpPr>
        <p:grpSpPr>
          <a:xfrm>
            <a:off x="506520" y="1036800"/>
            <a:ext cx="8643960" cy="29880"/>
            <a:chOff x="506520" y="1036800"/>
            <a:chExt cx="8643960" cy="29880"/>
          </a:xfrm>
        </p:grpSpPr>
        <p:pic>
          <p:nvPicPr>
            <p:cNvPr id="1" name="رابط مستقيم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E0E9-846C-4598-85E4-4AEE281DA690}"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رابط مستقيم 8"/>
          <p:cNvGrpSpPr/>
          <p:nvPr/>
        </p:nvGrpSpPr>
        <p:grpSpPr>
          <a:xfrm>
            <a:off x="506520" y="1036800"/>
            <a:ext cx="8643960" cy="29880"/>
            <a:chOff x="506520" y="1036800"/>
            <a:chExt cx="8643960" cy="29880"/>
          </a:xfrm>
        </p:grpSpPr>
        <p:pic>
          <p:nvPicPr>
            <p:cNvPr id="9" name="رابط مستقيم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 name="رابط مستقيم 11"/>
          <p:cNvGrpSpPr/>
          <p:nvPr/>
        </p:nvGrpSpPr>
        <p:grpSpPr>
          <a:xfrm>
            <a:off x="506520" y="1047600"/>
            <a:ext cx="8643960" cy="25560"/>
            <a:chOff x="506520" y="1047600"/>
            <a:chExt cx="8643960" cy="25560"/>
          </a:xfrm>
        </p:grpSpPr>
        <p:pic>
          <p:nvPicPr>
            <p:cNvPr id="12" name="رابط مستقيم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رابط مستقيم 12"/>
          <p:cNvGrpSpPr/>
          <p:nvPr/>
        </p:nvGrpSpPr>
        <p:grpSpPr>
          <a:xfrm>
            <a:off x="506520" y="5340240"/>
            <a:ext cx="8643960" cy="23760"/>
            <a:chOff x="506520" y="5340240"/>
            <a:chExt cx="8643960" cy="23760"/>
          </a:xfrm>
        </p:grpSpPr>
        <p:pic>
          <p:nvPicPr>
            <p:cNvPr id="51" name="رابط مستقيم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6F0F-C013-4125-BC57-F9E67FA0BD14}"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رابط مستقيم 6"/>
          <p:cNvGrpSpPr/>
          <p:nvPr/>
        </p:nvGrpSpPr>
        <p:grpSpPr>
          <a:xfrm>
            <a:off x="506520" y="1036800"/>
            <a:ext cx="8643960" cy="29880"/>
            <a:chOff x="506520" y="1036800"/>
            <a:chExt cx="8643960" cy="29880"/>
          </a:xfrm>
        </p:grpSpPr>
        <p:pic>
          <p:nvPicPr>
            <p:cNvPr id="95" name="رابط مستقيم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7" name="رابط مستقيم 8"/>
          <p:cNvGrpSpPr/>
          <p:nvPr/>
        </p:nvGrpSpPr>
        <p:grpSpPr>
          <a:xfrm>
            <a:off x="506520" y="1036800"/>
            <a:ext cx="8643960" cy="29880"/>
            <a:chOff x="506520" y="1036800"/>
            <a:chExt cx="8643960" cy="29880"/>
          </a:xfrm>
        </p:grpSpPr>
        <p:pic>
          <p:nvPicPr>
            <p:cNvPr id="98" name="رابط مستقيم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0" name="رابط مستقيم 11"/>
          <p:cNvGrpSpPr/>
          <p:nvPr/>
        </p:nvGrpSpPr>
        <p:grpSpPr>
          <a:xfrm>
            <a:off x="506520" y="1047600"/>
            <a:ext cx="8643960" cy="25560"/>
            <a:chOff x="506520" y="1047600"/>
            <a:chExt cx="8643960" cy="25560"/>
          </a:xfrm>
        </p:grpSpPr>
        <p:pic>
          <p:nvPicPr>
            <p:cNvPr id="101" name="رابط مستقيم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7B78-1F69-4EDD-8F0F-659090F42A8A}"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رابط مستقيم 12"/>
          <p:cNvGrpSpPr/>
          <p:nvPr/>
        </p:nvGrpSpPr>
        <p:grpSpPr>
          <a:xfrm>
            <a:off x="506520" y="3432240"/>
            <a:ext cx="8643960" cy="23760"/>
            <a:chOff x="506520" y="3432240"/>
            <a:chExt cx="8643960" cy="23760"/>
          </a:xfrm>
        </p:grpSpPr>
        <p:pic>
          <p:nvPicPr>
            <p:cNvPr id="145" name="رابط مستقيم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8EAD-018E-4770-A630-AED2F273E2A0}" type="slidenum">
              <a:rPr b="0" lang="ar-IQ"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رابط مستقيم 12"/>
          <p:cNvGrpSpPr/>
          <p:nvPr/>
        </p:nvGrpSpPr>
        <p:grpSpPr>
          <a:xfrm>
            <a:off x="506520" y="6010200"/>
            <a:ext cx="8643960" cy="25560"/>
            <a:chOff x="506520" y="6010200"/>
            <a:chExt cx="8643960" cy="25560"/>
          </a:xfrm>
        </p:grpSpPr>
        <p:pic>
          <p:nvPicPr>
            <p:cNvPr id="189" name="رابط مستقيم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6875-1B34-4DF7-B467-E8B1E101AE21}"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C28E-9176-4C7C-AF6A-4063C4E5DE26}"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رابط مستقيم 12"/>
          <p:cNvGrpSpPr/>
          <p:nvPr/>
        </p:nvGrpSpPr>
        <p:grpSpPr>
          <a:xfrm>
            <a:off x="506520" y="5840280"/>
            <a:ext cx="8643960" cy="24120"/>
            <a:chOff x="506520" y="5840280"/>
            <a:chExt cx="8643960" cy="24120"/>
          </a:xfrm>
        </p:grpSpPr>
        <p:pic>
          <p:nvPicPr>
            <p:cNvPr id="274" name="رابط مستقيم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02005-B167-4671-8E4E-DE74DD29F7E2}"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70CB-A2E7-480F-841C-64928A0C5281}"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6EF14-CE54-4008-B36D-C94FBE286892}"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عنوان 1" descr=""/>
          <p:cNvPicPr/>
          <p:nvPr/>
        </p:nvPicPr>
        <p:blipFill>
          <a:blip r:embed="rId1"/>
          <a:stretch/>
        </p:blipFill>
        <p:spPr>
          <a:xfrm>
            <a:off x="476280" y="182520"/>
            <a:ext cx="8180280" cy="649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عنوان 1" descr=""/>
          <p:cNvPicPr/>
          <p:nvPr/>
        </p:nvPicPr>
        <p:blipFill>
          <a:blip r:embed="rId1"/>
          <a:stretch/>
        </p:blipFill>
        <p:spPr>
          <a:xfrm>
            <a:off x="176040" y="12600"/>
            <a:ext cx="9010800" cy="654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21:05:55Z</dcterms:created>
  <dc:creator>jinsta</dc:creator>
  <dc:description/>
  <dc:language>en-US</dc:language>
  <cp:lastModifiedBy>jinsta</cp:lastModifiedBy>
  <dcterms:modified xsi:type="dcterms:W3CDTF">2018-12-14T21:09:22Z</dcterms:modified>
  <cp:revision>1</cp:revision>
  <dc:subject/>
  <dc:title>الضربة نصف طائرة او المرتدة : تؤدى هذه الضربة عندما يضرب الكرة اللاعب الخصم وتأتي الكرة او تكون قريبة من جسم اللاعب فيطر اللاعب الى رد الكرة بشكل غير دقيق وليس بالقوة المطلوبة حيث يقوم اللاعب بصد الكرة بالمضرب لحظة ارتدادها من الارض مباشرة دون السماح لها بالارتفاع من وضع الاستعداد ومن ثم الانثناء بالجسم ابتداءاً بالركبتين ومن ثم الجذع والمضرب يكون تقريبا بالقرب من جسم اللاعب مع مسكه بشكل قوي. </dc:title>
</cp:coreProperties>
</file>