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C269-F0B4-4D88-B005-3FC2B338F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B588-38BB-40BA-B6A7-83648C0A6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80738-2789-4D29-A2AE-8D01CD781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D17F9-3DF8-4630-AF71-AED2B068B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0864E-BBDF-4217-85E3-55300EED0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93453-C181-4163-86E8-E0F5F8450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72C25-CB75-465C-91FA-DB1914A60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74945-A51F-410D-BB39-041EB847D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E31B9-9921-417F-B248-F41374FCE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3EDD8-65B2-4E73-B8F8-7648651C6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14A7E-4F9A-4F0F-B1BD-02C001D2F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62838-575C-4C31-9212-B941EF96C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BD61-6A33-4CCF-9A90-9422A136D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BCBA7-F421-4F14-9641-4FD776009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22241-91B1-4AAB-BF51-297475438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E427E-3F40-4201-81DD-2B9A1E924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5D7F7-8B91-4718-A01D-5C7378A3F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9DAF89-0700-4F08-9DB9-81C712B0DE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BE19E-7D56-4C3F-A352-E5EBCD65E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F560A-4E81-4354-8243-7A32B64F8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6FA03-CAB9-4B5F-B9A5-D949FFC40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A497B-4B5D-4CDA-95E4-62F98C0E3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B8CFC-639D-4E42-A121-50CA14E3A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CFB36-53AC-4B1E-8D91-49C357A61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25F82-91DB-478D-AB35-ECC29F85A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7D985-C40A-4671-B060-1E06850A9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B9F88-53BF-4F55-8AE5-970C88ED2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6F23A-F5B2-4732-8B15-7011B8B51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51899-1F70-4B22-8C28-A24F30CFE7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EF40C1-61CD-41A4-9045-C4094EFE64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08843C-D822-46B9-B388-D0FFCCF4CC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530F0-F9A0-4E9F-AC40-9D11BE66C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F1BEF1-B5B7-4A67-8376-E33A857B8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D951D-0A8C-4DF0-BEEE-017301555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CBECC-276D-4C62-AD0B-2354BF5C9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F7785F-8438-42D6-9C0F-C42B007F3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E444AE-ABB6-43E4-A69B-341FC3F9F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435CA-49CE-487C-B868-049754C57F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19811-E61B-4EC5-A677-91E7BB3F5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0F7F7-897B-4DF7-A430-9D554A5F1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5B6A2-194F-4C6E-AE96-D89E4DC71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53A42E-BCFA-4A44-B435-D502ADB083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A286E8-58CC-4CAD-A589-8587A53392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9F8C86-DF4A-4517-9688-C7A85195E9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AF710-25B3-46E2-AE84-53557FFD1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B9E38-67ED-4348-8EFD-847613199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01368-5E24-49DA-B9B8-A1371C1CAA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DAEF8-C49D-4811-B715-E240963F8D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E56F4-CAFA-4915-AC37-42EACCA9D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187E6-EAD0-489F-B4EC-FF013355E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B4625-F679-4B3E-8174-F3FE5D69F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B4FA6-F7B9-4273-9178-8773B7B1F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25CED2-6677-4A0C-89B1-A6397D291F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0AE59-2C54-4DC4-908C-3C4FBFD97B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B0539C-16DE-4755-B6FC-131A1D267E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96507-779A-4F9C-B9BF-6CDFDBB4C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C28E32-5AD7-4135-A753-5CB5876632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0935C7-230C-495A-BED2-E9ECE14A4F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7BE09-5D13-41EE-9909-40CDC0A7B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F24391-1EB2-4D5C-B7AE-57E5F7ADF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B38AF-4D7F-462F-8AC6-64D789E1C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F6FC1-0A52-4C46-8A8C-9654558D0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283C8-32CC-48EB-BD59-B832AD020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B3F65-64A8-4D82-A5DD-F63D9FAEE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D57B3B-BDDB-4FBA-849A-AC9A6F3F0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C2BA2-F954-4AD1-ACF3-E52862147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4D2D-3A35-4B29-B152-CB8C4E2C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A1D43-2A40-407C-A2E3-3737445FE1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12843E-88E0-4AD6-9E94-B2033D9DBE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52CE7B-9BC3-4358-A051-CA939803AD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A7407D-A82F-401B-A9A9-6D2878B75B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8D826-9D9B-471F-9AF7-F7A66C50E2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0AF77-B8F1-44C2-8176-327D265B6E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B97B3-B58F-4A04-B648-904A34CC8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C3088E-3960-4906-9A94-2E505A0BE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A2D757-12AB-4F05-A740-1AEA85CFD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2B7DD4-B134-44DC-A251-04AB5C4614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2EB8-D344-4C6A-9CB8-EC949668E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8061B-6379-44CE-9A6C-FF2BE122F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B9EA82-41F6-44C5-A9FD-D5525571B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82196F-2EA4-4F33-9053-D1EDA4D62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B52702-87BF-4E2C-AC3D-B1C95F7DB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216B07-3EA1-4E23-B108-062C07706E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C1FB9-91BF-4AE5-9F27-4CB9E6899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661F-44BE-4A23-ACEB-7D074AE5E610}"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15D1-7804-4A6C-B523-4341A1AB6A10}"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7264-FC18-4BE0-BBFD-037C7FD1D68B}"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A344-14BD-4AF4-94D0-37822DBD3510}"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1B6B-6C44-4E4F-B4D7-F3DB7083C897}"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5274-35DE-4E28-9A03-5C25A22722D2}"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1DF5-84EE-4B03-B38F-E5BBEC74E42C}" type="slidenum">
              <a:rPr b="0" lang="ar-IQ"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404280"/>
            <a:ext cx="8424720" cy="6193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0000"/>
                </a:solidFill>
                <a:latin typeface="Gill Sans MT"/>
                <a:cs typeface="SKR HEAD1"/>
              </a:rPr>
              <a:t>ضربة الإرسال</a:t>
            </a:r>
            <a:br>
              <a:rPr sz="3600"/>
            </a:br>
            <a:r>
              <a:rPr b="0" lang="ar-IQ" sz="3600" spc="-1" strike="noStrike">
                <a:solidFill>
                  <a:srgbClr val="572314"/>
                </a:solidFill>
                <a:latin typeface="Gill Sans MT"/>
                <a:cs typeface="SKR HEAD1"/>
              </a:rPr>
              <a:t>تعد مهارة الإرسال واحدة من أهم المهارات التي يجب أن يتميز بها لاعب التنس الجيد، فالإرسال مفتاح اللعب الهجومي والقوة الضاربة في اللعب، واللاعب الجيد الذي يمتلك إرسالاً يتميز بالقوة والدقة تكون فرصته كبيرة في كسب المباراة.ان أداء الإرسال بشكل جيد يؤدي إلى زيادة فرصة اللاعب بالفوز بالمباراة بأقل ما يمكن من المجهود البدني، هذا بالإضافة إلى التأثير على معنويات اللاعب الخصم أثناء المباراة. لذا يكون من الضروري جداً الاهتمام بمهارة الإرسال والتدريب عليها بشكل مستمر وبما يضمن إتقانها وعلى مستوى عالٍ من الثبات في الأداء</a:t>
            </a:r>
            <a:r>
              <a:rPr b="0" lang="en-US" sz="3600" spc="-1" strike="noStrike">
                <a:solidFill>
                  <a:srgbClr val="572314"/>
                </a:solidFill>
                <a:latin typeface="Gill Sans MT"/>
                <a:ea typeface="SKR HEAD1"/>
              </a:rPr>
              <a:t>.</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274680"/>
            <a:ext cx="8250120" cy="610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572314"/>
                </a:solidFill>
                <a:latin typeface="Gill Sans MT"/>
                <a:cs typeface="SKR HEAD1"/>
              </a:rPr>
              <a:t>إن الهدف من الإرسال هو وضع الكرة في حالة اللعب بحيث يكون من الصعب على الخصم إرجاع الإرسال بقوة أو عدم إرجاعه على الإطلاق، وإن للاعب المرسل الحرية الكاملة عند أدائه الضربة، إذ تعد ضربة الإرسال الضربة الوحيدة التي يؤديها اللاعب دون الوقوع تحت ضغط ما، حيث يكون لديه الوقت الكافي لإعداد نفسه للقيام بضرب الكـرة</a:t>
            </a:r>
            <a:r>
              <a:rPr b="0" lang="en-US" sz="3900" spc="-1" strike="noStrike">
                <a:solidFill>
                  <a:srgbClr val="572314"/>
                </a:solidFill>
                <a:latin typeface="Gill Sans MT"/>
                <a:ea typeface="SKR HEAD1"/>
              </a:rPr>
              <a:t>.</a:t>
            </a:r>
            <a:br>
              <a:rPr sz="3900"/>
            </a:br>
            <a:r>
              <a:rPr b="0" lang="ar-IQ" sz="3900" spc="-1" strike="noStrike">
                <a:solidFill>
                  <a:srgbClr val="572314"/>
                </a:solidFill>
                <a:latin typeface="Gill Sans MT"/>
                <a:cs typeface="SKR HEAD1"/>
              </a:rPr>
              <a:t>وتعد ضربة الإرسال المفتاح الأول لبداية اللعب ومن أصعب الضربـات لأنها تحتاج إلى سيطرة كبيرة، ولا يمكن البدء بتسجيل النقاط إلا بعد هذه الضربة</a:t>
            </a:r>
            <a:r>
              <a:rPr b="0" lang="en-US" sz="3900" spc="-1" strike="noStrike">
                <a:solidFill>
                  <a:srgbClr val="572314"/>
                </a:solidFill>
                <a:latin typeface="Gill Sans MT"/>
                <a:ea typeface="SKR HEAD1"/>
              </a:rPr>
              <a:t>.</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79280" y="274320"/>
            <a:ext cx="8755200" cy="5962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0000"/>
                </a:solidFill>
                <a:latin typeface="Gill Sans MT"/>
                <a:cs typeface="SKR HEAD1"/>
              </a:rPr>
              <a:t>وتقسم مراحل التدريب على مهارة الإرسال بالخطوات الآتية</a:t>
            </a:r>
            <a:r>
              <a:rPr b="0" lang="en-US" sz="3900" spc="-1" strike="noStrike">
                <a:solidFill>
                  <a:srgbClr val="572314"/>
                </a:solidFill>
                <a:latin typeface="Gill Sans MT"/>
                <a:ea typeface="SKR HEAD1"/>
              </a:rPr>
              <a:t>:</a:t>
            </a:r>
            <a:br>
              <a:rPr sz="3900"/>
            </a:br>
            <a:r>
              <a:rPr b="1" lang="ar-IQ" sz="3900" spc="-1" strike="noStrike">
                <a:solidFill>
                  <a:srgbClr val="ff0000"/>
                </a:solidFill>
                <a:latin typeface="Gill Sans MT"/>
                <a:cs typeface="SKR HEAD1"/>
              </a:rPr>
              <a:t>وضع الاستعداد</a:t>
            </a:r>
            <a:br>
              <a:rPr sz="3900"/>
            </a:br>
            <a:r>
              <a:rPr b="0" lang="ar-IQ" sz="4400" spc="-1" strike="noStrike">
                <a:solidFill>
                  <a:srgbClr val="000000"/>
                </a:solidFill>
                <a:latin typeface="Gill Sans MT"/>
                <a:cs typeface="SKR HEAD1"/>
              </a:rPr>
              <a:t>والذي يشمل المسكة ووضع الاستعداد، إذ يمكن أن يستخدم اللاعب نفس المسكة التي يستخدمها عند أداء الضربة الأمامية مع الشعور بأن مسك المضرب أكثر مـا يكون بواسطة الأصابع وتتميز </a:t>
            </a:r>
            <a:r>
              <a:rPr b="0" lang="ar-IQ" sz="3900" spc="-1" strike="noStrike">
                <a:solidFill>
                  <a:srgbClr val="000000"/>
                </a:solidFill>
                <a:latin typeface="Gill Sans MT"/>
                <a:cs typeface="SKR HEAD1"/>
              </a:rPr>
              <a:t>مسكة الإرسال بالقوة والمرونة في مفصل الرسغ</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6249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2" name="Picture 2" descr=""/>
          <p:cNvPicPr/>
          <p:nvPr/>
        </p:nvPicPr>
        <p:blipFill>
          <a:blip r:embed="rId1"/>
          <a:stretch/>
        </p:blipFill>
        <p:spPr>
          <a:xfrm>
            <a:off x="3848040" y="330120"/>
            <a:ext cx="2379600" cy="619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55280" y="274680"/>
            <a:ext cx="8178840" cy="6323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Gill Sans MT"/>
                <a:cs typeface="SKR HEAD1"/>
              </a:rPr>
              <a:t>أما وضع الاستعداد فيقف اللاعب في وضع الاستعداد لأداء الإرسال خلف خط القاعدة  </a:t>
            </a:r>
            <a:r>
              <a:rPr b="0" lang="en-US" sz="3200" spc="-1" strike="noStrike">
                <a:solidFill>
                  <a:srgbClr val="000000"/>
                </a:solidFill>
                <a:latin typeface="Gill Sans MT"/>
                <a:ea typeface="SKR HEAD1"/>
              </a:rPr>
              <a:t>(</a:t>
            </a:r>
            <a:r>
              <a:rPr b="0" lang="en-US" sz="3200" spc="-1" strike="noStrike">
                <a:solidFill>
                  <a:srgbClr val="000000"/>
                </a:solidFill>
                <a:latin typeface="Gill Sans MT"/>
                <a:ea typeface="SKR HEAD1"/>
              </a:rPr>
              <a:t>The Baseline</a:t>
            </a:r>
            <a:r>
              <a:rPr b="0" lang="en-US" sz="3200" spc="-1" strike="noStrike">
                <a:solidFill>
                  <a:srgbClr val="000000"/>
                </a:solidFill>
                <a:latin typeface="Gill Sans MT"/>
                <a:ea typeface="SKR HEAD1"/>
              </a:rPr>
              <a:t>) </a:t>
            </a:r>
            <a:r>
              <a:rPr b="0" lang="ar-IQ" sz="3200" spc="-1" strike="noStrike">
                <a:solidFill>
                  <a:srgbClr val="000000"/>
                </a:solidFill>
                <a:latin typeface="Gill Sans MT"/>
                <a:cs typeface="SKR HEAD1"/>
              </a:rPr>
              <a:t>وعلى بعد قدمان أو ثلاثة من العلامة الوسطية عند الإرسال من الجهة اليمنى بحيث يكون الجزء الأيسر من الجسم باتجاه الشبكة، ويكون وزن الجسم على القدم الخلفية التي تكون موازية لخط الإرسال تقريباً، بينما تؤشر القدم الأمامية باتجاه العمود الأيسر للشبكـة.- قذف الكرة والمرجحة الخلفية</a:t>
            </a:r>
            <a:br>
              <a:rPr sz="3200"/>
            </a:br>
            <a:r>
              <a:rPr b="0" lang="ar-IQ" sz="3200" spc="-1" strike="noStrike">
                <a:solidFill>
                  <a:srgbClr val="000000"/>
                </a:solidFill>
                <a:latin typeface="Gill Sans MT"/>
                <a:cs typeface="SKR HEAD1"/>
              </a:rPr>
              <a:t>تبدأ مرجحة المضرب للأعلى بحيث يكون المرفق للخلف والكتف عالياً بنفس الوقت الذي تبدأ فيه الذراع الماسكة بالكرة بحركة المد للأعلى لغرض قذف الكرة، وعندما تصل الذراع إلى أقصى امتداد لها يقوم اللاعب بقذف الكرة لارتفاع حوالي قدمان فوقها ولمسافة حوالي (</a:t>
            </a:r>
            <a:r>
              <a:rPr b="0" lang="ar-IQ" sz="3200" spc="-1" strike="noStrike">
                <a:solidFill>
                  <a:srgbClr val="000000"/>
                </a:solidFill>
                <a:latin typeface="Gill Sans MT"/>
                <a:ea typeface="SKR HEAD1"/>
              </a:rPr>
              <a:t>6</a:t>
            </a:r>
            <a:r>
              <a:rPr b="0" lang="ar-IQ" sz="3200" spc="-1" strike="noStrike">
                <a:solidFill>
                  <a:srgbClr val="000000"/>
                </a:solidFill>
                <a:latin typeface="Gill Sans MT"/>
                <a:ea typeface="SKR HEAD1"/>
              </a:rPr>
              <a:t> أنج) أمام إصبع القدم الأمامية</a:t>
            </a:r>
            <a:r>
              <a:rPr b="0" lang="en-US" sz="3200" spc="-1" strike="noStrike">
                <a:solidFill>
                  <a:srgbClr val="000000"/>
                </a:solidFill>
                <a:latin typeface="Gill Sans MT"/>
                <a:ea typeface="SKR HEAD1"/>
              </a:rPr>
              <a:t> .</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274680"/>
            <a:ext cx="8934480" cy="61070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5" name="Picture 2" descr=""/>
          <p:cNvPicPr/>
          <p:nvPr/>
        </p:nvPicPr>
        <p:blipFill>
          <a:blip r:embed="rId1"/>
          <a:stretch/>
        </p:blipFill>
        <p:spPr>
          <a:xfrm>
            <a:off x="2243160" y="295200"/>
            <a:ext cx="4657680" cy="626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50560" y="274680"/>
            <a:ext cx="8683560" cy="6107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Gill Sans MT"/>
                <a:ea typeface="SKR HEAD1"/>
              </a:rPr>
              <a:t> </a:t>
            </a:r>
            <a:br>
              <a:rPr sz="4400"/>
            </a:br>
            <a:r>
              <a:rPr b="0" lang="ar-IQ" sz="4400" spc="-1" strike="noStrike">
                <a:solidFill>
                  <a:srgbClr val="572314"/>
                </a:solidFill>
                <a:latin typeface="Gill Sans MT"/>
                <a:cs typeface="SKR HEAD1"/>
              </a:rPr>
              <a:t>يبدأ اللاعب بمرجحة المضرب للخلف بثني الذراع الضاربة للخلف من مفصل المرفق مع مراعاة عدم ثني مفصل الرسغ ويكون بمستوى الكتف، ثم يستمر بالانثناء بزاوية قائمة. يركز اللاعب نظره على الكرة ويكون وزن الجسم على القدم الأمامية بينما تكون الذراع الرامية للكرة ممدودة تماماً للأعلى بينما تكون الذراع الضاربة للأعلى والمرفق بمستوى الكتف ومثنياً</a:t>
            </a:r>
            <a:br>
              <a:rPr sz="4400"/>
            </a:br>
            <a:endParaRPr b="0"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ستطيل 1"/>
          <p:cNvSpPr/>
          <p:nvPr/>
        </p:nvSpPr>
        <p:spPr>
          <a:xfrm>
            <a:off x="395280" y="260280"/>
            <a:ext cx="8424720" cy="10330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0000"/>
                </a:solidFill>
                <a:latin typeface="Gill Sans MT"/>
                <a:cs typeface="SKR HEAD1"/>
              </a:rPr>
              <a:t>المرجحة الأمامية ونقطة التماس</a:t>
            </a:r>
            <a:br>
              <a:rPr sz="3200"/>
            </a:br>
            <a:r>
              <a:rPr b="0" lang="ar-IQ" sz="3200" spc="-1" strike="noStrike">
                <a:solidFill>
                  <a:srgbClr val="000000"/>
                </a:solidFill>
                <a:latin typeface="Gill Sans MT"/>
                <a:cs typeface="SKR HEAD1"/>
              </a:rPr>
              <a:t>في نهاية المرجحة الخلفية تستمر الذراع الضاربة بالانثناء من المرفق بحيث يكون المضرب خلف الظهر، بعد ذلك يقوم اللاعب بجلب الذراع الضاربة للأمام ثم يقوم بخطف الرسغ للأعلى وللأمام باتجاه الكرة للقيام بتكملة الحركة ثم للأسفل وباتجاه الجانب الأيسر من الجسم حيث يترك كعب القدم اليمنى (الخلفية) الأرض مع مراعاة أن يكون أداء الحركة بشكل انسيابي قدر الإمكان، ثم ينتقل وزن الجسم من القدم اليمنى إلى القدم الأمامية بعد القيام بقذف الكرة للأعلى وإكمال المرجحة الخلفية، وفي لحظة ضرب الكرة يكون المضرب والذراع الضاربة بشكل مستقيم مع ميلان الجسم قليلاً للأمام بحيث يكون ممدوداً تماماً بدون تصلب</a:t>
            </a:r>
            <a:r>
              <a:rPr b="0" lang="en-US" sz="3200" spc="-1" strike="noStrike">
                <a:solidFill>
                  <a:srgbClr val="000000"/>
                </a:solidFill>
                <a:latin typeface="Gill Sans MT"/>
                <a:ea typeface="SKR HEAD1"/>
              </a:rPr>
              <a:t>.</a:t>
            </a:r>
            <a:br>
              <a:rPr sz="3200"/>
            </a:br>
            <a:r>
              <a:rPr b="0" lang="ar-IQ" sz="3200" spc="-1" strike="noStrike">
                <a:solidFill>
                  <a:srgbClr val="000000"/>
                </a:solidFill>
                <a:latin typeface="Gill Sans MT"/>
                <a:cs typeface="SKR HEAD1"/>
              </a:rPr>
              <a:t>ثم بعد ذلك تضرب الكرة عندما تصل إلى قمة ارتفاعها بعد قذفها، حيث يساعد ذلك على التوقيت الجيد لحظة ملامسة الكرة للمضرب (التصادم) بحيث تبقى الذراع ممدودة لضمان عدم تجزئة الحركة</a:t>
            </a:r>
            <a:r>
              <a:rPr b="0" lang="en-US" sz="3200" spc="-1" strike="noStrike">
                <a:solidFill>
                  <a:srgbClr val="000000"/>
                </a:solidFill>
                <a:latin typeface="Gill Sans MT"/>
                <a:ea typeface="SKR HEAD1"/>
              </a:rPr>
              <a:t>.</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0" y="-757800"/>
            <a:ext cx="9144000" cy="862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SKR HEAD1"/>
              </a:rPr>
              <a:t> </a:t>
            </a:r>
            <a:r>
              <a:rPr b="1" lang="ar-IQ" sz="2800" spc="-1" strike="noStrike">
                <a:solidFill>
                  <a:srgbClr val="ff0000"/>
                </a:solidFill>
                <a:latin typeface="Simplified Arabic"/>
                <a:cs typeface="SKR HEAD1"/>
              </a:rPr>
              <a:t>الأخطاء الشائعة في أداء ضربة الإرسال</a:t>
            </a:r>
            <a:br>
              <a:rPr sz="2800"/>
            </a:br>
            <a:r>
              <a:rPr b="0" lang="en-US" sz="2800" spc="-1" strike="noStrike">
                <a:solidFill>
                  <a:srgbClr val="000000"/>
                </a:solidFill>
                <a:latin typeface="Arial"/>
                <a:ea typeface="SKR HEAD1"/>
              </a:rPr>
              <a:t> </a:t>
            </a:r>
            <a:r>
              <a:rPr b="0" lang="ar-IQ" sz="2800" spc="-1" strike="noStrike">
                <a:solidFill>
                  <a:srgbClr val="000000"/>
                </a:solidFill>
                <a:latin typeface="Simplified Arabic"/>
                <a:ea typeface="SKR HEAD1"/>
              </a:rPr>
              <a:t>1</a:t>
            </a:r>
            <a:r>
              <a:rPr b="0" lang="ar-IQ" sz="2800" spc="-1" strike="noStrike">
                <a:solidFill>
                  <a:srgbClr val="000000"/>
                </a:solidFill>
                <a:latin typeface="Simplified Arabic"/>
                <a:ea typeface="SKR HEAD1"/>
              </a:rPr>
              <a:t>- عدم توافق المرجحة الخلفية مع حركة قذف الكرة للأعلى والسبب هو وضع اليد اليسرى الذي يكون بجانب الساق الأمامية بدلاً من أن تكون أمامها مما يؤدي إلى عدم تحريك الذراعين سوية وبآن واحد</a:t>
            </a:r>
            <a:r>
              <a:rPr b="0" lang="en-US" sz="2800" spc="-1" strike="noStrike">
                <a:solidFill>
                  <a:srgbClr val="000000"/>
                </a:solidFill>
                <a:latin typeface="Arial"/>
                <a:ea typeface="SKR HEAD1"/>
              </a:rPr>
              <a:t>.</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2- </a:t>
            </a:r>
            <a:r>
              <a:rPr b="0" lang="ar-IQ" sz="2800" spc="-1" strike="noStrike">
                <a:solidFill>
                  <a:srgbClr val="000000"/>
                </a:solidFill>
                <a:latin typeface="Simplified Arabic"/>
                <a:cs typeface="SKR HEAD1"/>
              </a:rPr>
              <a:t>قذف الكرة للأعلى يكون واطئاً وذلك لعدم وصول الذراع القاذفة للكرة للارتفاع المطلوب عند قذف الكرة</a:t>
            </a:r>
            <a:r>
              <a:rPr b="0" lang="en-US" sz="2800" spc="-1" strike="noStrike">
                <a:solidFill>
                  <a:srgbClr val="000000"/>
                </a:solidFill>
                <a:latin typeface="Arial"/>
                <a:ea typeface="SKR HEAD1"/>
              </a:rPr>
              <a:t>.</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قذف الكرة يكون بعيداً للخلف</a:t>
            </a:r>
            <a:r>
              <a:rPr b="0" lang="en-US" sz="2800" spc="-1" strike="noStrike">
                <a:solidFill>
                  <a:srgbClr val="000000"/>
                </a:solidFill>
                <a:latin typeface="Tahoma"/>
                <a:ea typeface="SKR HEAD1"/>
              </a:rPr>
              <a:t>.</a:t>
            </a:r>
            <a:r>
              <a:rPr b="0" lang="en-US" sz="2800" spc="-1" strike="noStrike">
                <a:solidFill>
                  <a:srgbClr val="000000"/>
                </a:solidFill>
                <a:latin typeface="Tahoma"/>
                <a:ea typeface="SKR HEAD1"/>
              </a:rPr>
              <a:t>3</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عدم وصول المرفق إلى مستوى الكتف في نهاية المرجحة الخلفية</a:t>
            </a:r>
            <a:r>
              <a:rPr b="0" lang="en-US" sz="2800" spc="-1" strike="noStrike">
                <a:solidFill>
                  <a:srgbClr val="000000"/>
                </a:solidFill>
                <a:latin typeface="Arial"/>
                <a:ea typeface="SKR HEAD1"/>
              </a:rPr>
              <a:t>.</a:t>
            </a:r>
            <a:r>
              <a:rPr b="0" lang="en-US" sz="2800" spc="-1" strike="noStrike">
                <a:solidFill>
                  <a:srgbClr val="000000"/>
                </a:solidFill>
                <a:latin typeface="Arial"/>
                <a:ea typeface="SKR HEAD1"/>
              </a:rPr>
              <a:t>4</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5- </a:t>
            </a:r>
            <a:r>
              <a:rPr b="0" lang="ar-IQ" sz="2800" spc="-1" strike="noStrike">
                <a:solidFill>
                  <a:srgbClr val="000000"/>
                </a:solidFill>
                <a:latin typeface="Simplified Arabic"/>
                <a:cs typeface="SKR HEAD1"/>
              </a:rPr>
              <a:t>عدم وصول المضرب إلى المسافة المطلوبة خلف الظهر مع حركة ثني الرسغ بدلاً من أن تكون من مفصل المرفق</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استدارة الجانب الأيمن للأمام بشكل مبكر وقبل اتصال الكرة بالمضرب</a:t>
            </a:r>
            <a:r>
              <a:rPr b="0" lang="en-US" sz="2800" spc="-1" strike="noStrike">
                <a:solidFill>
                  <a:srgbClr val="000000"/>
                </a:solidFill>
                <a:latin typeface="Arial"/>
                <a:ea typeface="SKR HEAD1"/>
              </a:rPr>
              <a:t>-</a:t>
            </a:r>
            <a:r>
              <a:rPr b="0" lang="en-US" sz="2800" spc="-1" strike="noStrike">
                <a:solidFill>
                  <a:srgbClr val="000000"/>
                </a:solidFill>
                <a:latin typeface="Arial"/>
                <a:ea typeface="SKR HEAD1"/>
              </a:rPr>
              <a:t>6</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7- </a:t>
            </a:r>
            <a:r>
              <a:rPr b="0" lang="ar-IQ" sz="2800" spc="-1" strike="noStrike">
                <a:solidFill>
                  <a:srgbClr val="000000"/>
                </a:solidFill>
                <a:latin typeface="Simplified Arabic"/>
                <a:cs typeface="SKR HEAD1"/>
              </a:rPr>
              <a:t>يمكن اتجاه حركة المضرب للأسفل بدلاً من أن تكون للأعلى نتيجة عدم كفاءة حركة الرسغ</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cs typeface="SKR HEAD1"/>
              </a:rPr>
              <a:t>تصلب الجسم وعدم أداء الحركة بشكل انسيابي</a:t>
            </a:r>
            <a:r>
              <a:rPr b="0" lang="en-US" sz="2800" spc="-1" strike="noStrike">
                <a:solidFill>
                  <a:srgbClr val="000000"/>
                </a:solidFill>
                <a:latin typeface="Arial"/>
                <a:ea typeface="SKR HEAD1"/>
              </a:rPr>
              <a:t>- </a:t>
            </a:r>
            <a:r>
              <a:rPr b="0" lang="en-US" sz="2800" spc="-1" strike="noStrike">
                <a:solidFill>
                  <a:srgbClr val="000000"/>
                </a:solidFill>
                <a:latin typeface="Arial"/>
                <a:ea typeface="SKR HEAD1"/>
              </a:rPr>
              <a:t>8</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Simplified Arabic"/>
                <a:ea typeface="SKR HEAD1"/>
              </a:rPr>
              <a:t>9- </a:t>
            </a:r>
            <a:r>
              <a:rPr b="0" lang="ar-IQ" sz="2800" spc="-1" strike="noStrike">
                <a:solidFill>
                  <a:srgbClr val="000000"/>
                </a:solidFill>
                <a:latin typeface="Simplified Arabic"/>
                <a:cs typeface="SKR HEAD1"/>
              </a:rPr>
              <a:t>عدم توازن الجسم بشكل جيد وذلك بسبب عدم ارتكاز القدم اليسرى بكاملها على الأرض</a:t>
            </a:r>
            <a:r>
              <a:rPr b="0" lang="en-US" sz="2800" spc="-1" strike="noStrike">
                <a:solidFill>
                  <a:srgbClr val="000000"/>
                </a:solidFill>
                <a:latin typeface="Simplified Arabic"/>
                <a:ea typeface="SKR HEAD1"/>
              </a:rPr>
              <a:t>.</a:t>
            </a:r>
            <a:endParaRPr b="0" lang="en-US" sz="2800" spc="-1" strike="noStrike">
              <a:solidFill>
                <a:srgbClr val="000000"/>
              </a:solidFill>
              <a:latin typeface="Gill Sans M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21:52:10Z</dcterms:created>
  <dc:creator>jinsta</dc:creator>
  <dc:description/>
  <dc:language>en-US</dc:language>
  <cp:lastModifiedBy>jinsta</cp:lastModifiedBy>
  <dcterms:modified xsi:type="dcterms:W3CDTF">2018-12-14T22:26:41Z</dcterms:modified>
  <cp:revision>4</cp:revision>
  <dc:subject/>
  <dc:title>ضربة الإرسال تعد مهارة الإرسال واحدة من أهم المهارات التي يجب أن يتميز بها لاعب التنس الجيد، فالإرسال مفتاح اللعب الهجومي والقوة الضاربة في اللعب، واللاعب الجيد الذي يمتلك إرسالاً يتميز بالقوة والدقة تكون فرصته كبيرة في كسب المباراة.ان أداء الإرسال بشكل جيد يؤدي إلى زيادة فرصة اللاعب بالفوز بالمباراة بأقل ما يمكن من المجهود البدني، هذا بالإضافة إلى التأثير على معنويات اللاعب الخصم أثناء المباراة. لذا يكون من الضروري جداً الاهتمام بمهارة الإرسال والتدريب عليها بشكل مستمر وبما يضمن إتقانها وعلى مستوى عالٍ من الثبات في الأداء.</dc:title>
</cp:coreProperties>
</file>