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11D8F-0317-430C-BEF0-395099B67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DA384-464E-4732-A77A-C9E02696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17731-E35E-4C8A-A453-39E89236D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F3A41-6740-45D0-86BF-C562127A8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1C5DF-795C-4ED6-806B-547D888E1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8DF30-1349-45DD-B464-C19B55A33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3EC93-CE9C-41CF-BEA5-9B41BEB23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71850-F227-4F00-B317-9F83D4F2B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D4A02-1D4D-4794-95BF-950B089D7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73D49-F04A-4298-94A3-EB0F425F1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3FA1B-753A-4DC3-BA2B-903B29DE7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3512F-BA0C-4F7D-BD7F-10B7EAA3D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5F01E-2D6E-4609-BCE3-02001E25B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5A57B-C6A6-4A27-A8C6-E0752F60A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AF87D-67CF-4DAA-AFA3-54E4CB780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BE27B-3BAA-4041-9A5C-893027F80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85D9B-5CE8-4EAC-85D0-429FD0419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19712-7ADA-44A3-8EFD-71B24F533A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52FCA-E798-4181-879C-23A436207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596A0-F0EE-4ECC-9E98-179D4F16E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ABE95-616A-47B0-A9E9-5714F8060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52ACB-103E-4F76-B66D-17C6B0594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5377-4EB1-42C7-B196-0ACD75CAA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6CDCD-EC92-4B3D-9E53-230171969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F788D-194E-4672-9A46-3E7AB6E68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E7AEF-EB47-41A1-A9BE-9ECB0BC8A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41801-A5FC-49C4-A8B0-DC801C9A8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F23D2-E543-44EB-AE38-66459E1DB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2FCFA0-F0FA-41A9-B91E-4AC5E5BF15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75C4F4-1FA3-41BD-B5C4-0A73262CAA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5FDD70-A422-4A04-81F3-8B11B3AAFC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3A34A-32B7-4E54-A63D-7B18A1FFA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547A5-5D3C-4A7D-BBEF-DDE5800B3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9AD0-8616-461B-A82D-66EC5BFF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9B551-7F0A-4F7A-B3C6-C4EE8288B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9A15E-1212-4958-9F2E-2290C9A1F2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F47DA-4CFB-4385-9F3B-611D2776A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01B1C-642C-41D7-AF9F-DDA924187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8E21E-5436-4480-8943-6983258DF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200A8-9C61-4A04-82DE-020652B52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376FB-D300-4F1B-863B-807C56C0D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8C87F-0578-4D9F-A3C9-06163ACDF8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B78D2-D6F2-490B-9145-85F0038E83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E21D-2A47-45B9-936E-FE0071A13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0E493-6ED9-43CA-B96C-B1D65C0B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E136-6ECE-46D3-98EC-13E8F9C6F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CD785-E2C7-4C67-90F7-3AD408B48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98AEE-5D14-4C25-98EE-62E90D198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3253-6A00-4B29-B186-F23B29456CEC}" type="slidenum">
              <a:rPr b="0" lang="ar-IQ"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2C8A-F875-49B0-9FCC-FAB9D5D2DAE9}" type="slidenum">
              <a:rPr b="0" lang="ar-IQ"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DCD4-4F9E-41F8-B0DC-236525B9905E}" type="slidenum">
              <a:rPr b="0" lang="ar-IQ"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A7B4-C9DE-401F-95AA-E7ED962A7706}" type="slidenum">
              <a:rPr b="0" lang="ar-IQ"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96840" y="-6480"/>
            <a:ext cx="8955000" cy="645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مستطيل 1"/>
          <p:cNvSpPr/>
          <p:nvPr/>
        </p:nvSpPr>
        <p:spPr>
          <a:xfrm>
            <a:off x="395280" y="765000"/>
            <a:ext cx="8497800" cy="2531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cs typeface="SKR HEAD1"/>
              </a:rPr>
              <a:t>إن قواعد لعبة التنس وطريقة أحتساب النقاط هي واحدة في جميع البلدان التي تمارس فيها اللعبة وتمتاز بمستوى عالي من الروح الرياضية والنزاهة والجاذبية وفوائدها كثيرة وبالتحديد المتعة والصداقات والعلاقات الأجتماعية خارج الملعب</a:t>
            </a:r>
            <a:r>
              <a:rPr b="0" lang="en-US" sz="3200" spc="-1" strike="noStrike">
                <a:solidFill>
                  <a:srgbClr val="000000"/>
                </a:solidFill>
                <a:latin typeface="Constantia"/>
                <a:ea typeface="SKR HEAD1"/>
              </a:rPr>
              <a:t>.</a:t>
            </a:r>
            <a:endParaRPr b="0" lang="en-US" sz="3200" spc="-1" strike="noStrike">
              <a:solidFill>
                <a:srgbClr val="000000"/>
              </a:solidFill>
              <a:latin typeface="Constantia"/>
            </a:endParaRPr>
          </a:p>
        </p:txBody>
      </p:sp>
      <p:sp>
        <p:nvSpPr>
          <p:cNvPr id="197" name="مستطيل 2"/>
          <p:cNvSpPr/>
          <p:nvPr/>
        </p:nvSpPr>
        <p:spPr>
          <a:xfrm>
            <a:off x="144360" y="2997360"/>
            <a:ext cx="874872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SKR HEAD1"/>
              </a:rPr>
              <a:t>وهي من الرياضات التي تؤدي دوراً في أعداد الفرد بدنياً وعقلياً ونفسياً وأجتماعياً من خلال تطوير قدراته وأمكانياته الأيجابية في خدمة المجتمع وأن التطور الحاصل في هذه اللعبة وأتساع قاعدتها يعد أحد الجوانب التي تعكس مقدار قيمتها الحقيقية</a:t>
            </a:r>
            <a:r>
              <a:rPr b="0" lang="en-US" sz="4000" spc="-1" strike="noStrike">
                <a:solidFill>
                  <a:srgbClr val="000000"/>
                </a:solidFill>
                <a:latin typeface="Constantia"/>
                <a:ea typeface="SKR HEAD1"/>
              </a:rPr>
              <a: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85680" y="-6480"/>
            <a:ext cx="9094680" cy="682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عنوان 1" descr=""/>
          <p:cNvPicPr/>
          <p:nvPr/>
        </p:nvPicPr>
        <p:blipFill>
          <a:blip r:embed="rId1"/>
          <a:stretch/>
        </p:blipFill>
        <p:spPr>
          <a:xfrm>
            <a:off x="-73080" y="-536400"/>
            <a:ext cx="9247320" cy="74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2:30:19Z</dcterms:created>
  <dc:creator>jinsta</dc:creator>
  <dc:description/>
  <dc:language>en-US</dc:language>
  <cp:lastModifiedBy>jinsta</cp:lastModifiedBy>
  <dcterms:modified xsi:type="dcterms:W3CDTF">2018-12-14T22:37:10Z</dcterms:modified>
  <cp:revision>1</cp:revision>
  <dc:subject/>
  <dc:title>يعد التنس من الرياضات المنتشرة في كثير من بلاد العالم وهناك أثر تصاعدي في زيادة عدد ممارسيها ويرجع ذلك الى أنها رياضة ممتعة بالنسبة لجميع الأعمار من سن الثامنة حتى سن السبعين أو اكثر كل على حسب قدراته ومهاراته كما أنها رياضة ملائمة لكل جنس ولا تحتاج سوى الى لاعبين أو أربعة فقط على الأكثر ويمارس اللعب في وقت قصير نسبياً</dc:title>
</cp:coreProperties>
</file>