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3B5A-1F2E-43C1-8074-FFBF4537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A0B6-6837-4603-B917-B42AC607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7282-1106-4EE1-BE95-ADA1EB2E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7E1B0-B094-4961-ADD5-E14A43DC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68F3-83D3-4AD1-9C71-5523EADE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6171-3B87-4383-82A0-33EAB8EB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B25D-0F92-469F-9F50-1B607CB0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42D0-134C-43AD-9BFA-7218C552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C660-1AAC-4635-8CE0-3862CB22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3570-1101-47DE-8C6B-38F976A5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2728-7D60-48C2-890D-4AF4AAA7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9EBA4-FAF3-4883-B1D2-4A59FF29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A165-14E7-4B74-AC74-137D1CFB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8B4C-0DC1-4086-8168-48302268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C0D5-C057-4C0F-827D-C27B2064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7911-BCE6-4A1E-AF93-5CE4A65E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F1C4-D383-4644-9E15-29F415D3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77A3D-578E-40DB-81F1-DCD3F01B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CA513-8BCA-4357-91DC-1F859C63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411C-E441-420B-949B-9F97415A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019CB-EDEF-464D-8891-00BFE0A9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46011-9A8D-4D41-BF20-FD64B04E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1A27D-0D6F-44E5-B431-EF46A162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BCCC-EFE1-49E1-A795-3F835533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3F87-D2DD-4552-937C-78A1D81E757C}" type="slidenum">
              <a:rPr b="0" lang="ar-SA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565E-7543-497D-911B-91E2D11EBD25}" type="slidenum">
              <a:rPr b="0" lang="ar-SA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800" spc="-1" strike="noStrike">
                <a:solidFill>
                  <a:srgbClr val="ffffcc"/>
                </a:solidFill>
                <a:latin typeface="Tahoma"/>
                <a:cs typeface="HeshamNormal"/>
              </a:rPr>
              <a:t>الاعداد النفسي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24000" y="220464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Y" sz="4000" spc="-1" strike="noStrike">
                <a:solidFill>
                  <a:srgbClr val="ffffff"/>
                </a:solidFill>
                <a:latin typeface="Tahoma"/>
                <a:cs typeface="AL-Mateen"/>
              </a:rPr>
              <a:t>يتطلب تحقيق اللاعب للمستويات الرياضية العالية ، تضحيات ومجهودات كبيرة ، ففي مجال إعداد اللاعب للاشتراك في المسابقات يحضر كثير من المتخصصين مثل المدربين – الأطباء – أخصائي العلاج الطبيعي وأخصائي التغذية والمتخصصين في صناعة وتجهيز الأدوات الرياضية وأخيراً أخصائيو الإعداد النفسي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Y" sz="3400" spc="-1" strike="noStrike">
                <a:solidFill>
                  <a:srgbClr val="ffffcc"/>
                </a:solidFill>
                <a:latin typeface="Tahoma"/>
                <a:cs typeface="AL-Mateen"/>
              </a:rPr>
              <a:t>وعند الحديث عن موضوع الإعداد النفسي يجب أن نأخذ بعين الاعتبار النقاط الآتية :-</a:t>
            </a:r>
            <a:br>
              <a:rPr sz="3400"/>
            </a:br>
            <a:r>
              <a:rPr b="1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أولاً : 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لا نقصد بهذا الإعداد الكلمات الحماسية والخطب الرنانة التي يطبقها المدرب، أو الإداري لإثارة حماس اللاعبين لكي يقاتلون من أجل تحقيق الفوز بأي ثمن .</a:t>
            </a:r>
            <a:br>
              <a:rPr sz="3400"/>
            </a:br>
            <a:r>
              <a:rPr b="1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ثانياً : 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لابد ان يكون الإعداد النفسي أحد العناصر الأربعة المكونة للعملية التدريبية والتي هي :</a:t>
            </a:r>
            <a:br>
              <a:rPr sz="3400"/>
            </a:br>
            <a:r>
              <a:rPr b="0" lang="ar-LY" sz="3400" spc="-1" strike="noStrike">
                <a:solidFill>
                  <a:srgbClr val="ffffff"/>
                </a:solidFill>
                <a:latin typeface="Tahoma"/>
                <a:ea typeface="AL-Mateen"/>
              </a:rPr>
              <a:t>( اللياقة البدنية – والمهارات – والناحية الخططية- والإعداد النفسي)</a:t>
            </a:r>
            <a:br>
              <a:rPr sz="3400"/>
            </a:br>
            <a:r>
              <a:rPr b="1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ثالثاً : 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لا يتولي مسألة الإعداد النفسي شخص لا يحمل المؤهلات العلمية والخبرة العملية في هذا المجال .</a:t>
            </a:r>
            <a:br>
              <a:rPr sz="3400"/>
            </a:br>
            <a:r>
              <a:rPr b="1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رابعاً :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ea typeface="AL-Mateen"/>
              </a:rPr>
              <a:t> إن الهدف الأسمى للأعداد النفسي هو جعل اللاعب قادراً على تحمل التدريب 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Y" sz="4200" spc="-1" strike="noStrike">
                <a:solidFill>
                  <a:srgbClr val="ffffcc"/>
                </a:solidFill>
                <a:latin typeface="Tahoma"/>
                <a:cs typeface="AL-Mateen"/>
              </a:rPr>
              <a:t>أنواع الأعداد النفسي :- </a:t>
            </a:r>
            <a:br>
              <a:rPr sz="4200"/>
            </a:br>
            <a:br>
              <a:rPr sz="4200"/>
            </a:br>
            <a:r>
              <a:rPr b="0" lang="ar-LY" sz="4600" spc="-1" strike="noStrike">
                <a:solidFill>
                  <a:srgbClr val="ffffff"/>
                </a:solidFill>
                <a:latin typeface="Tahoma"/>
                <a:cs typeface="AL-Mateen"/>
              </a:rPr>
              <a:t>أولا :الإعداد النفسي الطويل المدى .</a:t>
            </a:r>
            <a:br>
              <a:rPr sz="4600"/>
            </a:br>
            <a:r>
              <a:rPr b="0" lang="ar-LY" sz="4600" spc="-1" strike="noStrike">
                <a:solidFill>
                  <a:srgbClr val="ffffff"/>
                </a:solidFill>
                <a:latin typeface="Tahoma"/>
                <a:cs typeface="AL-Mateen"/>
              </a:rPr>
              <a:t>ثانيا :الإعداد النفسي القصير المدى .</a:t>
            </a:r>
            <a:br>
              <a:rPr sz="4600"/>
            </a:br>
            <a:r>
              <a:rPr b="0" lang="ar-LY" sz="4600" spc="-1" strike="noStrike">
                <a:solidFill>
                  <a:srgbClr val="ffffff"/>
                </a:solidFill>
                <a:latin typeface="Tahoma"/>
                <a:cs typeface="AL-Mateen"/>
              </a:rPr>
              <a:t>ثالثا :الإعداد النفسي للعمليات العقلية العليا ميدانياً</a:t>
            </a:r>
            <a:r>
              <a:rPr b="0" lang="ar-LY" sz="4200" spc="-1" strike="noStrike">
                <a:solidFill>
                  <a:srgbClr val="ffffcc"/>
                </a:solidFill>
                <a:latin typeface="Tahoma"/>
                <a:ea typeface="AL-Mateen"/>
              </a:rPr>
              <a:t> 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277560"/>
            <a:ext cx="8713800" cy="639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Y" sz="3400" spc="-1" strike="noStrike">
                <a:solidFill>
                  <a:srgbClr val="ffffcc"/>
                </a:solidFill>
                <a:latin typeface="Tahoma"/>
                <a:cs typeface="AL-Mateen"/>
              </a:rPr>
              <a:t>العوامل المؤثرة في تحقيق أهداف الإعداد النفسي :</a:t>
            </a:r>
            <a:br>
              <a:rPr sz="3400"/>
            </a:br>
            <a:r>
              <a:rPr b="0" lang="ar-IQ" sz="3400" spc="-1" strike="noStrike">
                <a:solidFill>
                  <a:srgbClr val="ffffcc"/>
                </a:solidFill>
                <a:latin typeface="Tahoma"/>
                <a:ea typeface="AL-Mateen"/>
              </a:rPr>
              <a:t>1</a:t>
            </a:r>
            <a:r>
              <a:rPr b="0" lang="ar-IQ" sz="3400" spc="-1" strike="noStrike">
                <a:solidFill>
                  <a:srgbClr val="ffffcc"/>
                </a:solidFill>
                <a:latin typeface="Tahoma"/>
                <a:ea typeface="AL-Mateen"/>
              </a:rPr>
              <a:t>-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اعتقاد اللاعب أو عدم اعتقاده في فاعلية وجدوى تلك الأساليب أو التدريبات النفسية الذاتية </a:t>
            </a:r>
            <a:br>
              <a:rPr sz="3400"/>
            </a:b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2</a:t>
            </a: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-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العلاقة الروحية المتبادلة بين اللاعب والأخصائي النفسي .</a:t>
            </a:r>
            <a:br>
              <a:rPr sz="3400"/>
            </a:b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3</a:t>
            </a: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-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عمر الرياضي (ناضج أم ناشئ) وجنسه (ذكر أم أنثى) .</a:t>
            </a:r>
            <a:br>
              <a:rPr sz="3400"/>
            </a:b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4</a:t>
            </a: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-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درجة الممارسة المنتظمة للتدريبات النفسية الذاتية .</a:t>
            </a:r>
            <a:br>
              <a:rPr sz="3400"/>
            </a:b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5</a:t>
            </a: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-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توحيد ظروف إجراء هذه التدريبات النفسية إذ تعطي هذه التدريبات أفضل النتائج .</a:t>
            </a:r>
            <a:br>
              <a:rPr sz="3400"/>
            </a:b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6</a:t>
            </a: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-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أن يكون الأخصائي النفسي يمارس الرياضة كما يفضل أن يكون ممارساً لنفس نوع اللعبة التي يتولى الإعداد النفسي للاعبيها .</a:t>
            </a:r>
            <a:br>
              <a:rPr sz="3400"/>
            </a:b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7</a:t>
            </a:r>
            <a:r>
              <a:rPr b="0" lang="ar-IQ" sz="3400" spc="-1" strike="noStrike">
                <a:solidFill>
                  <a:srgbClr val="ffffff"/>
                </a:solidFill>
                <a:latin typeface="Tahoma"/>
                <a:ea typeface="AL-Mateen"/>
              </a:rPr>
              <a:t>-</a:t>
            </a:r>
            <a:r>
              <a:rPr b="0" lang="ar-LY" sz="3400" spc="-1" strike="noStrike">
                <a:solidFill>
                  <a:srgbClr val="ffffff"/>
                </a:solidFill>
                <a:latin typeface="Tahoma"/>
                <a:cs typeface="AL-Mateen"/>
              </a:rPr>
              <a:t>إجراء التدريبات النفسية الهادفة لتحقيق الاسترخاء والتهدئة في حجرة قليلة الضوء نسبياً وبعيدة عن الضوضاء 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617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LY" sz="4000" spc="-1" strike="noStrike">
                <a:solidFill>
                  <a:srgbClr val="ffffcc"/>
                </a:solidFill>
                <a:latin typeface="Tahoma"/>
                <a:cs typeface="SKR HEAD2"/>
              </a:rPr>
              <a:t>خطوات الإعداد النفسي للرياضيين :-</a:t>
            </a:r>
            <a:br>
              <a:rPr sz="4000"/>
            </a:br>
            <a:r>
              <a:rPr b="0" lang="ar-LY" sz="4000" spc="-1" strike="noStrike">
                <a:solidFill>
                  <a:srgbClr val="ffffff"/>
                </a:solidFill>
                <a:latin typeface="Tahoma"/>
                <a:ea typeface="SKR HEAD2"/>
              </a:rPr>
              <a:t>- دراسة الخصائص الشخصية للاعب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SKR HEAD2"/>
              </a:rPr>
              <a:t>.</a:t>
            </a:r>
            <a:br>
              <a:rPr sz="4000"/>
            </a:br>
            <a:r>
              <a:rPr b="0" lang="ar-LY" sz="4000" spc="-1" strike="noStrike">
                <a:solidFill>
                  <a:srgbClr val="ffffff"/>
                </a:solidFill>
                <a:latin typeface="Tahoma"/>
                <a:ea typeface="SKR HEAD2"/>
              </a:rPr>
              <a:t>- تعليم اللاعب الأساليب النفسية المهدئة والمطمئنة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SKR HEAD2"/>
              </a:rPr>
              <a:t>.</a:t>
            </a:r>
            <a:br>
              <a:rPr sz="4000"/>
            </a:br>
            <a:r>
              <a:rPr b="0" lang="ar-LY" sz="4000" spc="-1" strike="noStrike">
                <a:solidFill>
                  <a:srgbClr val="ffffff"/>
                </a:solidFill>
                <a:latin typeface="Tahoma"/>
                <a:ea typeface="SKR HEAD2"/>
              </a:rPr>
              <a:t>- الإعداد النفسي للاعب في المرحلة التحضيرية قبل المنافسات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SKR HEAD2"/>
              </a:rPr>
              <a:t>.</a:t>
            </a:r>
            <a:br>
              <a:rPr sz="4000"/>
            </a:br>
            <a:r>
              <a:rPr b="0" lang="ar-LY" sz="4000" spc="-1" strike="noStrike">
                <a:solidFill>
                  <a:srgbClr val="ffffff"/>
                </a:solidFill>
                <a:latin typeface="Tahoma"/>
                <a:ea typeface="SKR HEAD2"/>
              </a:rPr>
              <a:t>- الإعداد النفسي للاعب قبل المسابقات بقصد التعبئة لمواقف جديدة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SKR HEAD2"/>
              </a:rPr>
              <a:t>.</a:t>
            </a:r>
            <a:br>
              <a:rPr sz="4000"/>
            </a:br>
            <a:r>
              <a:rPr b="0" lang="ar-LY" sz="4000" spc="-1" strike="noStrike">
                <a:solidFill>
                  <a:srgbClr val="ffffff"/>
                </a:solidFill>
                <a:latin typeface="Tahoma"/>
                <a:ea typeface="SKR HEAD2"/>
              </a:rPr>
              <a:t>- الإعداد النفسي للاعب بقصد مساعدته على الاستراحة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SKR HEAD2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SKR HEAD2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4T09:56:33Z</dcterms:created>
  <dc:creator>jinsta</dc:creator>
  <dc:description/>
  <dc:language>en-US</dc:language>
  <cp:lastModifiedBy>jinsta</cp:lastModifiedBy>
  <dcterms:modified xsi:type="dcterms:W3CDTF">2018-12-14T10:07:35Z</dcterms:modified>
  <cp:revision>3</cp:revision>
  <dc:subject/>
  <dc:title>الاعداد النفسي</dc:title>
</cp:coreProperties>
</file>