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953A-70DA-4D05-A136-BE79C146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2CC6-4B04-4CAD-9B4D-466D872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CA0D-7218-4374-8BFD-B5DBFE3B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8C30-5AA1-434D-B9C6-2DA32D69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0C56-B366-4626-8F44-3A28CE89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480D-3A69-4DF7-B0C7-35141C51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6FF1-C06D-4B4A-B425-10A4A7B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B9DD-5E4C-49F3-B9B9-023B3C87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C10B-E062-4E6E-97F9-E4BF0DCD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4127-96A0-485B-86AC-EDED517F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ACF0-3B19-44AC-B7CB-5534530F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C85C-8039-4EEB-913C-976ECEB8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4375-34A3-4EE8-9420-70066659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49FD-FA44-49AC-ADF7-917AC05A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0CDB-51AB-48BB-9383-F6E9991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75F8-AFD3-4538-9E2C-1F4E0B71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F3DF-53CA-4468-A171-6A591B32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72B4-8F16-4BAE-A7CD-5ED09C1B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BAF8-E527-40A5-9384-66434B2C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0A04-C7A8-44D3-886D-DCE77B07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BE75-4E91-4137-B62C-47CD422C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845E-1D20-40CA-ACF1-B89F7334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380C-F8B6-49BC-A024-27E4A844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2259-DE27-428D-A13A-B8CCE130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BBC3-60FB-4F4D-98ED-87B11EC61CFF}" type="slidenum">
              <a:rPr b="0" lang="ar-SA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9740-9E5C-4757-AB0F-C6BE1B1F4F25}" type="slidenum">
              <a:rPr b="0" lang="ar-SA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800" spc="-1" strike="noStrike">
                <a:solidFill>
                  <a:srgbClr val="ffffcc"/>
                </a:solidFill>
                <a:latin typeface="Tahoma"/>
                <a:cs typeface="HeshamNormal"/>
              </a:rPr>
              <a:t>الاعداد النفسي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2400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000" spc="-1" strike="noStrike">
                <a:solidFill>
                  <a:srgbClr val="ffffff"/>
                </a:solidFill>
                <a:latin typeface="Tahoma"/>
                <a:cs typeface="AL-Mateen"/>
              </a:rPr>
              <a:t>يتطلب تحقيق اللاعب للمستويات الرياضية العالية ، تضحيات ومجهودات كبيرة ، ففي مجال إعداد اللاعب للاشتراك في المسابقات يحضر كثير من المتخصصين مثل المدربين – الأطباء – أخصائي العلاج الطبيعي وأخصائي التغذية والمتخصصين في صناعة وتجهيز الأدوات الرياضية وأخيراً أخصائيو الإعداد النفسي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400" spc="-1" strike="noStrike">
                <a:solidFill>
                  <a:srgbClr val="ffffcc"/>
                </a:solidFill>
                <a:latin typeface="Tahoma"/>
                <a:cs typeface="AL-Mateen"/>
              </a:rPr>
              <a:t>وعند الحديث عن موضوع الإعداد النفسي يجب أن نأخذ بعين الاعتبار النقاط الآتية :-</a:t>
            </a:r>
            <a:br>
              <a:rPr sz="3400"/>
            </a:br>
            <a:r>
              <a:rPr b="1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أولاً : 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لا نقصد بهذا الإعداد الكلمات الحماسية والخطب الرنانة التي يطبقها المدرب، أو الإداري لإثارة حماس اللاعبين لكي يقاتلون من أجل تحقيق الفوز بأي ثمن .</a:t>
            </a:r>
            <a:br>
              <a:rPr sz="3400"/>
            </a:br>
            <a:r>
              <a:rPr b="1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ثانياً : 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لابد ان يكون الإعداد النفسي أحد العناصر الأربعة المكونة للعملية التدريبية والتي هي :</a:t>
            </a:r>
            <a:br>
              <a:rPr sz="3400"/>
            </a:br>
            <a:r>
              <a:rPr b="0" lang="ar-LY" sz="3400" spc="-1" strike="noStrike">
                <a:solidFill>
                  <a:srgbClr val="ffffff"/>
                </a:solidFill>
                <a:latin typeface="Tahoma"/>
                <a:ea typeface="AL-Mateen"/>
              </a:rPr>
              <a:t>( اللياقة البدنية – والمهارات – والناحية الخططية- والإعداد النفسي)</a:t>
            </a:r>
            <a:br>
              <a:rPr sz="3400"/>
            </a:br>
            <a:r>
              <a:rPr b="1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ثالثاً : 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لا يتولي مسألة الإعداد النفسي شخص لا يحمل المؤهلات العلمية والخبرة العملية في هذا المجال .</a:t>
            </a:r>
            <a:br>
              <a:rPr sz="3400"/>
            </a:br>
            <a:r>
              <a:rPr b="1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رابعاً :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ea typeface="AL-Mateen"/>
              </a:rPr>
              <a:t> إن الهدف الأسمى للأعداد النفسي هو جعل اللاعب قادراً على تحمل التدريب 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4200" spc="-1" strike="noStrike">
                <a:solidFill>
                  <a:srgbClr val="ffffcc"/>
                </a:solidFill>
                <a:latin typeface="Tahoma"/>
                <a:cs typeface="AL-Mateen"/>
              </a:rPr>
              <a:t>أنواع الأعداد النفسي :- </a:t>
            </a:r>
            <a:br>
              <a:rPr sz="4200"/>
            </a:br>
            <a:br>
              <a:rPr sz="4200"/>
            </a:br>
            <a:r>
              <a:rPr b="0" lang="ar-LY" sz="4600" spc="-1" strike="noStrike">
                <a:solidFill>
                  <a:srgbClr val="ffffff"/>
                </a:solidFill>
                <a:latin typeface="Tahoma"/>
                <a:cs typeface="AL-Mateen"/>
              </a:rPr>
              <a:t>أولا :الإعداد النفسي الطويل المدى .</a:t>
            </a:r>
            <a:br>
              <a:rPr sz="4600"/>
            </a:br>
            <a:r>
              <a:rPr b="0" lang="ar-LY" sz="4600" spc="-1" strike="noStrike">
                <a:solidFill>
                  <a:srgbClr val="ffffff"/>
                </a:solidFill>
                <a:latin typeface="Tahoma"/>
                <a:cs typeface="AL-Mateen"/>
              </a:rPr>
              <a:t>ثانيا :الإعداد النفسي القصير المدى .</a:t>
            </a:r>
            <a:br>
              <a:rPr sz="4600"/>
            </a:br>
            <a:r>
              <a:rPr b="0" lang="ar-LY" sz="4600" spc="-1" strike="noStrike">
                <a:solidFill>
                  <a:srgbClr val="ffffff"/>
                </a:solidFill>
                <a:latin typeface="Tahoma"/>
                <a:cs typeface="AL-Mateen"/>
              </a:rPr>
              <a:t>ثالثا :الإعداد النفسي للعمليات العقلية العليا ميدانياً</a:t>
            </a:r>
            <a:r>
              <a:rPr b="0" lang="ar-LY" sz="4200" spc="-1" strike="noStrike">
                <a:solidFill>
                  <a:srgbClr val="ffffcc"/>
                </a:solidFill>
                <a:latin typeface="Tahoma"/>
                <a:ea typeface="AL-Mateen"/>
              </a:rPr>
              <a:t> 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639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400" spc="-1" strike="noStrike">
                <a:solidFill>
                  <a:srgbClr val="ffffcc"/>
                </a:solidFill>
                <a:latin typeface="Tahoma"/>
                <a:cs typeface="AL-Mateen"/>
              </a:rPr>
              <a:t>العوامل المؤثرة في تحقيق أهداف الإعداد النفسي :</a:t>
            </a:r>
            <a:br>
              <a:rPr sz="3400"/>
            </a:br>
            <a:r>
              <a:rPr b="0" lang="ar-IQ" sz="3400" spc="-1" strike="noStrike">
                <a:solidFill>
                  <a:srgbClr val="ffffcc"/>
                </a:solidFill>
                <a:latin typeface="Tahoma"/>
                <a:ea typeface="AL-Mateen"/>
              </a:rPr>
              <a:t>1</a:t>
            </a:r>
            <a:r>
              <a:rPr b="0" lang="ar-IQ" sz="3400" spc="-1" strike="noStrike">
                <a:solidFill>
                  <a:srgbClr val="ffffcc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اعتقاد اللاعب أو عدم اعتقاده في فاعلية وجدوى تلك الأساليب أو التدريبات النفسية الذاتية 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2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العلاقة الروحية المتبادلة بين اللاعب والأخصائي النفسي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3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عمر الرياضي (ناضج أم ناشئ) وجنسه (ذكر أم أنثى)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4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درجة الممارسة المنتظمة للتدريبات النفسية الذاتية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5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توحيد ظروف إجراء هذه التدريبات النفسية إذ تعطي هذه التدريبات أفضل النتائج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6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أن يكون الأخصائي النفسي يمارس الرياضة كما يفضل أن يكون ممارساً لنفس نوع اللعبة التي يتولى الإعداد النفسي للاعبيها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7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إجراء التدريبات النفسية الهادفة لتحقيق الاسترخاء والتهدئة في حجرة قليلة الضوء نسبياً وبعيدة عن الضوضاء 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617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LY" sz="4000" spc="-1" strike="noStrike">
                <a:solidFill>
                  <a:srgbClr val="ffffcc"/>
                </a:solidFill>
                <a:latin typeface="Tahoma"/>
                <a:cs typeface="SKR HEAD2"/>
              </a:rPr>
              <a:t>خطوات الإعداد النفسي للرياضيين :-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دراسة الخصائص الشخصية للاعب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تعليم اللاعب الأساليب النفسية المهدئة والمطمئنة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الإعداد النفسي للاعب في المرحلة التحضيرية قبل المنافسات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الإعداد النفسي للاعب قبل المسابقات بقصد التعبئة لمواقف جديدة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الإعداد النفسي للاعب بقصد مساعدته على الاستراحة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SKR HEAD2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09:56:33Z</dcterms:created>
  <dc:creator>jinsta</dc:creator>
  <dc:description/>
  <dc:language>en-US</dc:language>
  <cp:lastModifiedBy>jinsta</cp:lastModifiedBy>
  <dcterms:modified xsi:type="dcterms:W3CDTF">2018-12-14T10:07:35Z</dcterms:modified>
  <cp:revision>3</cp:revision>
  <dc:subject/>
  <dc:title>الاعداد النفسي</dc:title>
</cp:coreProperties>
</file>