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62D-323C-41FB-9A7F-95AAF2BE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9DB-B694-432C-9E53-72483FDB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397-4C13-413E-9BF9-E528C1CE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F09-9559-40A1-9E49-5E3F6A3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6C0-D5FE-4048-B2FC-5DAA9CC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266-26A9-47D0-985D-267DAAD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425E-68DD-4B22-B455-8DEBF72E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9008-41C3-48E1-9D66-3227BFE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5DF-87D4-43D7-8DAA-F3B9892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4ABD-7197-4C3B-AAFC-4AA12E4E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24F1-956D-45DE-85DA-71D8274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255-D9CA-4624-8A62-E2BD7F1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5ED-C006-4825-A0F4-C17BEA4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54AC-C04B-4330-B476-92E7713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A4C-7FAB-4508-8188-FADD2089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9EE-8FB5-465D-A95C-68AD42DA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0BF0-D608-4B49-B08D-FDA6884B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65B4-9B54-49B0-AC51-DAEC46D3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8050-D38F-42B0-9CB4-DA666CD8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A24F-1F2C-4FFB-A793-5EC10FB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17F7-B8E8-4BA0-906B-DAE0043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3889-6407-40CE-B16A-F695FCE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18B-FDF0-4A7F-8327-A15F6E1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1EC9-11F4-449D-8578-A182581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1E4B-0551-429D-8315-BC80FF79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CDD4-7511-4FE3-A518-89F021C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F45B-0C12-4E80-A309-A32D16E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3DE4-F827-4D14-9B59-8CE02F3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E172-6046-440D-BE7C-C204B129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E7D8-C57B-4DF9-A482-B25462C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15F3-B1F9-414F-ACA6-7E85FE5B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29EA-BBD8-426A-A6BB-1AC2D2E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73DF-8A15-4511-93AE-5C43186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C70-50F8-4E6A-83BD-F1362F7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3F78-1C70-49CB-964D-BD616FEA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C61A-C32D-42AB-909A-C1281769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3875-0F0B-468C-BCD7-737FC375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AABA-DC87-4610-B379-8C7DDA7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0191-12E0-46F3-93C4-AB893DF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03E1-BACF-4AFA-9D01-2B360C2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3D1C-4ED7-4792-BC95-43E9E206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AFB0-FB85-4FF4-920A-E30D08A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F4C2-933C-42EB-8B22-FB94E3EF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80DD-BC6F-40A1-83BF-3A1B915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CCA-A75E-449E-8C1D-65F27D25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4976-BED6-4601-8287-1EE4B1B1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B660-A015-4A52-BD5A-23C806B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6C85-010D-4A85-AE7E-BA5F41F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06FD-F95F-4A84-9F56-BFDCBC6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F056-3F22-440E-B690-5ABF1A2A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6E57-5C84-497E-B6E5-8DE7B38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FB92E-4A58-4B51-96B7-6D6160A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4F92-44B5-4CE3-87E5-EC40CE4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02B3-603E-4B12-B1CA-B7519D5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156B-9FA4-4E51-A41F-C070AD67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AF6-041A-43D3-8DE9-2A3457A9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E569-D5F8-4668-AF31-F60ED713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7AD8-55D6-4ACB-B402-5770DA50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D5DB2-9530-44F5-BF38-C73F34D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D49A-C072-44F0-8518-85B1435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2DF8-ADB1-4B10-88C8-E3024EA0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75131-BEA6-4EF1-8E40-7ACC520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2DF4-A1B2-46AC-B6C0-9DF9304F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A7EA-5243-45B0-8347-EB4D09E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EE27-B652-4774-8AA5-51A8D35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0FC3-DCD2-4B0C-B6A0-8B843963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9EE-7E6B-4722-9C87-680DBE7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A418-4E9A-449D-BBEA-A845277C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BF50-48F5-417D-9CCB-C98CEE49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1C5C-C44F-4780-B9DB-83341452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DCC8D-B569-4284-BE36-D5AE1660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F234-0AD8-423B-9797-5B0D6B5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8083-3F3C-4235-99FE-FD6806B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6E08B-8165-4FED-90FC-1252EA5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7FA9E-E325-4774-B257-49765683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94844-987A-49A4-A16B-F406252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BA54-4AC8-45EE-B3C9-707B130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A95-6DDD-4527-AC0F-3F7BC9B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ACD15-3ADF-497A-B527-223AC54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BF59-B8AF-4619-87AF-C8FCE12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0F7F-CBFA-4F6F-AAC5-A5C4C43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367B-61F9-4EFB-AC6B-4B33629C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0788-4550-4D94-8A1D-9C377AED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21C-F6C2-45C4-88B1-3411E647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291-664F-4F8B-A497-A4B0A3F23679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799-FA16-4D05-B17B-96526A2D0E9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ED5A-495B-40C7-905E-4DE4F321172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B98-3020-401B-A748-EF0A1AB5E79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2FE-8335-415E-9966-F1FC2C89E51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42A-9C9F-4E68-B12F-ECB02C8D45D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9D5F-4216-4133-96C3-C6F095419C3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76440" y="-212760"/>
            <a:ext cx="7785000" cy="2230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تعريف الدافع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يعرف الدافع بأنه التوتر الذي يطرأ على الاتزان القائم في صورة تؤثر بدفع الكائن الحي إلى إزالة هذا التوتر و إعادته للاتزان ، فالدافع طاقة تحرك وتوجه حتى يتم القضاء على التوتر ويتحقق الاتزان من جديد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ويقصد بالدافع : الحالات أو القوى الداخلية التي تحرك الفرد وتوجه لتحقيق هدف معين تصنيفات الدوافع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أولاً : الأولية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ثانياً : الدوافع الثانوية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ثالثاً : الدوافع الاجتماعية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63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onsolas"/>
                <a:cs typeface="MCS Taybah S_U normal."/>
              </a:rPr>
              <a:t>دوافع التفوق في النشاط الرياضي 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دافع الداخلي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الدافع الخارجي (الباعث)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onsolas"/>
                <a:cs typeface="MCS Taybah S_U normal."/>
              </a:rPr>
              <a:t>نظريات الدوافع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1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نظرية الغرائز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2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 نظرية التشيط – الاستثارة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3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 نظرية التعليم الاجتماعي :-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عوامل المؤثرة في الدوافع المرتبطة بالنشاط </a:t>
            </a:r>
            <a:r>
              <a:rPr b="1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1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رياضي :-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متطلبات الأساسية لحياة الفرد وأثر البيئة التي يعيش فيها </a:t>
            </a:r>
            <a:r>
              <a:rPr b="0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عليه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حياة العائلية للفرد واتجاه الوالدين نحو النشاط</a:t>
            </a:r>
            <a:r>
              <a:rPr b="0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الرياضي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ألعاب الطفل في مرحلة ما قبل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دراس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ربية البدنية في المرحلة الدراسية الأولى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ربية البدنية في الساحات والمؤسسات والأندية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رياضي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مهرجانات والمنافسات الرياضي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وسائل الإعلامية للتربية البد نية و الرياضة على جميع أنواعها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شريعات الرياضية والإمكانات التي تتيحها الدولة للتربية الرياضية بصورة عامة .</a:t>
            </a:r>
            <a:br>
              <a:rPr sz="3600"/>
            </a:b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20:24:47Z</dcterms:created>
  <dc:creator>jinsta</dc:creator>
  <dc:description/>
  <dc:language>en-US</dc:language>
  <cp:lastModifiedBy>jinsta</cp:lastModifiedBy>
  <dcterms:modified xsi:type="dcterms:W3CDTF">2018-12-13T20:39:23Z</dcterms:modified>
  <cp:revision>3</cp:revision>
  <dc:subject/>
  <dc:title>الدافع</dc:title>
</cp:coreProperties>
</file>