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0BE-4070-4A18-9A63-3190184C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215-2A47-478C-B772-7DFD2FDA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ACA-09B1-49D4-9709-BE1AC438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78A-6DC0-4EAE-B04C-EBF36347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AC0E-A71C-4FC0-B1F8-46807599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814-5B59-4057-A5BE-402169E1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45CE-231E-44E6-A1D0-9FE9D0A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C0A0-3431-45DC-B205-C570A16D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BDC-3FA7-4422-9FBC-72F82D0D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CCB-ADED-4299-8F5D-6C6BE9CA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F7C1-0BC4-498A-865F-3617B33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74D-7E68-425C-8BEB-0C488F71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388D-E102-46ED-B081-41BC8D0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1FB4-E733-47A5-8651-F7A5547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CA5E-B00C-40A2-B702-3963045F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9EC-523F-4AC9-81BD-636D0586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8E57-4DAF-4DE8-B629-8455740D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CAC2F-6BB3-4C91-AD73-A7079981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1F33-D491-40D0-A151-6C52FB6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96F7-B0F2-44B4-A60D-FA9609F5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7BA3-F910-4629-B856-E1A67B9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CBB8-B299-4417-BD20-7448006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AE3-752B-44E4-AA18-9836B94E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E5F3-7914-4DEF-BF4A-E3F1AA59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A1B4-2A36-4943-BBD3-852526C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81D7-31F0-4BDF-A98F-6498037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0A6D-603F-4A17-BB17-EDAA548E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27F2C-A1AF-4D8B-8085-C9C1116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6080-5284-4744-881F-119F4DF1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1E45-8451-4C34-9254-BC5EC0C7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D5E8-C591-45A6-B764-B22E0337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FA75-DE32-435C-ABEC-761F53D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496D-F977-440E-972A-186FDFF0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C6E-E4B1-436C-A060-C5A90D8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FFAC-6C15-43AA-A6A3-3913FDA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67DF-843B-4582-9F62-DA91A9A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8973-6865-404F-B7AC-A54E670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7A9B-18E5-45E7-AB6C-98FF59E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0AEE-41FB-4669-8678-2FAB9285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1333-B801-45D9-BB66-EAF1F95A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2B15-F86B-42C8-9C0E-DE82C90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E8D1-615F-4A75-B1C9-4A792FF9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E8E3-4298-41AB-BF41-4FE82891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A145-D5FD-48DB-BB7D-CA8B318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C5F-E233-4F2C-8285-23532FEA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0BC4-D1D3-45A8-8467-B662403F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0CCA-4959-4402-84BE-EF40413C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310BF-2DFB-4494-971A-1F43BDC4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DAE2-0E72-40AD-8A22-03437DB6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57B0-0CC3-444D-B120-3F00C4F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E1C6-4B0A-4CFE-97B8-640AD709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FA331-9414-4F7F-8D2D-8158938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32544-2E49-4DE4-95AF-AB2F554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CFE0-74E0-4385-B54F-95F1E497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9663-5D3F-400C-AE0E-7DFAE41E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94D-D065-48DC-B2A1-2E36145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70DA-6899-4179-824E-F2A3EC8C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29CCC-0DB2-45F7-B089-BF6810C1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7056-C831-49D5-8449-703D3D5C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63847-E03E-4A3E-A76C-17FCE251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4F3EE-E84D-4E58-ACF8-2329A38C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5B22-C6C2-45D7-A22F-AEF428E0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1476-24D4-4A7D-BAD3-2761C20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9CB9-FDBB-458C-8583-6CE6633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BD80-1A8B-42E6-BF18-3758A44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2352-9765-4B4E-827D-58020F2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213-A7D2-4E5A-82C2-9FFD02EE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BAB6-52F6-496D-9EE5-ACB13FF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2752-3E28-4AAF-BB30-22CEAAAB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CDF95-C863-4898-8F09-D0DCE97D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EB31-B5FF-4E62-A578-D5CDF034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FFFFF-E855-475D-A010-3EEEE7F7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1E21-6E77-462E-9988-E7E6400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39DE4-64C9-4F1B-BB42-B6A0890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1022E-323F-4C36-8C17-78F3D5A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E3E15-5ADC-413D-B4BF-82A7A7D9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92D9-5347-495D-BFE0-0147E74D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EEC-ECA8-467F-A7BD-F8A43B5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7627-AA17-4739-9824-F4A0A4B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0D33-03C8-4CAF-8586-17E0461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A365-166F-4F32-A925-4182059B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19036-E97C-4F9B-9E5B-B110C4BC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E64FD-E0D5-421A-86DD-8E750578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1F7-B855-4C00-A4CB-64E37E9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F75C-337A-4035-BF90-EA3F25CE063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D0F-06CC-49AF-B21D-0FE8385296B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5ACF-E05E-4F4A-ADD5-02AB10B25AA3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A050-726B-4A16-B99F-23F7F49313D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975-369F-46FB-A864-16A0D09DA64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E0F-C0C2-4085-BC86-02BEAA3915C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3EC-513E-4A23-81F5-DF739546803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676440" y="-212760"/>
            <a:ext cx="7785000" cy="2230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تعريف الدافع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يعرف الدافع بأنه التوتر الذي يطرأ على الاتزان القائم في صورة تؤثر بدفع الكائن الحي إلى إزالة هذا التوتر و إعادته للاتزان ، فالدافع طاقة تحرك وتوجه حتى يتم القضاء على التوتر ويتحقق الاتزان من جديد 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ويقصد بالدافع : الحالات أو القوى الداخلية التي تحرك الفرد وتوجه لتحقيق هدف معين تصنيفات الدوافع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أولاً : الأولية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ثانياً : الدوافع الثانوية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MCS Taybah S_U normal."/>
              </a:rPr>
              <a:t>ثالثاً : الدوافع الاجتماعية :-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63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Consolas"/>
                <a:cs typeface="MCS Taybah S_U normal."/>
              </a:rPr>
              <a:t>دوافع التفوق في النشاط الرياضي 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دافع الداخلي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الدافع الخارجي (الباعث)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Consolas"/>
                <a:cs typeface="MCS Taybah S_U normal."/>
              </a:rPr>
              <a:t>نظريات الدوافع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1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نظرية الغرائز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2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 نظرية التشيط – الاستثارة :-</a:t>
            </a:r>
            <a:br>
              <a:rPr sz="4000"/>
            </a:b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3</a:t>
            </a:r>
            <a:r>
              <a:rPr b="1" lang="ar-SA" sz="40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- نظرية التعليم الاجتماعي :-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عوامل المؤثرة في الدوافع المرتبطة بالنشاط </a:t>
            </a:r>
            <a:r>
              <a:rPr b="1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1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رياضي :-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متطلبات الأساسية لحياة الفرد وأثر البيئة التي يعيش فيها </a:t>
            </a:r>
            <a:r>
              <a:rPr b="0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عليه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حياة العائلية للفرد واتجاه الوالدين نحو النشاط</a:t>
            </a:r>
            <a:r>
              <a:rPr b="0" lang="ar-IQ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الرياضي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ألعاب الطفل في مرحلة ما قبل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دراس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ربية البدنية في المرحلة الدراسية الأولى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ربية البدنية في الساحات والمؤسسات والأندية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 </a:t>
            </a: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رياضي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مهرجانات والمنافسات الرياضية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وسائل الإعلامية للتربية البد نية و الرياضة على جميع أنواعها .</a:t>
            </a:r>
            <a:br>
              <a:rPr sz="3600"/>
            </a:br>
            <a:r>
              <a:rPr b="0" lang="ar-SA" sz="3600" spc="-1" strike="noStrike">
                <a:solidFill>
                  <a:srgbClr val="c1eeff"/>
                </a:solidFill>
                <a:latin typeface="Consolas"/>
                <a:cs typeface="MCS Taybah S_U normal."/>
              </a:rPr>
              <a:t>التشريعات الرياضية والإمكانات التي تتيحها الدولة للتربية الرياضية بصورة عامة .</a:t>
            </a:r>
            <a:br>
              <a:rPr sz="3600"/>
            </a:br>
            <a:r>
              <a:rPr b="0" lang="en-US" sz="3600" spc="-1" strike="noStrike">
                <a:solidFill>
                  <a:srgbClr val="c1eeff"/>
                </a:solidFill>
                <a:latin typeface="Consolas"/>
                <a:ea typeface="MCS Taybah S_U normal.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3T20:24:47Z</dcterms:created>
  <dc:creator>jinsta</dc:creator>
  <dc:description/>
  <dc:language>en-US</dc:language>
  <cp:lastModifiedBy>jinsta</cp:lastModifiedBy>
  <dcterms:modified xsi:type="dcterms:W3CDTF">2018-12-13T20:39:23Z</dcterms:modified>
  <cp:revision>3</cp:revision>
  <dc:subject/>
  <dc:title>الدافع</dc:title>
</cp:coreProperties>
</file>