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393FA-B632-42D4-B44F-422CE805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490F2-2C6F-431A-B228-D2995E3F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08591-C6F6-4E00-B838-294493F5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2BE4C-3B5D-4EA9-91B6-E6569E08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490D-8C83-475C-B7CE-EB849526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8AA9-0245-45FA-96A0-CC311716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2A6D-0111-49C3-9FBC-D8AABF27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C416-88CB-44A3-AB0C-2133F657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72BF-F29F-40BF-BC19-9C3F65AC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B685-CD15-4B84-BEF5-98BF7314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F6F2-3C52-4EAB-8D65-92376DCB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65686-E88E-4DE4-A42B-139BB750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EDCF-601F-4D1D-A113-BA81D08A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EF81-BF04-45EC-9506-C62B9321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5A95-246B-4E5E-A76C-F7F1D322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4C57-C922-402E-8F97-2E00A41B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FD8E-CD81-4425-8219-9C4B69B2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C9B41-AEA9-4BEB-852D-EED968B5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F434B-8F3C-42EC-BD6E-6B7A663E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EB309-D52A-4A9D-BA35-1A238BCD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DCE05-6EF4-44C0-8CBC-D769A7B8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B4167-2A07-4D54-B03F-ED0585DF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18620-CC67-40D5-AB4C-DB04DD5C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654F0-EAD5-4F09-8C51-7B233818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D9EA-A81E-4FE3-99FD-91D6B29276C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EFAB-7FF3-4386-8094-3733A1EE0CF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800" spc="-1" strike="noStrike">
                <a:solidFill>
                  <a:srgbClr val="ffffcc"/>
                </a:solidFill>
                <a:latin typeface="Tahoma"/>
                <a:cs typeface="MCS Taybah S_U normal."/>
              </a:rPr>
              <a:t>علم النفس الرياضي</a:t>
            </a:r>
            <a:r>
              <a:rPr b="0" lang="ar-IQ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8512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400" spc="-1" strike="noStrike">
                <a:solidFill>
                  <a:srgbClr val="ffffcc"/>
                </a:solidFill>
                <a:latin typeface="Tahoma"/>
                <a:cs typeface="MCS Taybah S_U normal."/>
              </a:rPr>
              <a:t>الاستاذ الدكتور</a:t>
            </a:r>
            <a:r>
              <a:rPr b="0" lang="ar-IQ" sz="4400" spc="-1" strike="noStrike">
                <a:solidFill>
                  <a:srgbClr val="ffffcc"/>
                </a:solidFill>
                <a:latin typeface="Tahoma"/>
                <a:ea typeface="MCS Taybah S_U normal.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400" spc="-1" strike="noStrike">
                <a:solidFill>
                  <a:srgbClr val="ffffcc"/>
                </a:solidFill>
                <a:latin typeface="Tahoma"/>
                <a:cs typeface="MCS Taybah S_U normal."/>
              </a:rPr>
              <a:t>عبدالستار جبار الضمد</a:t>
            </a:r>
            <a:r>
              <a:rPr b="0" lang="ar-IQ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ffffff"/>
                </a:solidFill>
                <a:latin typeface="Tahoma"/>
                <a:ea typeface="Tahoma"/>
              </a:rPr>
              <a:t>2018-20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549360"/>
            <a:ext cx="83534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800" spc="-1" strike="noStrike">
                <a:solidFill>
                  <a:srgbClr val="ffffcc"/>
                </a:solidFill>
                <a:latin typeface="Tahoma"/>
                <a:cs typeface="MCS Taybah S_U normal."/>
              </a:rPr>
              <a:t>جامعة البصرة / كلية التربية البدنية وعلوم الرياضة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Y" sz="4200" spc="-1" strike="noStrike">
                <a:solidFill>
                  <a:srgbClr val="ffffcc"/>
                </a:solidFill>
                <a:latin typeface="Simplified Arabic"/>
                <a:cs typeface="MCS Taybah S_U normal."/>
              </a:rPr>
              <a:t>علم النفس الرياضي :</a:t>
            </a:r>
            <a:br>
              <a:rPr sz="4200"/>
            </a:br>
            <a:r>
              <a:rPr b="0" lang="ar-LY" sz="4200" spc="-1" strike="noStrike">
                <a:solidFill>
                  <a:srgbClr val="ffffcc"/>
                </a:solidFill>
                <a:latin typeface="Simplified Arabic"/>
                <a:ea typeface="Simplified Arabic"/>
              </a:rPr>
              <a:t>    لعلم النفس الرياضي جذور تعود الى الفاسفة في عصور الحضارات القديمة بأعتباره فرعا من فروع علم النفس العام الذي انشق من الفلسفة بعد ان ازداد عدد العلماء و الباحثين , حيث  له جذور تعود الى حضارة وادي الرافدين وحضارة وادي النيل وهناك مؤشرات وأثار كثيرة بأتجاه اهتمام هاتين الحضارتين بالانشطة البدنية 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54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Y" sz="3200" spc="-1" strike="noStrike">
                <a:solidFill>
                  <a:srgbClr val="ffffcc"/>
                </a:solidFill>
                <a:latin typeface="Simplified Arabic"/>
                <a:cs typeface="Simplified Arabic"/>
              </a:rPr>
              <a:t>أما بداية علم النفس الرياضي في روسيا يمكن أن يرجع الى مطلع القرن العشرين ,ففي عام (</a:t>
            </a:r>
            <a:r>
              <a:rPr b="0" lang="ar-LY" sz="3200" spc="-1" strike="noStrike">
                <a:solidFill>
                  <a:srgbClr val="ffffcc"/>
                </a:solidFill>
                <a:latin typeface="Simplified Arabic"/>
                <a:ea typeface="Simplified Arabic"/>
              </a:rPr>
              <a:t>1901</a:t>
            </a:r>
            <a:r>
              <a:rPr b="0" lang="ar-LY" sz="3200" spc="-1" strike="noStrike">
                <a:solidFill>
                  <a:srgbClr val="ffffcc"/>
                </a:solidFill>
                <a:latin typeface="Simplified Arabic"/>
                <a:ea typeface="Simplified Arabic"/>
              </a:rPr>
              <a:t>) كتب الطبيب  ليسجافت  حول الفوائد النفسية التي يمكن اكتسابها عن طريق مزاولة الانشطه الرياضية المختلفة . أماالدول العربية تعتبر مصر في مقدمة الدول التي أهتمت بمادة علم النفس الرياضي حيث تم تدريس هذه المادة أول مرة في عام (</a:t>
            </a:r>
            <a:r>
              <a:rPr b="0" lang="ar-LY" sz="3200" spc="-1" strike="noStrike">
                <a:solidFill>
                  <a:srgbClr val="ffffcc"/>
                </a:solidFill>
                <a:latin typeface="Simplified Arabic"/>
                <a:ea typeface="Simplified Arabic"/>
              </a:rPr>
              <a:t>1951</a:t>
            </a:r>
            <a:r>
              <a:rPr b="0" lang="ar-LY" sz="3200" spc="-1" strike="noStrike">
                <a:solidFill>
                  <a:srgbClr val="ffffcc"/>
                </a:solidFill>
                <a:latin typeface="Simplified Arabic"/>
                <a:ea typeface="Simplified Arabic"/>
              </a:rPr>
              <a:t>) في معهد الهرم وتولي التدريس الاستاذ محمد محمد حامد أفندي وظهرت كتب في هذا المجال مثل كتاب (علم النفس التربوي والرياضي ) عام (</a:t>
            </a:r>
            <a:r>
              <a:rPr b="0" lang="ar-LY" sz="3200" spc="-1" strike="noStrike">
                <a:solidFill>
                  <a:srgbClr val="ffffcc"/>
                </a:solidFill>
                <a:latin typeface="Simplified Arabic"/>
                <a:ea typeface="Simplified Arabic"/>
              </a:rPr>
              <a:t>1967</a:t>
            </a:r>
            <a:r>
              <a:rPr b="0" lang="ar-LY" sz="3200" spc="-1" strike="noStrike">
                <a:solidFill>
                  <a:srgbClr val="ffffcc"/>
                </a:solidFill>
                <a:latin typeface="Simplified Arabic"/>
                <a:ea typeface="Simplified Arabic"/>
              </a:rPr>
              <a:t>) للدكتور محمد حسن علاوي وكذلك كتاب (علم النفس في التدريب الرياضي  لنفس المؤلف في عام </a:t>
            </a:r>
            <a:r>
              <a:rPr b="0" lang="ar-LY" sz="3200" spc="-1" strike="noStrike">
                <a:solidFill>
                  <a:srgbClr val="ffffcc"/>
                </a:solidFill>
                <a:latin typeface="Simplified Arabic"/>
                <a:ea typeface="Simplified Arabic"/>
              </a:rPr>
              <a:t>1969</a:t>
            </a:r>
            <a:r>
              <a:rPr b="0" lang="ar-LY" sz="3200" spc="-1" strike="noStrike">
                <a:solidFill>
                  <a:srgbClr val="ffffcc"/>
                </a:solidFill>
                <a:latin typeface="Simplified Arabic"/>
                <a:ea typeface="Simplified Arabic"/>
              </a:rPr>
              <a:t> م 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68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68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6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43588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Y" sz="3800" spc="-1" strike="noStrike">
                <a:solidFill>
                  <a:srgbClr val="ffffcc"/>
                </a:solidFill>
                <a:latin typeface="Tahoma"/>
                <a:ea typeface="Simplified Arabic"/>
              </a:rPr>
              <a:t> وفي العراق دخلت مادة علم النفس الرياضي لاول مرة في مناهج كليات التربية البدنية عام (</a:t>
            </a:r>
            <a:r>
              <a:rPr b="0" lang="ar-LY" sz="3800" spc="-1" strike="noStrike">
                <a:solidFill>
                  <a:srgbClr val="ffffcc"/>
                </a:solidFill>
                <a:latin typeface="Tahoma"/>
                <a:ea typeface="Simplified Arabic"/>
              </a:rPr>
              <a:t>1970</a:t>
            </a:r>
            <a:r>
              <a:rPr b="0" lang="ar-LY" sz="3800" spc="-1" strike="noStrike">
                <a:solidFill>
                  <a:srgbClr val="ffffcc"/>
                </a:solidFill>
                <a:latin typeface="Tahoma"/>
                <a:ea typeface="Simplified Arabic"/>
              </a:rPr>
              <a:t>) ومن الكتب التي ظهرت كتاب علم النفس الرياضي للدكتور نزار الطالب عام (</a:t>
            </a:r>
            <a:r>
              <a:rPr b="0" lang="ar-LY" sz="3800" spc="-1" strike="noStrike">
                <a:solidFill>
                  <a:srgbClr val="ffffcc"/>
                </a:solidFill>
                <a:latin typeface="Tahoma"/>
                <a:ea typeface="Simplified Arabic"/>
              </a:rPr>
              <a:t>1976</a:t>
            </a:r>
            <a:r>
              <a:rPr b="0" lang="ar-LY" sz="3800" spc="-1" strike="noStrike">
                <a:solidFill>
                  <a:srgbClr val="ffffcc"/>
                </a:solidFill>
                <a:latin typeface="Tahoma"/>
                <a:ea typeface="Simplified Arabic"/>
              </a:rPr>
              <a:t>) </a:t>
            </a:r>
            <a:br>
              <a:rPr sz="3800"/>
            </a:br>
            <a:br>
              <a:rPr sz="3800"/>
            </a:br>
            <a:r>
              <a:rPr b="1" lang="ar-LY" sz="3800" spc="-1" strike="noStrike">
                <a:solidFill>
                  <a:srgbClr val="ffffcc"/>
                </a:solidFill>
                <a:latin typeface="Tahoma"/>
                <a:cs typeface="Simplified Arabic"/>
              </a:rPr>
              <a:t>تعريف علم النفس الرياضي:</a:t>
            </a:r>
            <a:br>
              <a:rPr sz="3800"/>
            </a:br>
            <a:r>
              <a:rPr b="0" lang="ar-LY" sz="3800" spc="-1" strike="noStrike">
                <a:solidFill>
                  <a:srgbClr val="ffffcc"/>
                </a:solidFill>
                <a:latin typeface="Tahoma"/>
                <a:cs typeface="Simplified Arabic"/>
              </a:rPr>
              <a:t>العلم الذي يدرس سلوك الافراد من خلال ممارستهم للانشطة الرياضية المختلفه سواء كان في درس التربية البدنية أو الملاعب و الساحات الرياضية,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Y" sz="3600" spc="-1" strike="noStrike">
                <a:solidFill>
                  <a:srgbClr val="ffffcc"/>
                </a:solidFill>
                <a:latin typeface="Tahoma"/>
                <a:cs typeface="Simplified Arabic"/>
              </a:rPr>
              <a:t>مهام علم النفس الرياضي:</a:t>
            </a:r>
            <a:br>
              <a:rPr sz="3600"/>
            </a:br>
            <a:r>
              <a:rPr b="1" lang="ar-IQ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1</a:t>
            </a:r>
            <a:r>
              <a:rPr b="1" lang="ar-IQ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- </a:t>
            </a:r>
            <a:r>
              <a:rPr b="1" lang="ar-LY" sz="3600" spc="-1" strike="noStrike">
                <a:solidFill>
                  <a:srgbClr val="ffffcc"/>
                </a:solidFill>
                <a:latin typeface="Tahoma"/>
                <a:cs typeface="Simplified Arabic"/>
              </a:rPr>
              <a:t>رفع قدرات الممارسين</a:t>
            </a:r>
            <a:r>
              <a:rPr b="0" lang="ar-LY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 : </a:t>
            </a:r>
            <a:br>
              <a:rPr sz="3600"/>
            </a:br>
            <a:r>
              <a:rPr b="1" lang="ar-IQ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2</a:t>
            </a:r>
            <a:r>
              <a:rPr b="1" lang="ar-IQ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- </a:t>
            </a:r>
            <a:r>
              <a:rPr b="1" lang="ar-LY" sz="3600" spc="-1" strike="noStrike">
                <a:solidFill>
                  <a:srgbClr val="ffffcc"/>
                </a:solidFill>
                <a:latin typeface="Tahoma"/>
                <a:cs typeface="Simplified Arabic"/>
              </a:rPr>
              <a:t>تطوير السمات الشخصية : </a:t>
            </a:r>
            <a:br>
              <a:rPr sz="3600"/>
            </a:br>
            <a:r>
              <a:rPr b="1" lang="ar-IQ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3</a:t>
            </a:r>
            <a:r>
              <a:rPr b="1" lang="ar-IQ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- </a:t>
            </a:r>
            <a:r>
              <a:rPr b="1" lang="ar-LY" sz="3600" spc="-1" strike="noStrike">
                <a:solidFill>
                  <a:srgbClr val="ffffcc"/>
                </a:solidFill>
                <a:latin typeface="Tahoma"/>
                <a:cs typeface="Simplified Arabic"/>
              </a:rPr>
              <a:t>الصحة النفسية</a:t>
            </a:r>
            <a:r>
              <a:rPr b="0" lang="ar-LY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 :</a:t>
            </a:r>
            <a:br>
              <a:rPr sz="3600"/>
            </a:br>
            <a:r>
              <a:rPr b="1" lang="ar-IQ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4</a:t>
            </a:r>
            <a:r>
              <a:rPr b="1" lang="ar-IQ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- </a:t>
            </a:r>
            <a:r>
              <a:rPr b="1" lang="ar-LY" sz="3600" spc="-1" strike="noStrike">
                <a:solidFill>
                  <a:srgbClr val="ffffcc"/>
                </a:solidFill>
                <a:latin typeface="Tahoma"/>
                <a:cs typeface="Simplified Arabic"/>
              </a:rPr>
              <a:t>ثبات المستوى الرياضي</a:t>
            </a:r>
            <a:r>
              <a:rPr b="0" lang="ar-LY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 :</a:t>
            </a:r>
            <a:br>
              <a:rPr sz="3600"/>
            </a:br>
            <a:r>
              <a:rPr b="1" lang="ar-IQ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5</a:t>
            </a:r>
            <a:r>
              <a:rPr b="1" lang="ar-IQ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- </a:t>
            </a:r>
            <a:r>
              <a:rPr b="1" lang="ar-LY" sz="3600" spc="-1" strike="noStrike">
                <a:solidFill>
                  <a:srgbClr val="ffffcc"/>
                </a:solidFill>
                <a:latin typeface="Tahoma"/>
                <a:cs typeface="Simplified Arabic"/>
              </a:rPr>
              <a:t>الكشف عن المواهب</a:t>
            </a:r>
            <a:r>
              <a:rPr b="0" lang="ar-LY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 </a:t>
            </a:r>
            <a:r>
              <a:rPr b="1" lang="ar-LY" sz="3600" spc="-1" strike="noStrike">
                <a:solidFill>
                  <a:srgbClr val="ffffcc"/>
                </a:solidFill>
                <a:latin typeface="Tahoma"/>
                <a:cs typeface="Simplified Arabic"/>
              </a:rPr>
              <a:t>الرياضية : </a:t>
            </a:r>
            <a:br>
              <a:rPr sz="3600"/>
            </a:br>
            <a:r>
              <a:rPr b="1" lang="ar-IQ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6</a:t>
            </a:r>
            <a:r>
              <a:rPr b="1" lang="ar-IQ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- </a:t>
            </a:r>
            <a:r>
              <a:rPr b="1" lang="ar-LY" sz="3600" spc="-1" strike="noStrike">
                <a:solidFill>
                  <a:srgbClr val="ffffcc"/>
                </a:solidFill>
                <a:latin typeface="Tahoma"/>
                <a:cs typeface="Simplified Arabic"/>
              </a:rPr>
              <a:t>تطوير الميول</a:t>
            </a:r>
            <a:r>
              <a:rPr b="0" lang="ar-LY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 </a:t>
            </a:r>
            <a:r>
              <a:rPr b="1" lang="ar-LY" sz="3600" spc="-1" strike="noStrike">
                <a:solidFill>
                  <a:srgbClr val="ffffcc"/>
                </a:solidFill>
                <a:latin typeface="Tahoma"/>
                <a:cs typeface="Simplified Arabic"/>
              </a:rPr>
              <a:t>والرغبات</a:t>
            </a:r>
            <a:r>
              <a:rPr b="0" lang="ar-LY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 : </a:t>
            </a:r>
            <a:br>
              <a:rPr sz="3600"/>
            </a:br>
            <a:r>
              <a:rPr b="1" lang="ar-IQ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7</a:t>
            </a:r>
            <a:r>
              <a:rPr b="1" lang="ar-IQ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- </a:t>
            </a:r>
            <a:r>
              <a:rPr b="1" lang="ar-LY" sz="3600" spc="-1" strike="noStrike">
                <a:solidFill>
                  <a:srgbClr val="ffffcc"/>
                </a:solidFill>
                <a:latin typeface="Tahoma"/>
                <a:cs typeface="Simplified Arabic"/>
              </a:rPr>
              <a:t>المساهمة في البحث العلمي</a:t>
            </a:r>
            <a:r>
              <a:rPr b="0" lang="ar-LY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 :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3T20:03:19Z</dcterms:created>
  <dc:creator>jinsta</dc:creator>
  <dc:description/>
  <dc:language>en-US</dc:language>
  <cp:lastModifiedBy>jinsta</cp:lastModifiedBy>
  <dcterms:modified xsi:type="dcterms:W3CDTF">2018-12-13T20:09:31Z</dcterms:modified>
  <cp:revision>1</cp:revision>
  <dc:subject/>
  <dc:title>علم النفس الرياضي </dc:title>
</cp:coreProperties>
</file>