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D1CD9E3-D794-4ED7-808A-55F8C0A2D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968465-F7AB-4AC4-9C0D-5684A3110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E2C43EB-7CD5-40F8-B25D-A9F6409C2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BE4C3E-751A-42ED-8B4A-634EF69B6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6EF712-8B3A-4B29-8280-E83B0F096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239F5A6-A7D6-4B76-95D8-4F244D287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E1C1CE9-F444-4897-B9CD-448AAA668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30EDC4-8BC2-4353-9D29-FC6212D2D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A633DCF-1C1E-44A9-A2CD-B92F4C029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416AB2-E96C-4CFC-BA8B-E4E3A299F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ADC470-917F-495F-B3BD-E45884135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5E03648-73B9-4595-B4BD-E6E7CDD91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b32"/>
            </a:gs>
            <a:gs pos="100000">
              <a:srgbClr val="606b76"/>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10"/>
          <p:cNvSpPr/>
          <p:nvPr/>
        </p:nvSpPr>
        <p:spPr>
          <a:xfrm>
            <a:off x="8569440" y="573120"/>
            <a:ext cx="57600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lick to edit the title text format</a:t>
            </a:r>
            <a:endParaRPr b="0" lang="en-US" sz="4000" spc="-1" strike="noStrike">
              <a:solidFill>
                <a:srgbClr val="ff8600"/>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FC9B-70D0-4CD4-881F-C4C4DCDBEC3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2516040"/>
            <a:ext cx="7315200" cy="2595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ff8600"/>
              </a:solidFill>
              <a:latin typeface="Arial"/>
            </a:endParaRPr>
          </a:p>
        </p:txBody>
      </p:sp>
      <p:pic>
        <p:nvPicPr>
          <p:cNvPr id="44" name="مستطيل 3" descr=""/>
          <p:cNvPicPr/>
          <p:nvPr/>
        </p:nvPicPr>
        <p:blipFill>
          <a:blip r:embed="rId1"/>
          <a:stretch/>
        </p:blipFill>
        <p:spPr>
          <a:xfrm>
            <a:off x="2189160" y="1755720"/>
            <a:ext cx="5815080" cy="230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38080" y="765000"/>
            <a:ext cx="7467840" cy="4873680"/>
          </a:xfrm>
          <a:prstGeom prst="rect">
            <a:avLst/>
          </a:prstGeom>
          <a:noFill/>
          <a:ln w="0">
            <a:noFill/>
          </a:ln>
        </p:spPr>
        <p:txBody>
          <a:bodyPr anchor="t">
            <a:normAutofit fontScale="84000"/>
          </a:bodyPr>
          <a:p>
            <a:pPr marL="191880" indent="-15300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cs typeface="AF_Najed"/>
              </a:rPr>
              <a:t>هنا يأتي دور العالم النفسي في دراسة هذه الظاهرة  واتخاذ الاجراءات الكفيلة بتفادي مشكلة من هذا النوع والتي تظهر لدى الطلبة والرياضيين بصورة عامة وتؤدي الى خيبة الامل والى موقف حرجة يمكن ان تؤدي الى نتائج سلبية تعيق سير النشاط الرياضي .</a:t>
            </a:r>
            <a:endParaRPr b="0" lang="en-US" sz="2800" spc="-1" strike="noStrike">
              <a:solidFill>
                <a:srgbClr val="ffffff"/>
              </a:solidFill>
              <a:latin typeface="Arial"/>
            </a:endParaRPr>
          </a:p>
          <a:p>
            <a:pPr marL="191880" indent="-153000" algn="just" rtl="1">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cs typeface="AF_Najed"/>
              </a:rPr>
              <a:t>اضافة الى ذلك يمكن ان يفقد قسم من الرياضيين الرغبة في مزاولة النشاط الرياضي لأسباب عديدة ، او ان يهبط مستواهم الشخصي وعلى مستوى الفريق بشكل عام مما يسبب مشاكل حقيقة توجه المدرب . وهنا يأتي دور علم النفس الرياضي في مد المدرب بالحلول المناسبة لهذه المشكلة وفق منهج مخطط ومدروس مؤكداً دور هذا العلم في حل المشكلات النفسية للرياضيين وثبات مستواهم الرياضي اثناء السباقات ، لابل تحسينه </a:t>
            </a:r>
            <a:r>
              <a:rPr b="0" lang="ar-IQ" sz="2000" spc="-1" strike="noStrike">
                <a:solidFill>
                  <a:srgbClr val="ffffff"/>
                </a:solidFill>
                <a:latin typeface="Arial"/>
                <a:ea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28600" y="380880"/>
            <a:ext cx="8229600" cy="5943600"/>
          </a:xfrm>
          <a:prstGeom prst="rect">
            <a:avLst/>
          </a:prstGeom>
          <a:noFill/>
          <a:ln w="0">
            <a:noFill/>
          </a:ln>
        </p:spPr>
        <p:txBody>
          <a:bodyPr anchor="t">
            <a:normAutofit fontScale="82000"/>
          </a:bodyPr>
          <a:p>
            <a:pPr marL="187200" indent="-14940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cs typeface="AF_Najed"/>
              </a:rPr>
              <a:t>الكشف عن المواهب الرياضية :  من الواجبات الرئيسية لعلم النفس الرياضي هي كشف المواهب الرياضية في وقت مبكر وتشجيعها . وتكم هذه الواجبات في اسس التعرف على ذوي الكفاءات الرياضية والطرق الكفيلة باتخاذ الاجراءات اللازمة التي تساعد على اظهار هذه القدرات.</a:t>
            </a:r>
            <a:endParaRPr b="0" lang="en-US" sz="2800" spc="-1" strike="noStrike">
              <a:solidFill>
                <a:srgbClr val="ffffff"/>
              </a:solidFill>
              <a:latin typeface="Arial"/>
            </a:endParaRPr>
          </a:p>
          <a:p>
            <a:pPr marL="187200" indent="-14940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ea typeface="AF_Najed"/>
              </a:rPr>
              <a:t> ان كشف هذه المواهب مهمة صعبة ومعقدة جداً ويمكن للمربي الرياضي ان يكشفها في نفسية طلابه لان لهذه المواهب وهذه القابليات اصولاً مستمدة من عهد الطفولة .</a:t>
            </a:r>
            <a:endParaRPr b="0" lang="en-US" sz="2800" spc="-1" strike="noStrike">
              <a:solidFill>
                <a:srgbClr val="ffffff"/>
              </a:solidFill>
              <a:latin typeface="Arial"/>
            </a:endParaRPr>
          </a:p>
          <a:p>
            <a:pPr marL="187200" indent="-14940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cs typeface="AF_Najed"/>
              </a:rPr>
              <a:t>من المعروف ان المربي او المدرب يختار الرياضيين على اسس بدنية ومهارية بالشكل الاساس مهملاً بذلك النواحي النفسية . فالرياضيات المختلفة تتطلب صفات شخصية معينة يجب الانتباه اليها عند اختيار الرياضيين لأي مهارة معينة وان عدم اخذ هذه الناحية بعين الاعتبار قد يكون سبباً في ضعف المستوى وفي بعض الاحيان الى مشكلات نفسية متأتية عن خيبة الامل التي يسببها مستوى الانجاز المنخفض رغم التدريب المنتظم عندما يكمن السبب في خفض مستوى الانجاز بالعوامل النفس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38080" y="685800"/>
            <a:ext cx="7467840" cy="4873680"/>
          </a:xfrm>
          <a:prstGeom prst="rect">
            <a:avLst/>
          </a:prstGeom>
          <a:noFill/>
          <a:ln w="0">
            <a:noFill/>
          </a:ln>
        </p:spPr>
        <p:txBody>
          <a:bodyPr anchor="t">
            <a:normAutofit fontScale="78000"/>
          </a:bodyPr>
          <a:p>
            <a:pPr marL="178200" indent="-14220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لذلك فأن اختيار الشباب الرياضي على اساس  البناء الجسمي والقابلية الحركية والقدرات الرياضية الجيدة واهمال العوامل  النفسية المهمة التي تسهم في الوصول الى المستويات الرياضية العالة يعتبر من الممارسات السلبية ، ويقع على عاتق المربي الرياضي مهمة في التعرف على كل متطلبات البطولة  وتشخيص الموهوبين في وقت مبكر على هذا الاساس .</a:t>
            </a:r>
            <a:endParaRPr b="0" lang="en-US" sz="3200" spc="-1" strike="noStrike">
              <a:solidFill>
                <a:srgbClr val="ffffff"/>
              </a:solidFill>
              <a:latin typeface="Arial"/>
            </a:endParaRPr>
          </a:p>
          <a:p>
            <a:pPr marL="178200" indent="-14220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تكوين الميول والرغبات وتطويرها :  من الواضح سواء على مستوى البحث العلمي او المشاهدات العامة ان الفتيان يمارسون النشاط الرياضي اكثر من الفتيات ، ،ومن الملاحظ ايضاً ان رغبات الفتيان بالرياضة تهبط بشكل ملحوظ مع تقدم اعماره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0520" y="533160"/>
            <a:ext cx="8001000" cy="5562360"/>
          </a:xfrm>
          <a:prstGeom prst="rect">
            <a:avLst/>
          </a:prstGeom>
          <a:noFill/>
          <a:ln w="0">
            <a:noFill/>
          </a:ln>
        </p:spPr>
        <p:txBody>
          <a:bodyPr anchor="t">
            <a:normAutofit fontScale="87000"/>
          </a:bodyPr>
          <a:p>
            <a:pPr marL="198720" indent="-158760" algn="just" rtl="1">
              <a:lnSpc>
                <a:spcPct val="90000"/>
              </a:lnSpc>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ffffff"/>
                </a:solidFill>
                <a:latin typeface="Arial"/>
                <a:ea typeface="Arial"/>
              </a:rPr>
              <a:t>  </a:t>
            </a:r>
            <a:r>
              <a:rPr b="0" lang="ar-IQ" sz="3000" spc="-1" strike="noStrike">
                <a:solidFill>
                  <a:srgbClr val="ffffff"/>
                </a:solidFill>
                <a:latin typeface="Arial"/>
                <a:cs typeface="AF_Najed"/>
              </a:rPr>
              <a:t>وهنا تتبادر الى الاذهان عدة اسئلة مثل :</a:t>
            </a:r>
            <a:endParaRPr b="0" lang="en-US" sz="3000" spc="-1" strike="noStrike">
              <a:solidFill>
                <a:srgbClr val="ffffff"/>
              </a:solidFill>
              <a:latin typeface="Arial"/>
            </a:endParaRPr>
          </a:p>
          <a:p>
            <a:pPr marL="198720" indent="-158760" algn="just" rtl="1">
              <a:lnSpc>
                <a:spcPct val="90000"/>
              </a:lnSpc>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لماذا يمارس الشباب النشاط الرياضي ؟</a:t>
            </a:r>
            <a:endParaRPr b="0" lang="en-US" sz="3000" spc="-1" strike="noStrike">
              <a:solidFill>
                <a:srgbClr val="ffffff"/>
              </a:solidFill>
              <a:latin typeface="Arial"/>
            </a:endParaRPr>
          </a:p>
          <a:p>
            <a:pPr marL="198720" indent="-158760" algn="just" rtl="1">
              <a:lnSpc>
                <a:spcPct val="90000"/>
              </a:lnSpc>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ما الذي يمنع الكثير من الشباب والشابات من مزاولة النشاط الرياضي ؟</a:t>
            </a:r>
            <a:endParaRPr b="0" lang="en-US" sz="3000" spc="-1" strike="noStrike">
              <a:solidFill>
                <a:srgbClr val="ffffff"/>
              </a:solidFill>
              <a:latin typeface="Arial"/>
            </a:endParaRPr>
          </a:p>
          <a:p>
            <a:pPr marL="198720" indent="-158760" algn="just" rtl="1">
              <a:lnSpc>
                <a:spcPct val="90000"/>
              </a:lnSpc>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هل يمكن التأثير على الشباب او الشابات لزيادة مشاركتهم بالنشاط الرياضي ؟</a:t>
            </a:r>
            <a:endParaRPr b="0" lang="en-US" sz="3000" spc="-1" strike="noStrike">
              <a:solidFill>
                <a:srgbClr val="ffffff"/>
              </a:solidFill>
              <a:latin typeface="Arial"/>
            </a:endParaRPr>
          </a:p>
          <a:p>
            <a:pPr marL="198720" indent="-158760" algn="just" rtl="1">
              <a:lnSpc>
                <a:spcPct val="90000"/>
              </a:lnSpc>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كيف تتكون الرغبات والميول لمزاولة النشاط الرياضي ؟</a:t>
            </a:r>
            <a:endParaRPr b="0" lang="en-US" sz="3000" spc="-1" strike="noStrike">
              <a:solidFill>
                <a:srgbClr val="ffffff"/>
              </a:solidFill>
              <a:latin typeface="Arial"/>
            </a:endParaRPr>
          </a:p>
          <a:p>
            <a:pPr marL="198720" indent="-158760" algn="just" rtl="1">
              <a:lnSpc>
                <a:spcPct val="90000"/>
              </a:lnSpc>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ان بحوث علم النفس الرياضي تساهم في الاجابة على هذه الاسئلة وتوظيف النتائج في العمل على تكوين الميول والرغبات الرياضية وتطويرها . لهذا تقع على عاتق المربي الرياضي مهمات كثيرة منها ان يشعر الطلبة بحاجاتهم للنشاط  المنتظم سواء كانوا داخل المدرسة ام خارجها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38080" y="838080"/>
            <a:ext cx="7467840" cy="4873680"/>
          </a:xfrm>
          <a:prstGeom prst="rect">
            <a:avLst/>
          </a:prstGeom>
          <a:noFill/>
          <a:ln w="0">
            <a:noFill/>
          </a:ln>
        </p:spPr>
        <p:txBody>
          <a:bodyPr anchor="t">
            <a:normAutofit fontScale="86000"/>
          </a:bodyPr>
          <a:p>
            <a:pPr marL="196560" indent="-156960" algn="just" rtl="1">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u="sng">
                <a:solidFill>
                  <a:srgbClr val="ffffff"/>
                </a:solidFill>
                <a:uFillTx/>
                <a:latin typeface="Arial"/>
                <a:cs typeface="AF_Najed"/>
              </a:rPr>
              <a:t>المساهمة في ارساء اسس البحث العلمي في التربية الرياضية </a:t>
            </a:r>
            <a:r>
              <a:rPr b="0" lang="ar-IQ" sz="3000" spc="-1" strike="noStrike">
                <a:solidFill>
                  <a:srgbClr val="ffffff"/>
                </a:solidFill>
                <a:latin typeface="Arial"/>
                <a:ea typeface="AF_Najed"/>
              </a:rPr>
              <a:t>:</a:t>
            </a:r>
            <a:endParaRPr b="0" lang="en-US" sz="3000" spc="-1" strike="noStrike">
              <a:solidFill>
                <a:srgbClr val="ffffff"/>
              </a:solidFill>
              <a:latin typeface="Arial"/>
            </a:endParaRPr>
          </a:p>
          <a:p>
            <a:pPr marL="196560" indent="-156960" algn="just" rtl="1">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ان علم النفس الرياضي هو العلم الذي يدرس سلوك الانسان، وخاصة ما يتعلق بالنشاط البدني ،متبعاً بذلك الاسس العلمية الدقيقة في البحث العلمي ،وربما ان سلوك الانسان يدخل في كل ميادين الحياة ويؤثر ويتأثر بها، نرى ان لعلم النفس الرياضي المكانة الواضحة في التأكيد على ارساء اسس البحث العلمي في التربية الرياضية سواء على مستوى المدرسة او رياضة المستويات العليا .</a:t>
            </a:r>
            <a:endParaRPr b="0" lang="en-US" sz="3000" spc="-1" strike="noStrike">
              <a:solidFill>
                <a:srgbClr val="ffffff"/>
              </a:solidFill>
              <a:latin typeface="Arial"/>
            </a:endParaRPr>
          </a:p>
          <a:p>
            <a:pPr marL="196560" indent="-156960">
              <a:spcBef>
                <a:spcPts val="7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000" spc="-1" strike="noStrike">
                <a:solidFill>
                  <a:srgbClr val="ffffff"/>
                </a:solidFill>
                <a:latin typeface="Arial"/>
                <a:ea typeface="AF_Najed"/>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6840" y="533520"/>
            <a:ext cx="7924680" cy="5410080"/>
          </a:xfrm>
          <a:prstGeom prst="rect">
            <a:avLst/>
          </a:prstGeom>
          <a:noFill/>
          <a:ln w="0">
            <a:noFill/>
          </a:ln>
        </p:spPr>
        <p:txBody>
          <a:bodyPr anchor="t">
            <a:normAutofit fontScale="78000"/>
          </a:bodyPr>
          <a:p>
            <a:pPr marL="178200" indent="-142200" algn="r" rtl="1">
              <a:spcBef>
                <a:spcPts val="9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Arial"/>
                <a:cs typeface="AF_Najed"/>
              </a:rPr>
              <a:t>مهمات علم النفس الرياضي</a:t>
            </a:r>
            <a:endParaRPr b="0" lang="en-US" sz="3600" spc="-1" strike="noStrike">
              <a:solidFill>
                <a:srgbClr val="ffffff"/>
              </a:solidFill>
              <a:latin typeface="Arial"/>
            </a:endParaRPr>
          </a:p>
          <a:p>
            <a:pPr marL="178200" indent="-142200" algn="r" rtl="1">
              <a:spcBef>
                <a:spcPts val="9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ffffff"/>
                </a:solidFill>
                <a:latin typeface="Arial"/>
                <a:cs typeface="AF_Najed"/>
              </a:rPr>
              <a:t>ان مهمات علم النفس الرياضي متعددة وسنحاول في هذا البحث الاشارة الى بعض المهمات الرئيسة كما يلي :</a:t>
            </a:r>
            <a:endParaRPr b="0" lang="en-US" sz="3600" spc="-1" strike="noStrike">
              <a:solidFill>
                <a:srgbClr val="ffffff"/>
              </a:solidFill>
              <a:latin typeface="Arial"/>
            </a:endParaRPr>
          </a:p>
          <a:p>
            <a:pPr marL="178200" indent="-142200" algn="r" rtl="1">
              <a:spcBef>
                <a:spcPts val="9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ffffff"/>
                </a:solidFill>
                <a:latin typeface="Arial"/>
                <a:cs typeface="AF_Najed"/>
              </a:rPr>
              <a:t>رفع المستوى الرياضي :</a:t>
            </a:r>
            <a:r>
              <a:rPr b="0" lang="ar-IQ" sz="3600" spc="-1" strike="noStrike">
                <a:solidFill>
                  <a:srgbClr val="ffffff"/>
                </a:solidFill>
                <a:latin typeface="Arial"/>
                <a:ea typeface="AF_Najed"/>
              </a:rPr>
              <a:t> ان لعلم النفس الرياضي اهمية بالغة في استغلال القابليات بالشكل الامثل لتحقيق الانجاز الرياضي او الوصول الى المستوى الرياضي الجيد ، وهذا ينسحب على التلاميذ الاعتياديين وعلى الرياضيين في كافة المستويات ، كما انه ينسحب على الطلبة ذمي المشكلات الجسمية الخفيفة الذين لا يستطيع ان انجاز المستوى الرياضي المطلوب .</a:t>
            </a:r>
            <a:endParaRPr b="0" lang="en-US" sz="3600" spc="-1" strike="noStrike">
              <a:solidFill>
                <a:srgbClr val="ffffff"/>
              </a:solidFill>
              <a:latin typeface="Arial"/>
            </a:endParaRPr>
          </a:p>
          <a:p>
            <a:pPr marL="178200" indent="-142200">
              <a:spcBef>
                <a:spcPts val="9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04560" y="304920"/>
            <a:ext cx="8305560" cy="5790960"/>
          </a:xfrm>
          <a:prstGeom prst="rect">
            <a:avLst/>
          </a:prstGeom>
          <a:noFill/>
          <a:ln w="0">
            <a:noFill/>
          </a:ln>
        </p:spPr>
        <p:txBody>
          <a:bodyPr anchor="t">
            <a:normAutofit fontScale="83000"/>
          </a:bodyPr>
          <a:p>
            <a:pPr marL="189720" indent="-15120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من المعروف ان الانسان العادي يملك طاقة معينة تمكنه من القيام بالواجبات المناطة به سواء في الحياة اليومية او في الفعاليات الرياضية . اضافة الى هذه الطاقة الاعتيادية فأن الانسان يملك طاقات اضافية يمكن استغلالها عند الضرورة . فالشخص الذي يستطيع ان يركض (كيلو مترين ) او ثلاثة مثلاً بسرعة محددة وبشكل مستمر كفعالية مطاولة يمكنه ان يضاعف المسافة او يضاعف السرعة عند استخدام انواع معينة من الحوافز القوية ، ويمكنه ان يضاعف المسافة او يضاعف السرعة عدة مرات اذا كان ذلك سيجنبه خطراً علة حياته . ان هذا دليل واضح على ان الانسان سواء كان طالباً في المدرسة او رياضياً في احد الفرق الرياضية يمكن ان يستخدم طاقاته بشكل افضل وان يرفع مستواه عند وجود نوع معين من الحوافز . </a:t>
            </a:r>
            <a:endParaRPr b="0" lang="en-US" sz="3200" spc="-1" strike="noStrike">
              <a:solidFill>
                <a:srgbClr val="ffffff"/>
              </a:solidFill>
              <a:latin typeface="Arial"/>
            </a:endParaRPr>
          </a:p>
          <a:p>
            <a:pPr marL="189720" indent="-15120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914040" y="765000"/>
            <a:ext cx="7467480" cy="4873680"/>
          </a:xfrm>
          <a:prstGeom prst="rect">
            <a:avLst/>
          </a:prstGeom>
          <a:noFill/>
          <a:ln w="0">
            <a:noFill/>
          </a:ln>
        </p:spPr>
        <p:txBody>
          <a:bodyPr anchor="t">
            <a:normAutofit fontScale="91000"/>
          </a:bodyPr>
          <a:p>
            <a:pPr marL="207720" indent="-16596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من الضروري ان نؤكد هنا ان مستوى الانجاز قد لا يتناسب طردياً بالضرورة مع درجة التحفيز</a:t>
            </a:r>
            <a:endParaRPr b="0" lang="en-US" sz="3200" spc="-1" strike="noStrike">
              <a:solidFill>
                <a:srgbClr val="ffffff"/>
              </a:solidFill>
              <a:latin typeface="Arial"/>
            </a:endParaRPr>
          </a:p>
          <a:p>
            <a:pPr marL="207720" indent="-16596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لذا نجد ان علماء التربية الرياضية والمربين يرون ان للمعارف النفسية وقوانينها ونظمها الاثر الكبير في ايصال الطالب او الرياضي الى الاهداف التربوية والرياضية والوطنية وفقاً للخطط المرسومة بهذا الخصوص ،</a:t>
            </a:r>
            <a:endParaRPr b="0" lang="en-US" sz="3200" spc="-1" strike="noStrike">
              <a:solidFill>
                <a:srgbClr val="ffffff"/>
              </a:solidFill>
              <a:latin typeface="Arial"/>
            </a:endParaRPr>
          </a:p>
          <a:p>
            <a:pPr marL="207720" indent="-16596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لان انجاز الطالب او الرياضي يتأثر بعوامل نفسية كثيرة قد تكون عائقاً او مسهلاً للحصول على احسن النتائج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520" y="304560"/>
            <a:ext cx="8153640" cy="6095880"/>
          </a:xfrm>
          <a:prstGeom prst="rect">
            <a:avLst/>
          </a:prstGeom>
          <a:noFill/>
          <a:ln w="0">
            <a:noFill/>
          </a:ln>
        </p:spPr>
        <p:txBody>
          <a:bodyPr anchor="t">
            <a:normAutofit fontScale="92000"/>
          </a:bodyPr>
          <a:p>
            <a:pPr marL="210240" indent="-167760" algn="just" rtl="1">
              <a:lnSpc>
                <a:spcPct val="90000"/>
              </a:lnSpc>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تطوير السمات الشخصية : من المعروف ان درس التربية الرياضية يقدم امكانات واسعة في مجال تربية الطالب وتطور صفاته الشخصية ، وكذلك الحال بالنسبة للرياضيين في رياضة المستويات العالية ، لان النشاط في در التربية البدنية وفي الساحات الرياضية يتطلب مجهوداً بدنياً عاليا اضافة الى العمل مع الجماعة بشكل مباشر .</a:t>
            </a:r>
            <a:endParaRPr b="0" lang="en-US" sz="3200" spc="-1" strike="noStrike">
              <a:solidFill>
                <a:srgbClr val="ffffff"/>
              </a:solidFill>
              <a:latin typeface="Arial"/>
            </a:endParaRPr>
          </a:p>
          <a:p>
            <a:pPr marL="210240" indent="-167760" algn="just" rtl="1">
              <a:lnSpc>
                <a:spcPct val="90000"/>
              </a:lnSpc>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10240" indent="-167760" algn="just" rtl="1">
              <a:lnSpc>
                <a:spcPct val="90000"/>
              </a:lnSpc>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ان اختلاف الرياضيين عن غير الرياضيين في سمات الشخصية يمكن ان يعزى الى :</a:t>
            </a:r>
            <a:endParaRPr b="0" lang="en-US" sz="3200" spc="-1" strike="noStrike">
              <a:solidFill>
                <a:srgbClr val="ffffff"/>
              </a:solidFill>
              <a:latin typeface="Arial"/>
            </a:endParaRPr>
          </a:p>
          <a:p>
            <a:pPr marL="210240" indent="-167760" algn="just" rtl="1">
              <a:lnSpc>
                <a:spcPct val="90000"/>
              </a:lnSpc>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أ </a:t>
            </a:r>
            <a:r>
              <a:rPr b="0" lang="en-US" sz="3200" spc="-1" strike="noStrike">
                <a:solidFill>
                  <a:srgbClr val="ffffff"/>
                </a:solidFill>
                <a:latin typeface="Arial"/>
                <a:ea typeface="AF_Najed"/>
              </a:rPr>
              <a:t>-</a:t>
            </a:r>
            <a:r>
              <a:rPr b="0" lang="ar-IQ" sz="3200" spc="-1" strike="noStrike">
                <a:solidFill>
                  <a:srgbClr val="ffffff"/>
                </a:solidFill>
                <a:latin typeface="Arial"/>
                <a:ea typeface="AF_Najed"/>
              </a:rPr>
              <a:t> استقطاب الفعاليات الرياضية لنوع معين من الناس يتصفون بسمات شخصية معينة .</a:t>
            </a:r>
            <a:endParaRPr b="0" lang="en-US" sz="3200" spc="-1" strike="noStrike">
              <a:solidFill>
                <a:srgbClr val="ffffff"/>
              </a:solidFill>
              <a:latin typeface="Arial"/>
            </a:endParaRPr>
          </a:p>
          <a:p>
            <a:pPr marL="210240" indent="-167760" algn="just" rtl="1">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ب </a:t>
            </a:r>
            <a:r>
              <a:rPr b="0" lang="en-US" sz="3200" spc="-1" strike="noStrike">
                <a:solidFill>
                  <a:srgbClr val="ffffff"/>
                </a:solidFill>
                <a:latin typeface="Arial"/>
                <a:ea typeface="AF_Najed"/>
              </a:rPr>
              <a:t>-</a:t>
            </a:r>
            <a:r>
              <a:rPr b="0" lang="ar-IQ" sz="3200" spc="-1" strike="noStrike">
                <a:solidFill>
                  <a:srgbClr val="ffffff"/>
                </a:solidFill>
                <a:latin typeface="Arial"/>
                <a:ea typeface="AF_Najed"/>
              </a:rPr>
              <a:t> تنمية السمات الشخصية المعينة من خلال مزاولة النشاط الرياضي </a:t>
            </a:r>
            <a:r>
              <a:rPr b="0" lang="ar-IQ" sz="2000" spc="-1" strike="noStrike">
                <a:solidFill>
                  <a:srgbClr val="ffffff"/>
                </a:solidFill>
                <a:latin typeface="Arial"/>
                <a:ea typeface="Arial"/>
              </a:rPr>
              <a:t>.</a:t>
            </a:r>
            <a:endParaRPr b="0" lang="en-US" sz="2000" spc="-1" strike="noStrike">
              <a:solidFill>
                <a:srgbClr val="ffffff"/>
              </a:solidFill>
              <a:latin typeface="Arial"/>
            </a:endParaRPr>
          </a:p>
          <a:p>
            <a:pPr marL="210240" indent="-16776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80880" y="609480"/>
            <a:ext cx="8229600" cy="5943600"/>
          </a:xfrm>
          <a:prstGeom prst="rect">
            <a:avLst/>
          </a:prstGeom>
          <a:noFill/>
          <a:ln w="0">
            <a:noFill/>
          </a:ln>
        </p:spPr>
        <p:txBody>
          <a:bodyPr anchor="t">
            <a:normAutofit fontScale="91000"/>
          </a:bodyPr>
          <a:p>
            <a:pPr marL="207720" indent="-16596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ان المعلومات العلمية المتوفرة لدينا تجعلنا نقبل كلا الاحتمالين .واذا كانت النشاطات الرياضية تنمي السمات الشخصية فستكون الفرصة ثمينة امام المربي والمدرب لتوجيه الدرس او التدريب بخدمة تنمية سمات تخدم الاهداف الرياضية والتربوية والاجتماعية . ويمكن ان تنمو روح الانانية ويمكن ان تنمو روح الايثار والتعاون على الملاعب الرياضية ، ويمكن ان تنمو صفة التكبر ويمكن ان تنمو صفة التواضع ، ويمكن ان تنمو صفة الانضباط ويمكن ان تنمو صفة التسيب... وهكذا الى اخره هنا يأتي دور علم النفس الرياضي في تشخيص هذه السمات ومساعدة الطالب والرياضي في تنمية السمات المرغوب فيها باستخدام اساليب كثيرة.</a:t>
            </a:r>
            <a:endParaRPr b="0" lang="en-US" sz="3200" spc="-1" strike="noStrike">
              <a:solidFill>
                <a:srgbClr val="ffffff"/>
              </a:solidFill>
              <a:latin typeface="Arial"/>
            </a:endParaRPr>
          </a:p>
          <a:p>
            <a:pPr marL="207720" indent="-16596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440" y="993600"/>
            <a:ext cx="7467480" cy="4873680"/>
          </a:xfrm>
          <a:prstGeom prst="rect">
            <a:avLst/>
          </a:prstGeom>
          <a:noFill/>
          <a:ln w="0">
            <a:noFill/>
          </a:ln>
        </p:spPr>
        <p:txBody>
          <a:bodyPr anchor="t">
            <a:normAutofit fontScale="88000"/>
          </a:bodyPr>
          <a:p>
            <a:pPr marL="200880" indent="-160560" algn="just" rtl="1">
              <a:lnSpc>
                <a:spcPct val="90000"/>
              </a:lnSpc>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الصحة النفسية : ان اهداف التربية الرياضية عديدة ومن اهمها الاهداف الصحية فالتربية الرياضية والالعاب الرياضية لا تنحصر فائدتها بالصحة البدنية بل تتعداها   الى الصحة النفسية ايضاً ، وهنا يأتي دور علم النفس الرياضي في مجال الرياضة الصحية للطالب واللاعب .</a:t>
            </a:r>
            <a:endParaRPr b="0" lang="en-US" sz="3200" spc="-1" strike="noStrike">
              <a:solidFill>
                <a:srgbClr val="ffffff"/>
              </a:solidFill>
              <a:latin typeface="Arial"/>
            </a:endParaRPr>
          </a:p>
          <a:p>
            <a:pPr marL="200880" indent="-160560" algn="just" rtl="1">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فعلى سبيل المثال يمكن ان نشاهد طالباً ترد في القفز الى حوض السباحة رغم انه يجيد السباخة ويجيد القفز الى الماء وهو مراقب مراقبة جيدة . ان تردد من هذا النوع لا يمكن ان يأتي عفوياً ، ويمكن ان تكمن اسباب هذا الترد ف الطالب نفسه او ان تأتي من مصادر خارجية</a:t>
            </a:r>
            <a:r>
              <a:rPr b="0" lang="ar-IQ"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685800"/>
            <a:ext cx="7467840" cy="4873680"/>
          </a:xfrm>
          <a:prstGeom prst="rect">
            <a:avLst/>
          </a:prstGeom>
          <a:noFill/>
          <a:ln w="0">
            <a:noFill/>
          </a:ln>
        </p:spPr>
        <p:txBody>
          <a:bodyPr anchor="t">
            <a:normAutofit fontScale="74000"/>
          </a:bodyPr>
          <a:p>
            <a:pPr marL="168840" indent="-13500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فالمرء يحتاج  دائماً الى تأكيد ذاته وهذا التأكيد يتكون من خبرات النجاح التي يحصل عليها ومن خلالها تزداد ثقته بنفسه ، لكن اكتساب الثقة بالنفس ليس بالعمل السهل ولا بالعمل الهين فأساسه المزاج النفسي الايجابي الذي يعد في مقدمة اسباب تفاؤله وبذل جهده لتحقيق المزاج النفسي الايجابي الذي يعد في مقدمة اسباب تفاؤله وبذل جهده لتحقيق المستوى المطلوب ، فربما نجد طالباً مزعزع الثقة ، ضعيف الشخصية ، ينهار امام زملائه لأبسط سبب ويندب حظه لأبسط انتقاد من زملائه او مربيه ، ان المربي او المدرب نفسه هو عنصر مهم من عناصر زرع الثقة في النفس خاصة اذا كان هو نفسه ذا ثقة عالية بنفسه ، فالطالب والرياضي يميل الى تقليد النمذوج والى محاكاة مربيه او مدربه و زملائه.</a:t>
            </a:r>
            <a:endParaRPr b="0" lang="en-US" sz="3200" spc="-1" strike="noStrike">
              <a:solidFill>
                <a:srgbClr val="ffffff"/>
              </a:solidFill>
              <a:latin typeface="Arial"/>
            </a:endParaRPr>
          </a:p>
          <a:p>
            <a:pPr marL="168840" indent="-13500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360" y="304560"/>
            <a:ext cx="7467480" cy="5638680"/>
          </a:xfrm>
          <a:prstGeom prst="rect">
            <a:avLst/>
          </a:prstGeom>
          <a:noFill/>
          <a:ln w="0">
            <a:noFill/>
          </a:ln>
        </p:spPr>
        <p:txBody>
          <a:bodyPr anchor="t">
            <a:normAutofit fontScale="87000"/>
          </a:bodyPr>
          <a:p>
            <a:pPr marL="198720" indent="-15876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cs typeface="AF_Najed"/>
              </a:rPr>
              <a:t>ان علم النفس الرياضي يساعد المربي في التعرف على مشكلات الطلبة والرياضيين الذين يعمل معهم وفي ايجاد الحلول لهذه المشكلات بما يلائم خواصهم ، فهو كفيل بتحقيق الشروط الملائمة لكل فرد من افراد المجموعة من اجل تحقيق اتزانهم النفسي والمحافظة على صحتهم النفسية وزيادة مستوى قدراتهم وكفاءاتهم .</a:t>
            </a:r>
            <a:endParaRPr b="0" lang="en-US" sz="2800" spc="-1" strike="noStrike">
              <a:solidFill>
                <a:srgbClr val="ffffff"/>
              </a:solidFill>
              <a:latin typeface="Arial"/>
            </a:endParaRPr>
          </a:p>
          <a:p>
            <a:pPr marL="198720" indent="-15876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198720" indent="-158760" algn="just" rtl="1">
              <a:spcBef>
                <a:spcPts val="7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Arial"/>
                <a:cs typeface="AF_Najed"/>
              </a:rPr>
              <a:t>ثبات المستوى الرياضي : </a:t>
            </a:r>
            <a:endParaRPr b="0" lang="en-US" sz="3200" spc="-1" strike="noStrike">
              <a:solidFill>
                <a:srgbClr val="ffffff"/>
              </a:solidFill>
              <a:latin typeface="Arial"/>
            </a:endParaRPr>
          </a:p>
          <a:p>
            <a:pPr marL="198720" indent="-158760" algn="just" rtl="1">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Arial"/>
                <a:cs typeface="AF_Najed"/>
              </a:rPr>
              <a:t>يعاني الطالب والرياضي في بعض الاحيان من مشكلة عدم تحقيق المستوى المتوقع في فترة الاختبارات وفي فترة السباقات .فأحياناً نلاحظ احد الرياضيين واحد الفرق يتمرن بصورة جيدة ويتصف بمواصفات بدنية ومهارية جيدة اثناء التمرين لكنه لا يصل الى المستوى المتوقع اثناء السباق .</a:t>
            </a:r>
            <a:endParaRPr b="0" lang="en-US" sz="2800" spc="-1" strike="noStrike">
              <a:solidFill>
                <a:srgbClr val="ffffff"/>
              </a:solidFill>
              <a:latin typeface="Arial"/>
            </a:endParaRPr>
          </a:p>
          <a:p>
            <a:pPr marL="198720" indent="-158760">
              <a:spcBef>
                <a:spcPts val="7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0T07:47:24Z</dcterms:created>
  <dc:creator>A</dc:creator>
  <dc:description/>
  <dc:language>en-US</dc:language>
  <cp:lastModifiedBy>A</cp:lastModifiedBy>
  <cp:lastPrinted>2010-10-20T08:03:09Z</cp:lastPrinted>
  <dcterms:modified xsi:type="dcterms:W3CDTF">2010-10-20T08:06:02Z</dcterms:modified>
  <cp:revision>3</cp:revision>
  <dc:subject/>
  <dc:title> </dc:title>
</cp:coreProperties>
</file>