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C215E-DFBE-4092-8A5E-23A3CC9CC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A89B8-C6B2-432C-A4E2-04D0FD2DF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B04AA7-AEBF-4F91-B6F5-4B072D6D5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4603D-454D-4D87-B5E0-B8B8039B0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42245-A35F-40F8-9BAB-1E10BE13C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97442-AE1B-4567-9B2C-96D5BCAF40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F34B08-156E-49F0-9021-38B232ADC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5DA1A4-8434-469F-9C97-D24B0D4AC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48EF4-AD00-48DA-B0A4-C1DB08CC8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62A2A-4E88-494A-A86B-626E12EF6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C9FEF-650D-4662-8846-C5939092E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591D9-7550-4599-83F9-41565CC4B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D1A17-B293-4372-AE4E-EC87B096A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EB138-4379-4C06-8A0F-6AC4084EF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2F77D-45A5-425F-9AF9-0CAE41109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21E93-047C-4176-9AC9-875117BC8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7DA24-7BF5-46D8-8A65-873A02B29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A97AFD-5502-4A35-AD3D-AF90265D7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9F10E-673A-4535-8591-E310EF8FD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D2E0A-84F3-4CE3-B898-A0E2F0A1A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BF6B0-668B-4590-9BD6-2BE28CF85C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C7F583-B459-41F2-BA48-FD9492480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EBD32-ADB0-47AC-BE56-7DD91967A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3409C5-9BB7-4A31-BA3C-0E0E73566B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ACF5BA-519C-4A2F-8BC2-943148D5B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3F58F-78BF-4320-AE28-6F4D9E1C3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9DF82-2D88-43D6-A48B-95F72B674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C27A4-D4FE-4A37-ADE9-8F1C2EA15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447D2-5ADC-4346-BA4D-23EAD63249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8C97D-1DA7-40F5-A2E4-DD20816BFD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3BC904-CC5C-41CC-9A76-183147784C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ECD0B0-9452-4F6C-ABDE-698BAB868D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ED297-520B-480B-A270-CB338D9837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BF88D-2068-471D-901C-E2652C292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82741D-A4DE-4176-B830-8EAE49A1D1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114C80-C998-4BF1-AFFA-D8D9D07381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938AD7-7D86-4B83-9F04-A29236E999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CF9BC1-031D-40C9-99EB-BFE382BF13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10DA2-29CA-48B1-B96E-8589DA858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F3EC33-E4BF-4D31-A0CD-37C0EA590D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DFE1E8-C90F-4D90-A744-FD4CF543CA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C154AC-3945-4285-B2CF-87F0C126A4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D23E33-7C34-4919-BAE3-B3CA709647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032B-9853-4E13-834D-FF0CA3733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DDBEC-5282-40CA-A417-838D290E7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5DEB7-7DCD-4010-9632-35EB36DF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DDF1-4CAF-4BD5-B203-E41541DC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D99DF-3865-4F10-9D8F-DDF732930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5752-2807-47C1-A778-8C393C29A834}"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C1E37-2F97-43E6-9604-EFDC1B28CD01}"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5BCB-427A-4AFD-A2A7-9C2224F8714D}" type="slidenum">
              <a:rPr b="0" lang="ar-SA"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8"/>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ahom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EE0B-8449-4EC6-910B-41D2330304E5}" type="slidenum">
              <a:rPr b="0" lang="ar-SA"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6351480" y="42372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title"/>
          </p:nvPr>
        </p:nvSpPr>
        <p:spPr>
          <a:xfrm>
            <a:off x="395280" y="263664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ar-IQ" sz="2500" spc="-1" strike="noStrike">
                <a:solidFill>
                  <a:srgbClr val="04617b"/>
                </a:solidFill>
                <a:latin typeface="Calibri"/>
              </a:rPr>
              <a:t>الفصل الاول</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خوف والقلق</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اول_انواع القلق</a:t>
            </a:r>
            <a:br>
              <a:rPr sz="2500"/>
            </a:br>
            <a:br>
              <a:rPr sz="2500"/>
            </a:br>
            <a:r>
              <a:rPr b="1" lang="ar-IQ" sz="2500" spc="-1" strike="noStrike">
                <a:solidFill>
                  <a:srgbClr val="04617b"/>
                </a:solidFill>
                <a:latin typeface="Calibri"/>
              </a:rPr>
              <a:t>المبحث الثاني _مستويات القلق</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ثالث _اثار القلق</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رابع _القلق في المجال الرياضي</a:t>
            </a:r>
            <a:br>
              <a:rPr sz="2500"/>
            </a:br>
            <a:r>
              <a:rPr b="1" lang="ar-IQ" sz="2500" spc="-1" strike="noStrike">
                <a:solidFill>
                  <a:srgbClr val="04617b"/>
                </a:solidFill>
                <a:latin typeface="Calibri"/>
              </a:rPr>
              <a:t> </a:t>
            </a:r>
            <a:br>
              <a:rPr sz="2500"/>
            </a:br>
            <a:r>
              <a:rPr b="1" lang="ar-IQ" sz="2500" spc="-1" strike="noStrike">
                <a:solidFill>
                  <a:srgbClr val="04617b"/>
                </a:solidFill>
                <a:latin typeface="Calibri"/>
              </a:rPr>
              <a:t>المبحث الخامس _قياس القلق </a:t>
            </a:r>
            <a:endParaRPr b="0" lang="en-US" sz="25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396000" y="-12375000"/>
            <a:ext cx="7164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
          <p:cNvSpPr txBox="1"/>
          <p:nvPr/>
        </p:nvSpPr>
        <p:spPr>
          <a:xfrm>
            <a:off x="457200" y="404640"/>
            <a:ext cx="8229600" cy="5615280"/>
          </a:xfrm>
          <a:prstGeom prst="rect">
            <a:avLst/>
          </a:prstGeom>
          <a:noFill/>
          <a:ln w="0">
            <a:noFill/>
          </a:ln>
        </p:spPr>
        <p:txBody>
          <a:bodyPr anchor="t">
            <a:normAutofit/>
          </a:bodyPr>
          <a:p>
            <a:pPr marL="272880" indent="-272880" algn="r" rtl="1">
              <a:lnSpc>
                <a:spcPct val="7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1400" spc="-1" strike="noStrike">
                <a:solidFill>
                  <a:srgbClr val="000000"/>
                </a:solidFill>
                <a:latin typeface="Constantia"/>
              </a:rPr>
              <a:t> </a:t>
            </a:r>
            <a:r>
              <a:rPr b="0" lang="ar-IQ" sz="2600" spc="-1" strike="noStrike">
                <a:solidFill>
                  <a:srgbClr val="000000"/>
                </a:solidFill>
                <a:latin typeface="Constantia"/>
              </a:rPr>
              <a:t>(المستوى المتوسط)يفقد الرياضي جزء من قدرته على السيطرة وتتصف حركاته ببذل الجهد الزائد والتردد والخوف من الخصم .</a:t>
            </a:r>
            <a:endParaRPr b="0" lang="en-US" sz="2600" spc="-1" strike="noStrike">
              <a:solidFill>
                <a:srgbClr val="000000"/>
              </a:solidFill>
              <a:latin typeface="Constantia"/>
            </a:endParaRPr>
          </a:p>
          <a:p>
            <a:pPr marL="272880" indent="-272880" algn="r" rtl="1">
              <a:lnSpc>
                <a:spcPct val="7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المستوى العالي _عندما يصل القلق الى المستوى العالي تبدا الاثار السلبية واضحة علا السلوك وعلى الاداء الرياضي .فيفقد الرياضي قدرته على التركيز وتكثر اخطاءه ويتصف سلوكه بالعصبية الشديدة .ان الرياضي الذي ينتابه القلق العالي يتصف بالحركات القوية والسريعة التي تفتقر الى الاتقان كما انه يبذل طاقة عالية دون مبرر تؤدي الى تعبه في وقت مبكر من المباراة .ونظرا لما لهذا المستوى العالي من القلق من تأثير سلبي على الرياضي فقد اطلق علية مصطلح (القلق المعوق)أي القلق المعرقل او المضر للرياضي ولمستوى انجازه .</a:t>
            </a:r>
            <a:endParaRPr b="0" lang="en-US" sz="2600" spc="-1" strike="noStrike">
              <a:solidFill>
                <a:srgbClr val="000000"/>
              </a:solidFill>
              <a:latin typeface="Constantia"/>
            </a:endParaRPr>
          </a:p>
          <a:p>
            <a:pPr marL="272880" indent="-272880" algn="r" rtl="1">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8" name=""/>
          <p:cNvSpPr txBox="1"/>
          <p:nvPr/>
        </p:nvSpPr>
        <p:spPr>
          <a:xfrm>
            <a:off x="468360" y="259920"/>
            <a:ext cx="8229600" cy="6048360"/>
          </a:xfrm>
          <a:prstGeom prst="rect">
            <a:avLst/>
          </a:prstGeom>
          <a:noFill/>
          <a:ln w="0">
            <a:noFill/>
          </a:ln>
        </p:spPr>
        <p:txBody>
          <a:bodyPr anchor="t">
            <a:normAutofit/>
          </a:bodyPr>
          <a:p>
            <a:pPr marL="272880" indent="-272880" algn="r" rtl="1">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onstantia"/>
              </a:rPr>
              <a:t>المبحث الثالث _ان تأثير القلق لا ينحصر في الناحبة النفسية فحسب بل يتعدى ذلك الى النواحي الجسمية .صحيح ان القلق يؤثر على الجهاز العصبي بشكل رئيسي ولكن وكما هو معروف فان الجهاز العصبي (الاعصاب)منتشر في جميع اعضاء الجسم ومسيطر على فعالياتها وعاى هذا اساس فان أي ارباك في عمل هذا الجهاز سيؤثر في الاعضاء بشكل او بأخر .لقد شخص الدكتور خير الدين العمري في كتابه (القلق بلباس العصر الحاضر ,ص </a:t>
            </a:r>
            <a:r>
              <a:rPr b="1" lang="ar-IQ" sz="1900" spc="-1" strike="noStrike">
                <a:solidFill>
                  <a:srgbClr val="000000"/>
                </a:solidFill>
                <a:latin typeface="Constantia"/>
              </a:rPr>
              <a:t>60</a:t>
            </a:r>
            <a:r>
              <a:rPr b="1" lang="ar-IQ" sz="1900" spc="-1" strike="noStrike">
                <a:solidFill>
                  <a:srgbClr val="000000"/>
                </a:solidFill>
                <a:latin typeface="Constantia"/>
              </a:rPr>
              <a:t>)جراء ممارسته لمهنة الطب لسنوات طويلة بعض الامراض الجسمية التي تقترن بالقلق .فمن المعروف مثلا اقتران قرحة المعدة او ارتفاع ضغط الدم او الاضطرابات الجنسية او حتى داء الشقيقة بالقلق ,لكن هذا المصدر يضيف امراضا اخرى ترجع اسبابها الى حالات من القلق العالي والطويل هي الداء السكري وضخامة الغدة الدرقية والربو القصبي او الجيوب الانفية .</a:t>
            </a:r>
            <a:endParaRPr b="0" lang="en-US" sz="1900" spc="-1" strike="noStrike">
              <a:solidFill>
                <a:srgbClr val="000000"/>
              </a:solidFill>
              <a:latin typeface="Constantia"/>
            </a:endParaRPr>
          </a:p>
          <a:p>
            <a:pPr marL="272880" indent="-272880" algn="r" rtl="1">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900" spc="-1" strike="noStrike">
                <a:solidFill>
                  <a:srgbClr val="000000"/>
                </a:solidFill>
                <a:latin typeface="Constantia"/>
              </a:rPr>
              <a:t>فظاهرة من هذا النوع وهي ظاهرة العصر التي لاينجو منها احد تتطلب الدراسة والتمحيص ,ولا يعفى من ذلك المدرب الرياضي الذي يتعامل مع رياضيين يتعرضون الى ظروف شد نفسي واجتماعي عال وبخاصة في رياضة المستويات العالية .ناهيك عن الاضرار الجسمية التي يسببها القلق فان للقلق العالي تأثيرا سلبيا على مهارة الرياضي وحالته النفسيه .فالرياضي القلق يتصف بالتشنج وعدم الاستقرار وبالشعور بالضعف والعجز وفقدان الثقة بالنفس والهروب من التدريبات العنيفة والخوف من المنافسة ومن الخصم ..الخ ان كل هذه الاثار تنعكس سلبا على اداء الرياضي فيرتكب الاخطاء وتضعف قابليته في انجاز المهام المكلف بها وتتأثر علاقته بزملائه ويعجز عن تحقيق المستوى المتوقع منه مؤثرا في ذلك على نفسه وعلى الفريق الذي ينتمي اليه .</a:t>
            </a:r>
            <a:endParaRPr b="0" lang="en-US" sz="1900" spc="-1" strike="noStrike">
              <a:solidFill>
                <a:srgbClr val="000000"/>
              </a:solidFill>
              <a:latin typeface="Constanti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20" name=""/>
          <p:cNvSpPr txBox="1"/>
          <p:nvPr/>
        </p:nvSpPr>
        <p:spPr>
          <a:xfrm>
            <a:off x="457200" y="259920"/>
            <a:ext cx="8229600" cy="5759640"/>
          </a:xfrm>
          <a:prstGeom prst="rect">
            <a:avLst/>
          </a:prstGeom>
          <a:noFill/>
          <a:ln w="0">
            <a:noFill/>
          </a:ln>
        </p:spPr>
        <p:txBody>
          <a:bodyPr anchor="t">
            <a:normAutofit/>
          </a:bodyPr>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لمبحث الرابع _القلق في المجال الرياضي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ن انجازات الافراد وسلوكهم هي تعبير عن جميع جوانب الشخصية .كما ان الانجازات الرياضية للفرد لاتعتمد على تطور القابليات البدنية والمهارية فقط بل تتأثر ايضا بعوامل نفسية عديدة مثل الدوافع والرغبات والقناعات والإدراك والتفكير والاستعداد النفسي والخوف والقلق ..الخ فنرى الرياضي فخورا وسعيدا عندما تنتهي جهوده بالنجاح ويكون في خيبة امل ويأس عندما يخفق .فهذه المشاعر يمكن ان تؤثر على الجهود الانجازية تأثيرا قويا ,فقد يتشجع الرياضي او يفقد شجاعته ,وقد تعبا قواه او تشل حركته ,وقد تبدو عليه اعراض حمى البداية او عدم المبالاة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ما اذا اخذنا حالة القلق في المجال الرياضي لوجدناها سلاحا ذا حشدين .فقد يكون القلق ميسرا وقد يكون معوقا .ففي الحالة الاولى يلعب القلق دور المحفز الذي يجعل الرياضي يتعرف على مصدر القلق ويهيئ نفسه بدنيا ونفسيا للتغلب عليه .وفي الحالة الثانية يعمل القلق على اعاقة العمل من خلال تأثيره السلبي على نفسية الرياضي وقد تطرقنا الى ذلك بشيء من التفصيل في المبحث الثاني من هذا الفصل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325080" y="-12082320"/>
            <a:ext cx="7128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
          <p:cNvSpPr txBox="1"/>
          <p:nvPr/>
        </p:nvSpPr>
        <p:spPr>
          <a:xfrm>
            <a:off x="457200" y="475920"/>
            <a:ext cx="8229600" cy="5543640"/>
          </a:xfrm>
          <a:prstGeom prst="rect">
            <a:avLst/>
          </a:prstGeom>
          <a:noFill/>
          <a:ln w="0">
            <a:noFill/>
          </a:ln>
        </p:spPr>
        <p:txBody>
          <a:bodyPr anchor="t">
            <a:normAutofit/>
          </a:bodyPr>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 والذي يهمنا هنا هو العوامل التي تخلق القلق عند الرياضي وتحديد نوعية القلق _ميسرا او معوقا .</a:t>
            </a:r>
            <a:endParaRPr b="0" lang="en-US" sz="2200" spc="-1" strike="noStrike">
              <a:solidFill>
                <a:srgbClr val="000000"/>
              </a:solidFill>
              <a:latin typeface="Constantia"/>
            </a:endParaRPr>
          </a:p>
          <a:p>
            <a:pPr marL="272880" indent="-2728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ن هذه العوامل كثيرة وكل منها يمكن ان يعمل في اتجاهين .فعلاقة اللاعب بالمدرب مثلا قد تخلق نوعين من القلق .فعلاقة الثقة المتبادلة بين اللاعب والمدرب وتحديد اهداف معقولة للرياضي واستخدام اساليب موضوعية في التقويم ستخلق نوعا من القلق (الحافز) عند الرياضي لتحقيق الاهداف المرسشومة له وتخطي كل العقبات التي تعترضه .اما العلاقة غير الطبيعية المبنية على الاستغلال وعلى تصيد الاخطاء وانعدام الثقة فأنها ستؤدي الى خوف وقلق ينعكس سلبا على الرياضي وعلى الفريق وعلى العلاقة بين اللاعب والمدرب تزيد الامور تعقيدا .وهكذا بالنسبة لمعظم العوامل التي تسبب القلق ,فانها تسبب قلقا ميسرا او معوقا ,ومن هذه العوامل خبرة اللاعب السل بقه وحالته التدريبية ,ومكان المنافسة ,ومستوى المنافسة,وعلاقة اللاعب بزملائه ,والمتفرجين ,والحالة المناخية,والحكم ,والنمط العصبي للرياضي ..الخ وسنتطرق الى هذه العوامل بالتفصيل وأساليب التعامل معها في الباب الثامن _الفصل الاول .</a:t>
            </a:r>
            <a:endParaRPr b="0" lang="en-US" sz="2200" spc="-1" strike="noStrike">
              <a:solidFill>
                <a:srgbClr val="000000"/>
              </a:solidFill>
              <a:latin typeface="Constantia"/>
            </a:endParaRPr>
          </a:p>
        </p:txBody>
      </p:sp>
      <p:sp>
        <p:nvSpPr>
          <p:cNvPr id="223" name="Text Box 4"/>
          <p:cNvSpPr/>
          <p:nvPr/>
        </p:nvSpPr>
        <p:spPr>
          <a:xfrm>
            <a:off x="8080200" y="2027160"/>
            <a:ext cx="184320" cy="336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9324720" y="-12114720"/>
            <a:ext cx="14292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
          <p:cNvSpPr txBox="1"/>
          <p:nvPr/>
        </p:nvSpPr>
        <p:spPr>
          <a:xfrm>
            <a:off x="395280" y="836280"/>
            <a:ext cx="8229600" cy="5111640"/>
          </a:xfrm>
          <a:prstGeom prst="rect">
            <a:avLst/>
          </a:prstGeom>
          <a:noFill/>
          <a:ln w="0">
            <a:noFill/>
          </a:ln>
        </p:spPr>
        <p:txBody>
          <a:bodyPr anchor="t">
            <a:normAutofit fontScale="97000"/>
          </a:bodyPr>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ماذكرناه سابقا بخصوص موضوع القلق وتأثيره على الانسان بشكل عام المبحث الخامس :قياس القلق :ان وعلى الرياضي </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بشكل خاص يحتم علينا دراسة هذا الموضوع بشيء من الدقة ,والخطوة الاساس في هذا المجال هي استخدام اسلوب علمي دقيق لقياس هذه الصفة .فهناك مقاييس</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عديدة لقياس القلق مطروحة بشكل جيد من قبل محمد حسن علاوي ومحمد نصر</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الدين رضوان ,ص</a:t>
            </a:r>
            <a:r>
              <a:rPr b="0" lang="ar-IQ" sz="2400" spc="-1" strike="noStrike">
                <a:solidFill>
                  <a:srgbClr val="000000"/>
                </a:solidFill>
                <a:latin typeface="Constantia"/>
              </a:rPr>
              <a:t>501</a:t>
            </a:r>
            <a:r>
              <a:rPr b="0" lang="ar-IQ" sz="2400" spc="-1" strike="noStrike">
                <a:solidFill>
                  <a:srgbClr val="000000"/>
                </a:solidFill>
                <a:latin typeface="Constantia"/>
              </a:rPr>
              <a:t>_</a:t>
            </a:r>
            <a:r>
              <a:rPr b="0" lang="ar-IQ" sz="2400" spc="-1" strike="noStrike">
                <a:solidFill>
                  <a:srgbClr val="000000"/>
                </a:solidFill>
                <a:latin typeface="Constantia"/>
              </a:rPr>
              <a:t>604</a:t>
            </a:r>
            <a:r>
              <a:rPr b="0" lang="ar-IQ" sz="2400" spc="-1" strike="noStrike">
                <a:solidFill>
                  <a:srgbClr val="000000"/>
                </a:solidFill>
                <a:latin typeface="Constantia"/>
              </a:rPr>
              <a:t>.وقد تطرقنا الى قلق الحالة والسمة في المبحث الرابع _الفصل الاول _الباب الثالث من هذا الكتاب ,ونرى من المناسب هنا ان</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ناخذ من هذا المصدر ايضا ,ص</a:t>
            </a:r>
            <a:r>
              <a:rPr b="0" lang="ar-IQ" sz="2400" spc="-1" strike="noStrike">
                <a:solidFill>
                  <a:srgbClr val="000000"/>
                </a:solidFill>
                <a:latin typeface="Constantia"/>
              </a:rPr>
              <a:t>570</a:t>
            </a:r>
            <a:r>
              <a:rPr b="0" lang="ar-IQ" sz="2400" spc="-1" strike="noStrike">
                <a:solidFill>
                  <a:srgbClr val="000000"/>
                </a:solidFill>
                <a:latin typeface="Constantia"/>
              </a:rPr>
              <a:t>_</a:t>
            </a:r>
            <a:r>
              <a:rPr b="0" lang="ar-IQ" sz="2400" spc="-1" strike="noStrike">
                <a:solidFill>
                  <a:srgbClr val="000000"/>
                </a:solidFill>
                <a:latin typeface="Constantia"/>
              </a:rPr>
              <a:t>576</a:t>
            </a:r>
            <a:r>
              <a:rPr b="0" lang="ar-IQ" sz="2400" spc="-1" strike="noStrike">
                <a:solidFill>
                  <a:srgbClr val="000000"/>
                </a:solidFill>
                <a:latin typeface="Constantia"/>
              </a:rPr>
              <a:t> اختبار القلق الميسر والقلق المعوق للرياضيين لتوضيح هذين النوعين من القلق</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a:t>
            </a:r>
            <a:endParaRPr b="0" lang="en-US" sz="2400" spc="-1" strike="noStrike">
              <a:solidFill>
                <a:srgbClr val="000000"/>
              </a:solidFill>
              <a:latin typeface="Constantia"/>
            </a:endParaRPr>
          </a:p>
          <a:p>
            <a:pPr marL="264600" indent="-264600" algn="r" rtl="1">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396000" y="-12082320"/>
            <a:ext cx="71640" cy="1375884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
          <p:cNvSpPr txBox="1"/>
          <p:nvPr/>
        </p:nvSpPr>
        <p:spPr>
          <a:xfrm>
            <a:off x="457200" y="188640"/>
            <a:ext cx="8229600" cy="5830920"/>
          </a:xfrm>
          <a:prstGeom prst="rect">
            <a:avLst/>
          </a:prstGeom>
          <a:noFill/>
          <a:ln w="0">
            <a:noFill/>
          </a:ln>
        </p:spPr>
        <p:txBody>
          <a:bodyPr anchor="t">
            <a:normAutofit/>
          </a:bodyPr>
          <a:p>
            <a:pPr marL="272880" indent="-27288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ختبار القلق الميسر والقلق المعوق للرياضيين :يهدف هذا الاختبار الى التعرف على مدى اسهام القلق في الارتقاء او الانخفاض بمستوى اداء الرياضي في المستويات الرياضية المختلفة .</a:t>
            </a:r>
            <a:endParaRPr b="0" lang="en-US" sz="2200" spc="-1" strike="noStrike">
              <a:solidFill>
                <a:srgbClr val="000000"/>
              </a:solidFill>
              <a:latin typeface="Constantia"/>
            </a:endParaRPr>
          </a:p>
          <a:p>
            <a:pPr marL="272880" indent="-27288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يشمل الاختبار (</a:t>
            </a:r>
            <a:r>
              <a:rPr b="0" lang="ar-IQ" sz="2200" spc="-1" strike="noStrike">
                <a:solidFill>
                  <a:srgbClr val="000000"/>
                </a:solidFill>
                <a:latin typeface="Constantia"/>
              </a:rPr>
              <a:t>20</a:t>
            </a:r>
            <a:r>
              <a:rPr b="0" lang="ar-IQ" sz="2200" spc="-1" strike="noStrike">
                <a:solidFill>
                  <a:srgbClr val="000000"/>
                </a:solidFill>
                <a:latin typeface="Constantia"/>
              </a:rPr>
              <a:t>)عبارة يجيب الفرد الرياضي على كل منها طبقا لدرجة انطباقها على حالته في المواقف التي تصادفه قبل او اثناء المنافسة ,وذلك على مقياس متدرج يتكون من خمس استجابات :دائما,غالبا,احيانا,نادرا,ابدا.ان اوزان العبارات عند التصحيح هي </a:t>
            </a:r>
            <a:r>
              <a:rPr b="0" lang="ar-IQ" sz="2200" spc="-1" strike="noStrike">
                <a:solidFill>
                  <a:srgbClr val="000000"/>
                </a:solidFill>
                <a:latin typeface="Constantia"/>
              </a:rPr>
              <a:t>1,2,3,4,5</a:t>
            </a:r>
            <a:r>
              <a:rPr b="0" lang="ar-IQ" sz="2200" spc="-1" strike="noStrike">
                <a:solidFill>
                  <a:srgbClr val="000000"/>
                </a:solidFill>
                <a:latin typeface="Constantia"/>
              </a:rPr>
              <a:t>,على التوالي .يتكون القلق الميسر من عشر عبارات هي </a:t>
            </a:r>
            <a:r>
              <a:rPr b="0" lang="ar-IQ" sz="2200" spc="-1" strike="noStrike">
                <a:solidFill>
                  <a:srgbClr val="000000"/>
                </a:solidFill>
                <a:latin typeface="Constantia"/>
              </a:rPr>
              <a:t>16,15,14,12,10,9,7,4,2,1</a:t>
            </a:r>
            <a:r>
              <a:rPr b="0" lang="ar-IQ" sz="2200" spc="-1" strike="noStrike">
                <a:solidFill>
                  <a:srgbClr val="000000"/>
                </a:solidFill>
                <a:latin typeface="Constantia"/>
              </a:rPr>
              <a:t>.ويتكون القلق المعوق من عشر عبارات ايضا هي :</a:t>
            </a:r>
            <a:r>
              <a:rPr b="0" lang="ar-IQ" sz="2200" spc="-1" strike="noStrike">
                <a:solidFill>
                  <a:srgbClr val="000000"/>
                </a:solidFill>
                <a:latin typeface="Constantia"/>
              </a:rPr>
              <a:t>20,19,18,17,13,11,8,6,5,2</a:t>
            </a:r>
            <a:r>
              <a:rPr b="0" lang="ar-IQ" sz="2200" spc="-1" strike="noStrike">
                <a:solidFill>
                  <a:srgbClr val="000000"/>
                </a:solidFill>
                <a:latin typeface="Constantia"/>
              </a:rPr>
              <a:t>, </a:t>
            </a:r>
            <a:endParaRPr b="0" lang="en-US" sz="2200" spc="-1" strike="noStrike">
              <a:solidFill>
                <a:srgbClr val="000000"/>
              </a:solidFill>
              <a:latin typeface="Constantia"/>
            </a:endParaRPr>
          </a:p>
          <a:p>
            <a:pPr marL="272880" indent="-27288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200" spc="-1" strike="noStrike">
                <a:solidFill>
                  <a:srgbClr val="000000"/>
                </a:solidFill>
                <a:latin typeface="Constantia"/>
              </a:rPr>
              <a:t>ان الدرجة النهائية لكل بعد هي مجموع درجات العبارات الخاصة بهذا البعد .فالدرجة العالية على بعد القلق الميسر تشير الى زيادة اسهام القلق في الارتقاء بمستوى اداء الفرد الرياضي والدرجة المنخفضة تشير الى قلة اسهام القلق في الارتقاء بمستوى اداء الفرد الرياضي .اما الدرجة العالية على بعد القلق المعوق فتدل على زيادة التاثير السلبي للقلق على مستوى اداء الفرد الرياضي والدرجة المنخفضة يدل على قلة التاثير السلبي للقلق على مستوى الاداء .</a:t>
            </a:r>
            <a:endParaRPr b="0" lang="en-US" sz="2200" spc="-1" strike="noStrike">
              <a:solidFill>
                <a:srgbClr val="000000"/>
              </a:solidFill>
              <a:latin typeface="Constanti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dd9"/>
            </a:gs>
            <a:gs pos="100000">
              <a:srgbClr val="e7f6fb"/>
            </a:gs>
          </a:gsLst>
          <a:lin ang="27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276280"/>
            <a:ext cx="8229600" cy="13842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5000" spc="-1" strike="noStrike">
                <a:solidFill>
                  <a:srgbClr val="04617b"/>
                </a:solidFill>
                <a:latin typeface="Calibri"/>
              </a:rPr>
              <a:t>شكرا لحسن الاستماع</a:t>
            </a:r>
            <a:endParaRPr b="0" lang="en-US" sz="5000" spc="-1" strike="noStrike">
              <a:solidFill>
                <a:srgbClr val="04617b"/>
              </a:solidFill>
              <a:latin typeface="Calibri"/>
            </a:endParaRPr>
          </a:p>
        </p:txBody>
      </p:sp>
      <p:sp>
        <p:nvSpPr>
          <p:cNvPr id="229" name="PlaceHolder 2"/>
          <p:cNvSpPr>
            <a:spLocks noGrp="1"/>
          </p:cNvSpPr>
          <p:nvPr>
            <p:ph/>
          </p:nvPr>
        </p:nvSpPr>
        <p:spPr>
          <a:xfrm>
            <a:off x="0" y="4149360"/>
            <a:ext cx="8229600" cy="187020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اعداد الطالب : اياد اسعد </a:t>
            </a:r>
            <a:endParaRPr b="0" lang="en-US" sz="2600" spc="-1" strike="noStrike">
              <a:solidFill>
                <a:srgbClr val="000000"/>
              </a:solidFill>
              <a:latin typeface="Constantia"/>
            </a:endParaRPr>
          </a:p>
        </p:txBody>
      </p:sp>
      <p:sp>
        <p:nvSpPr>
          <p:cNvPr id="230" name="Text Box 4"/>
          <p:cNvSpPr/>
          <p:nvPr/>
        </p:nvSpPr>
        <p:spPr>
          <a:xfrm>
            <a:off x="5407200" y="4780080"/>
            <a:ext cx="2917800" cy="1068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Tahoma"/>
              </a:rPr>
              <a:t>المرحلة :الرابعة </a:t>
            </a:r>
            <a:endParaRPr b="0" lang="en-US" sz="32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000000"/>
                </a:solidFill>
                <a:latin typeface="Tahoma"/>
              </a:rPr>
              <a:t>الشعبة :أ</a:t>
            </a:r>
            <a:endParaRPr b="0" lang="en-US" sz="3200" spc="-1" strike="noStrike">
              <a:solidFill>
                <a:srgbClr val="000000"/>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228"/>
                                        </p:tgtEl>
                                        <p:attrNameLst>
                                          <p:attrName>style.visibility</p:attrName>
                                        </p:attrNameLst>
                                      </p:cBhvr>
                                      <p:to>
                                        <p:strVal val="visible"/>
                                      </p:to>
                                    </p:set>
                                    <p:anim calcmode="lin" valueType="num">
                                      <p:cBhvr additive="repl">
                                        <p:cTn id="7" dur="1000" fill="hold"/>
                                        <p:tgtEl>
                                          <p:spTgt spid="228"/>
                                        </p:tgtEl>
                                        <p:attrNameLst>
                                          <p:attrName>ppt_x</p:attrName>
                                        </p:attrNameLst>
                                      </p:cBhvr>
                                      <p:tavLst>
                                        <p:tav tm="0">
                                          <p:val>
                                            <p:strVal val="#ppt_x-.2"/>
                                          </p:val>
                                        </p:tav>
                                        <p:tav tm="100000">
                                          <p:val>
                                            <p:strVal val="#ppt_x"/>
                                          </p:val>
                                        </p:tav>
                                      </p:tavLst>
                                    </p:anim>
                                    <p:anim calcmode="lin" valueType="num">
                                      <p:cBhvr additive="repl">
                                        <p:cTn id="8"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9" dur="1000"/>
                                        <p:tgtEl>
                                          <p:spTgt spid="22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229">
                                            <p:txEl>
                                              <p:pRg st="0" end="0"/>
                                            </p:txEl>
                                          </p:spTgt>
                                        </p:tgtEl>
                                        <p:attrNameLst>
                                          <p:attrName>style.visibility</p:attrName>
                                        </p:attrNameLst>
                                      </p:cBhvr>
                                      <p:to>
                                        <p:strVal val="visible"/>
                                      </p:to>
                                    </p:set>
                                    <p:animEffect filter="fade" transition="in">
                                      <p:cBhvr additive="repl">
                                        <p:cTn id="14" dur="500"/>
                                        <p:tgtEl>
                                          <p:spTgt spid="229">
                                            <p:txEl>
                                              <p:pRg st="0" end="0"/>
                                            </p:txEl>
                                          </p:spTgt>
                                        </p:tgtEl>
                                      </p:cBhvr>
                                    </p:animEffect>
                                    <p:anim calcmode="lin" valueType="num">
                                      <p:cBhvr additive="repl">
                                        <p:cTn id="15"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2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تمهيد </a:t>
            </a:r>
            <a:endParaRPr b="0" lang="en-US" sz="50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ان الخوف هو حالة نفسية تنتاب الفرد عند تعرضه لمواقف مفاجئه اومواقف تهدده او تهدد كيانه ؛وفي درس التربيه الرياضيه يخاف التلميذ من الجروح والكسور والرضوض وما يرافقها من الام حيث ان درس التربيه الرياضيه ملئ بالنشاطات التي تزيد من احتمال وقوع اضرار بدنيه عديدة وبدرجات مختلفة ومن الناحية النفسيه يمكن اعتبار الخوف رد فعل طبيعي وضروري لحماية النفس والمحافظة عليها </a:t>
            </a:r>
            <a:endParaRPr b="0" lang="en-US" sz="2400" spc="-1" strike="noStrike">
              <a:solidFill>
                <a:srgbClr val="000000"/>
              </a:solidFill>
              <a:latin typeface="Constantia"/>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ان ظهور مشاعر الخوف يرتبط باستجابات فسلحيه واستجابات سلوكيه فمن الاعراض الفسلجيه للخوف</a:t>
            </a:r>
            <a:endParaRPr b="0" lang="en-US" sz="2400" spc="-1" strike="noStrike">
              <a:solidFill>
                <a:srgbClr val="000000"/>
              </a:solidFill>
              <a:latin typeface="Constantia"/>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000000"/>
                </a:solidFill>
                <a:latin typeface="Constantia"/>
              </a:rPr>
              <a:t> ارتفاع ضغط الدم وتسارع النبض وزيادة التنفس والتعرف الى غير ذلك من الاستجابات التي تعبر عن  استعداداجهزة الجسم والتعبئة العامه والتهيؤ الى ردود فعل ضد ضرر محتمل الوقوع </a:t>
            </a:r>
            <a:endParaRPr b="0" lang="en-US" sz="2400" spc="-1" strike="noStrike">
              <a:solidFill>
                <a:srgbClr val="000000"/>
              </a:solidFill>
              <a:latin typeface="Constantia"/>
            </a:endParaRPr>
          </a:p>
          <a:p>
            <a:pPr marL="272880" indent="-2728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0" name="Text Box 4"/>
          <p:cNvSpPr/>
          <p:nvPr/>
        </p:nvSpPr>
        <p:spPr>
          <a:xfrm>
            <a:off x="7288200" y="682560"/>
            <a:ext cx="184320" cy="39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02" name=""/>
          <p:cNvSpPr txBox="1"/>
          <p:nvPr/>
        </p:nvSpPr>
        <p:spPr>
          <a:xfrm>
            <a:off x="539640" y="404280"/>
            <a:ext cx="8229600" cy="5688360"/>
          </a:xfrm>
          <a:prstGeom prst="rect">
            <a:avLst/>
          </a:prstGeom>
          <a:noFill/>
          <a:ln w="0">
            <a:noFill/>
          </a:ln>
        </p:spPr>
        <p:txBody>
          <a:bodyPr anchor="t">
            <a:normAutofit fontScale="95000"/>
          </a:bodyPr>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1</a:t>
            </a:r>
            <a:r>
              <a:rPr b="0" lang="ar-IQ" sz="2000" spc="-1" strike="noStrike">
                <a:solidFill>
                  <a:srgbClr val="000000"/>
                </a:solidFill>
                <a:latin typeface="Constantia"/>
              </a:rPr>
              <a:t>_ الرفض : قد يرفض التلميذ الخائف بكل عناد القيام بالعمل المكلف به .فقد يرفض التلميذ القفز على الحصان في درس التربية الرياضية او اجراء حركة معينة على العقلة او الدخول الى حوض السباحة .وقد يقترن هذا الر فض بأساليب عدائية مختلفة كالمشاجرة وعدم مراعاة النظام</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2</a:t>
            </a:r>
            <a:r>
              <a:rPr b="0" lang="ar-IQ" sz="2000" spc="-1" strike="noStrike">
                <a:solidFill>
                  <a:srgbClr val="000000"/>
                </a:solidFill>
                <a:latin typeface="Constantia"/>
              </a:rPr>
              <a:t>_الهروب :قد يستجيب التلميذ الخائف للمواقف سبب تهرب بعض التلاميذ الضعفاء في درس التربية الرياضية عندما يشعرون بان الفعاليات التي سيقومون بها في ذلك الدرس ستؤذيهم بدنيا او نفسيا اواجتماعيا وقد يصل الامر بهم الى الانقطاع عن الدراسة في اليوم الذي يدخل فيه درس التربية الرياضية في جدول الدروس </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3</a:t>
            </a:r>
            <a:r>
              <a:rPr b="0" lang="ar-IQ" sz="2000" spc="-1" strike="noStrike">
                <a:solidFill>
                  <a:srgbClr val="000000"/>
                </a:solidFill>
                <a:latin typeface="Constantia"/>
              </a:rPr>
              <a:t>_التردد :من العلامات المهمة الاخرى للخوف هي التردد الطويل في اجراء تمرين خطر .ان ذلك ينتج عن حالة صراع التلميذ عندما يتردد بين ان يعمل او لايعمل .</a:t>
            </a:r>
            <a:endParaRPr b="0" lang="en-US" sz="2000" spc="-1" strike="noStrike">
              <a:solidFill>
                <a:srgbClr val="000000"/>
              </a:solidFill>
              <a:latin typeface="Constantia"/>
            </a:endParaRPr>
          </a:p>
          <a:p>
            <a:pPr marL="259200" indent="-259200" algn="r" rtl="1">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4</a:t>
            </a:r>
            <a:r>
              <a:rPr b="0" lang="ar-IQ" sz="2000" spc="-1" strike="noStrike">
                <a:solidFill>
                  <a:srgbClr val="000000"/>
                </a:solidFill>
                <a:latin typeface="Constantia"/>
              </a:rPr>
              <a:t>_الجمود :ان حالات الخوف الشديدة قد تتعدى مرحلة التردد وطول الفترة التي يستغرقها الفرد لشروع الاستجابة الى حالة من الجمود التام بسبب هول الصدمة اوضخامة المخيف .</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000" spc="-1" strike="noStrike">
                <a:solidFill>
                  <a:srgbClr val="000000"/>
                </a:solidFill>
                <a:latin typeface="Constantia"/>
              </a:rPr>
              <a:t>5</a:t>
            </a:r>
            <a:r>
              <a:rPr b="0" lang="ar-IQ" sz="2000" spc="-1" strike="noStrike">
                <a:solidFill>
                  <a:srgbClr val="000000"/>
                </a:solidFill>
                <a:latin typeface="Constantia"/>
              </a:rPr>
              <a:t>_فقدان السيطرة عاى النفس :من الصفات الاخرى للسلوك الخائف هي فقدان السيطرة على النفس والقيام بردود فعل غير ملائمة للغرض تماما ويأتي ذلك نتيجة حالة التهيج العامة التي يسببها الخوف . </a:t>
            </a:r>
            <a:endParaRPr b="0" lang="en-US" sz="2000" spc="-1" strike="noStrike">
              <a:solidFill>
                <a:srgbClr val="000000"/>
              </a:solidFill>
              <a:latin typeface="Constantia"/>
            </a:endParaRPr>
          </a:p>
          <a:p>
            <a:pPr marL="259200" indent="-2592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04" name=""/>
          <p:cNvSpPr txBox="1"/>
          <p:nvPr/>
        </p:nvSpPr>
        <p:spPr>
          <a:xfrm>
            <a:off x="457200" y="549360"/>
            <a:ext cx="8229600" cy="5470560"/>
          </a:xfrm>
          <a:prstGeom prst="rect">
            <a:avLst/>
          </a:prstGeom>
          <a:noFill/>
          <a:ln w="0">
            <a:noFill/>
          </a:ln>
        </p:spPr>
        <p:txBody>
          <a:bodyPr anchor="t">
            <a:normAutofit fontScale="88000"/>
          </a:bodyPr>
          <a:p>
            <a:pPr marL="240120" indent="-2401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قبل ان ننتقل الى موضوع المبحث الاول (انواع القلق)لابد من التطرق الى العلاقة بين الخوف والقلق حيث ان المصطلحين يستخدمان بشكل متداخل فكلاهما يخلقان نوعا من عدم الطمأنينة وعدم الاستقرار لدى الفرد ومن اهم المميزات التي تميز الخوف عن القلق هي كون مصدر الخوف يكون معروفا في العادة ويسهل تحديده لذلك فانه ؛أي الخوف ؛يزول بزوال مصدر الخوف او الهروب منه ؛على عكس القلق الذي يتصف بالديمومة النسبية (عدا قلق الحالة)او على الاقل بطول فترة تاثيرة .اضافة الى ذلك فان شدة الخوف تتناسب مع ضخامة الخطر اما شدة القلق فهي غالبا اكبر من الخطر الحقيقي الذي يكون غير معروف كما ذكرنا سابقا ؛وعلى الرغم من وجود هذه الاختلافات تبقى العلاقة وثيقة بين الخوف والقلق الى الحد الذي يدفع البعض لاستخدام التعبيرين في سياق واحد .فالخوف اذااستمر يولد قلقا والقلق هو حالة متأتية من خوف حدث في الماضي اوقد يحدث في المستقبل </a:t>
            </a:r>
            <a:r>
              <a:rPr b="0" lang="en-US" sz="2800" spc="-1" strike="noStrike">
                <a:solidFill>
                  <a:srgbClr val="000000"/>
                </a:solidFill>
                <a:latin typeface="Constantia"/>
              </a:rPr>
              <a:t> </a:t>
            </a:r>
            <a:endParaRPr b="0" lang="en-US" sz="2800" spc="-1" strike="noStrike">
              <a:solidFill>
                <a:srgbClr val="000000"/>
              </a:solidFill>
              <a:latin typeface="Constantia"/>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6600" spc="-1" strike="noStrike">
                <a:solidFill>
                  <a:srgbClr val="04617b"/>
                </a:solidFill>
                <a:latin typeface="Calibri"/>
              </a:rPr>
              <a:t> </a:t>
            </a:r>
            <a:endParaRPr b="0" lang="en-US" sz="6600" spc="-1" strike="noStrike">
              <a:solidFill>
                <a:srgbClr val="04617b"/>
              </a:solidFill>
              <a:latin typeface="Calibri"/>
            </a:endParaRPr>
          </a:p>
        </p:txBody>
      </p:sp>
      <p:sp>
        <p:nvSpPr>
          <p:cNvPr id="206" name=""/>
          <p:cNvSpPr txBox="1"/>
          <p:nvPr/>
        </p:nvSpPr>
        <p:spPr>
          <a:xfrm>
            <a:off x="324000" y="404640"/>
            <a:ext cx="8820000" cy="5749920"/>
          </a:xfrm>
          <a:prstGeom prst="rect">
            <a:avLst/>
          </a:prstGeom>
          <a:noFill/>
          <a:ln w="0">
            <a:noFill/>
          </a:ln>
        </p:spPr>
        <p:txBody>
          <a:bodyPr anchor="t">
            <a:normAutofit fontScale="92000"/>
          </a:bodyPr>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مبحث الاول _انواع القلق :</a:t>
            </a:r>
            <a:endParaRPr b="0" lang="en-US" sz="2800" spc="-1" strike="noStrike">
              <a:solidFill>
                <a:srgbClr val="000000"/>
              </a:solidFill>
              <a:latin typeface="Constantia"/>
            </a:endParaRPr>
          </a:p>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بغية التوصل الى فهم اوسع لموضوع القلق قام علماء النفس بتقسيم القلق الى عدة انواع فمنهم من قسمه الى ثلاثة انواع حسب مصدر القلق معتمدين بذلك على طروحات عالم النفس المعروف فريدو ومنهم من قسمه الى نوعين حسب ديمومته ففي الحالة الاولىيتم التمييز بين القلق الموضوعي والقلق العصابي والقلق الاخلاقي .وفي الحالة الثانية يتم التمييز بين قلق الحالة وقلق السمة </a:t>
            </a:r>
            <a:endParaRPr b="0" lang="en-US" sz="2800" spc="-1" strike="noStrike">
              <a:solidFill>
                <a:srgbClr val="000000"/>
              </a:solidFill>
              <a:latin typeface="Constantia"/>
            </a:endParaRPr>
          </a:p>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قلق الموضوعي _ان القلق الموضوعي هو ردفعل لخطر خارجي معروف كقلق طالب في الصف السادس الاعدادي قبل دخول الامتحان الوزاري او قلقه قبل</a:t>
            </a:r>
            <a:endParaRPr b="0" lang="en-US" sz="2800" spc="-1" strike="noStrike">
              <a:solidFill>
                <a:srgbClr val="000000"/>
              </a:solidFill>
              <a:latin typeface="Constantia"/>
            </a:endParaRPr>
          </a:p>
          <a:p>
            <a:pPr marL="250920" indent="-2509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 </a:t>
            </a:r>
            <a:endParaRPr b="0" lang="en-US" sz="2800" spc="-1" strike="noStrike">
              <a:solidFill>
                <a:srgbClr val="000000"/>
              </a:solidFill>
              <a:latin typeface="Constantia"/>
            </a:endParaRPr>
          </a:p>
          <a:p>
            <a:pPr marL="250920" indent="-2509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قلقه قبل ظهور نتائج التاهيل للمشاركة في بطولة عالمية .ان مثل هذا النوع من القلق يتصف بكونه حالة مؤقتة تزول عند زوال المؤثر وهنا يمكن استخدام مصطلحي الخوف والقلق بشكل متبادل حيث ان كلاهما يعبر عن نفس الظاهرة ونفس الاعراض .</a:t>
            </a:r>
            <a:endParaRPr b="0" lang="en-US" sz="2800" spc="-1" strike="noStrike">
              <a:solidFill>
                <a:srgbClr val="000000"/>
              </a:solidFill>
              <a:latin typeface="Constantia"/>
            </a:endParaRPr>
          </a:p>
          <a:p>
            <a:pPr marL="250920" indent="-2509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08" name=""/>
          <p:cNvSpPr txBox="1"/>
          <p:nvPr/>
        </p:nvSpPr>
        <p:spPr>
          <a:xfrm>
            <a:off x="468360" y="259920"/>
            <a:ext cx="8229600" cy="6264360"/>
          </a:xfrm>
          <a:prstGeom prst="rect">
            <a:avLst/>
          </a:prstGeom>
          <a:noFill/>
          <a:ln w="0">
            <a:noFill/>
          </a:ln>
        </p:spPr>
        <p:txBody>
          <a:bodyPr anchor="t">
            <a:normAutofit fontScale="87000"/>
          </a:bodyPr>
          <a:p>
            <a:pPr marL="237240" indent="-237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قلق العصابي _ان القلق العصابي هو رد فعل غريزي مصدره غامض وأسبابه غير معروفة ويمكن غالبا في الجانب الغريزي للفرد .ان هذا النوع من القلق يشكل حالة مرضية تعيق الفرد من ممارسة حياته الطبيعية وتتصف بدرجة من الديمومة التي قد تؤدي احيانا الى ظهور بعض الاعراض الجسمية التي يسببها القلق .فمشكلة الشخص المصاب بهذا النوع من القلق هو البحث عن مصدر القلق الذي يؤكد</a:t>
            </a:r>
            <a:endParaRPr b="0" lang="en-US" sz="2800" spc="-1" strike="noStrike">
              <a:solidFill>
                <a:srgbClr val="000000"/>
              </a:solidFill>
              <a:latin typeface="Constantia"/>
            </a:endParaRPr>
          </a:p>
          <a:p>
            <a:pPr marL="237240" indent="-237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فرويد كونه يرجع عادة الى سنين سابقة تكمن في مرحلة الطفولة وبهذه الحالة يتم استخدام طرق التحليل النفسي المختلفة للبحث عن المصدر او السبب . </a:t>
            </a:r>
            <a:endParaRPr b="0" lang="en-US" sz="2800" spc="-1" strike="noStrike">
              <a:solidFill>
                <a:srgbClr val="000000"/>
              </a:solidFill>
              <a:latin typeface="Constantia"/>
            </a:endParaRPr>
          </a:p>
          <a:p>
            <a:pPr marL="237240" indent="-2372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00000"/>
                </a:solidFill>
                <a:latin typeface="Constantia"/>
              </a:rPr>
              <a:t>القلق الاخلاقي _يختلف هذا النوع من القلق عن النوعين السابقين لكونه يكمن في (الانا الاعلى )أي في الضمير .حيث ان هذا النوع من القلق يسببه ضمير الانسان نتيجة الشعور بالإثم او الخجل من فعل او سلوك معين يتقاطع مع الضمير الذي يكون السلطة العليا التي تنظم سلوك الفرد وتحاسبه على كل سلوك يتقاطع مع ذلك .فالفرد الذي يسلك سلوكا لايقبله المجتمع يعيش حالة من الصراع مع نفسه خشية اكتشاف امره مما يؤدي الى القلق وهذا مايسمى بحساب الضمير .مثله مثل الرجل الذي يخون زوجته  او المواطن الذي يخون وطنه .</a:t>
            </a:r>
            <a:endParaRPr b="0" lang="en-US" sz="2800" spc="-1" strike="noStrike">
              <a:solidFill>
                <a:srgbClr val="000000"/>
              </a:solidFill>
              <a:latin typeface="Constantia"/>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rPr>
              <a:t> </a:t>
            </a:r>
            <a:endParaRPr b="0" lang="en-US" sz="5000" spc="-1" strike="noStrike">
              <a:solidFill>
                <a:srgbClr val="04617b"/>
              </a:solidFill>
              <a:latin typeface="Calibri"/>
            </a:endParaRPr>
          </a:p>
        </p:txBody>
      </p:sp>
      <p:sp>
        <p:nvSpPr>
          <p:cNvPr id="210" name=""/>
          <p:cNvSpPr txBox="1"/>
          <p:nvPr/>
        </p:nvSpPr>
        <p:spPr>
          <a:xfrm>
            <a:off x="457200" y="189000"/>
            <a:ext cx="8229600" cy="5904000"/>
          </a:xfrm>
          <a:prstGeom prst="rect">
            <a:avLst/>
          </a:prstGeom>
          <a:noFill/>
          <a:ln w="0">
            <a:noFill/>
          </a:ln>
        </p:spPr>
        <p:txBody>
          <a:bodyPr anchor="t">
            <a:normAutofit/>
          </a:bodyPr>
          <a:p>
            <a:pPr marL="272880" indent="-27288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قلق الحالة _ان انواع القلق التي تطرقنا لها سابقا تتعلق بمصدر القلق او مسبباته .اما قلق الحالة فيمثل نوعا من التوتر وعدم الاستقرار المؤقت الذي يحدث نتيجة ظروف مبهمة ووقتية تثير الشعور بالقلق .لذا فإننا نتوقع ارتفاع بدرجة قلق الرياضي قبل المباراة مباشرة ؛وارتفاع بدرجة قلق المرشح النيابي قبل فترة الانتخابات ان هذا النوع من القلق هو مايسمى بقلق الحالة .فهو قلق وقتي يزول بزوال السبب وهو بذلك يلتقي مع القلق الوعي الموضوعي الذي سبق ذكره . </a:t>
            </a:r>
            <a:endParaRPr b="0" lang="en-US" sz="2600" spc="-1" strike="noStrike">
              <a:solidFill>
                <a:srgbClr val="000000"/>
              </a:solidFill>
              <a:latin typeface="Constantia"/>
            </a:endParaRPr>
          </a:p>
          <a:p>
            <a:pPr marL="272880" indent="-27288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قلق السمة _يختلف هذا النوع من القلق عن قلق الحالة بكونه اكثر ديمومة بحيث ان يكون سمة من سمات الششخصيه للفرد ودرجة القلق العالية لدى الفرد تمثل سمه له بغض النظر عن الحالة التي يمر بها حيث ان هذا الفرد يتصف بدرجة قلق اعلى من زملائه سواء قبل المباراة اوبعدها وقبل الامتحان اوبعده .وهكذا بالنسبة للفرد الذي يتصف بدرجة قلق واطئة فهو يتصف بهذه الصفة او السمة بغض النظر عن الظروف الوقتية التي يمر بها</a:t>
            </a:r>
            <a:endParaRPr b="0" lang="en-US" sz="2600" spc="-1" strike="noStrike">
              <a:solidFill>
                <a:srgbClr val="000000"/>
              </a:solidFill>
              <a:latin typeface="Constantia"/>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60166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04617b"/>
                </a:solidFill>
                <a:latin typeface="Calibri"/>
              </a:rPr>
              <a:t>المبحث الثاني –مستويات القلق </a:t>
            </a:r>
            <a:br>
              <a:rPr sz="2800"/>
            </a:br>
            <a:br>
              <a:rPr sz="2800"/>
            </a:br>
            <a:r>
              <a:rPr b="0" lang="ar-IQ" sz="2800" spc="-1" strike="noStrike">
                <a:solidFill>
                  <a:srgbClr val="04617b"/>
                </a:solidFill>
                <a:latin typeface="Calibri"/>
              </a:rPr>
              <a:t>ليس من الغريب ان نقول بان القلق يقترن بالحياة.فأينما وجدت الحياة</a:t>
            </a:r>
            <a:br>
              <a:rPr sz="2800"/>
            </a:br>
            <a:r>
              <a:rPr b="0" lang="ar-IQ" sz="2800" spc="-1" strike="noStrike">
                <a:solidFill>
                  <a:srgbClr val="04617b"/>
                </a:solidFill>
                <a:latin typeface="Calibri"/>
              </a:rPr>
              <a:t> وجد القلق ويختلف نوع القلق من مرحلة من مراحل العمر الى المرحلة</a:t>
            </a:r>
            <a:br>
              <a:rPr sz="2800"/>
            </a:br>
            <a:r>
              <a:rPr b="0" lang="ar-IQ" sz="2800" spc="-1" strike="noStrike">
                <a:solidFill>
                  <a:srgbClr val="04617b"/>
                </a:solidFill>
                <a:latin typeface="Calibri"/>
              </a:rPr>
              <a:t> الاخرى وكذلك مستوى القلق وتأثيره وعلى الرغم من عدم وجود فاصل</a:t>
            </a:r>
            <a:br>
              <a:rPr sz="2800"/>
            </a:br>
            <a:r>
              <a:rPr b="0" lang="ar-IQ" sz="2800" spc="-1" strike="noStrike">
                <a:solidFill>
                  <a:srgbClr val="04617b"/>
                </a:solidFill>
                <a:latin typeface="Calibri"/>
              </a:rPr>
              <a:t> بين درجات القلق المختلفة لكن يمكن تقسيم مستوى القلق بشكل عام والمستوى العالي </a:t>
            </a:r>
            <a:endParaRPr b="0" lang="en-US" sz="28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rPr>
              <a:t> </a:t>
            </a:r>
            <a:endParaRPr b="0" lang="en-US" sz="2600" spc="-1" strike="noStrike">
              <a:solidFill>
                <a:srgbClr val="000000"/>
              </a:solidFill>
              <a:latin typeface="Constantia"/>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17b"/>
              </a:solidFill>
              <a:latin typeface="Calibri"/>
            </a:endParaRPr>
          </a:p>
        </p:txBody>
      </p:sp>
      <p:sp>
        <p:nvSpPr>
          <p:cNvPr id="214" name=""/>
          <p:cNvSpPr txBox="1"/>
          <p:nvPr/>
        </p:nvSpPr>
        <p:spPr>
          <a:xfrm>
            <a:off x="457200" y="259920"/>
            <a:ext cx="8229600" cy="5759640"/>
          </a:xfrm>
          <a:prstGeom prst="rect">
            <a:avLst/>
          </a:prstGeom>
          <a:noFill/>
          <a:ln w="0">
            <a:noFill/>
          </a:ln>
        </p:spPr>
        <p:txBody>
          <a:bodyPr anchor="t">
            <a:normAutofit/>
          </a:bodyPr>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المستوى الواطئ _ان درجة معينة من القلق تعتبر ضرورية تساعد في الاستعداد لمجابهة متطلبات</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الحياة لذا فان مستوى واطئا من القلق يعمل عمل الدافع او الحافز او العنصر المنشط للفرد .لذا فان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قلق الطالب قبل الامتحان سيدفعه الى الدراسة وقلق اللاعب قبل السباق سيدفعه الى التمرين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المستمر استعداد للسباق وسيجعله متحفزا ومستعدا لبذل الجهد على الوجه الامثل لتحقيق الانجاز</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الافضل وتجنب حالة عدم المبالاة .لذا يجد المدرب نفسه مضطرا في بعض الاحيان لشحن الرياضيين (أي تحقيق درجة من القلق المناسب)ليهيئهم لخوض المباراة خاصة عندما تحصل لديه القناعه</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بوجود نوع من عدم المبالاة او عدم الاكتراث او عدم الاستعداد النفسي لديهم لخوض المباراة ان هذا النوع من القلق المنخفض الذي يعمل عمل الدافع المنشط يسمى احيانا ب(القلق الميسر)أي القلق</a:t>
            </a: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1900" spc="-1" strike="noStrike">
                <a:solidFill>
                  <a:srgbClr val="000000"/>
                </a:solidFill>
                <a:latin typeface="Constantia"/>
              </a:rPr>
              <a:t> المفيد الذي يزيد استعداد الفرد لمجابهة الظروف الخارجية دون الحد من قدرته على السيطرة التامة على الشكل .</a:t>
            </a:r>
            <a:endParaRPr b="0" lang="en-US" sz="1900" spc="-1" strike="noStrike">
              <a:solidFill>
                <a:srgbClr val="000000"/>
              </a:solidFill>
              <a:latin typeface="Constantia"/>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7T03:18:59Z</dcterms:created>
  <dc:creator>aiad</dc:creator>
  <dc:description/>
  <dc:language>en-US</dc:language>
  <cp:lastModifiedBy>Maher</cp:lastModifiedBy>
  <cp:lastPrinted>2010-11-08T14:35:53Z</cp:lastPrinted>
  <dcterms:modified xsi:type="dcterms:W3CDTF">2018-12-10T16:47:06Z</dcterms:modified>
  <cp:revision>14</cp:revision>
  <dc:subject/>
  <dc:title>وزارة التعليم العالي والبحث العلمي  </dc:title>
</cp:coreProperties>
</file>