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8B7F-CCC1-4517-9F34-6A3AABFB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CE9E-DBDF-4C07-B62A-B046B4B1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93A3-2A84-4371-9A91-6BA43E10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CBD6-EE53-4226-8846-DF1B997D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8F77-4D02-488B-98A5-28BD8056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F32D-62E4-4B6C-B080-EEA822AB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4CD-37EB-4870-B6A2-5E71D29E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008B-9B03-4532-A02D-BB5840C5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E510-C116-4AC1-A95E-93899CDC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F4CC-8309-4DA9-A01F-9F709E88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E13B-5E7E-43AF-92E5-8D721A27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BF61-DEBF-46BC-8B20-7A7757E1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BA64-678F-4F89-B316-750DF1AD16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464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3200" spc="-1" strike="noStrike">
                <a:solidFill>
                  <a:srgbClr val="000000"/>
                </a:solidFill>
                <a:latin typeface="Arial"/>
              </a:rPr>
              <a:t>تأثير تمرينات خاصة في تنمية القوة العضلية وسرعة وزاوية الانطلاق وانجاز رمي القرص لذوي الإعاقة البدنية</a:t>
            </a:r>
            <a:br>
              <a:rPr sz="3200"/>
            </a:br>
            <a:r>
              <a:rPr b="1" lang="ar-IQ" sz="3200" spc="-1" strike="noStrike">
                <a:solidFill>
                  <a:srgbClr val="000000"/>
                </a:solidFill>
                <a:latin typeface="Arial"/>
              </a:rPr>
              <a:t>أ.د فلاح مهدي عبو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عنوان 1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Arial"/>
              </a:rPr>
              <a:t>     المقدمة ومشكلة البح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عنوان 1"/>
          <p:cNvSpPr/>
          <p:nvPr/>
        </p:nvSpPr>
        <p:spPr>
          <a:xfrm>
            <a:off x="457200" y="1371600"/>
            <a:ext cx="8229600" cy="3809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  *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ن استخدام التدريب الرياضي في الالعاب الرياضية وخصوصا في العاب القوى ومنها فعاليات الرمي التي تحتاج الى التدريب البدني الخاص من اجل تحسين الاداء البدني لدى لاعبي المعاقين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، ومن هنا </a:t>
            </a:r>
            <a:r>
              <a:rPr b="1" lang="ar-IQ" sz="2000" spc="-1" strike="noStrike">
                <a:solidFill>
                  <a:srgbClr val="000000"/>
                </a:solidFill>
                <a:latin typeface="Arial"/>
              </a:rPr>
              <a:t>تتضمن اهمية 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البحث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في اعدالد تمرينات خاصة في تطوير القوه العضلية وسرعة وزاوية الانطلاق وانجاز رمي القرص لذوي الاعاقة البدني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 * وتتضمن مشكلة البحث في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متابعة والملاحظة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 فان لاعبي رمي القرص يحتاجون التكنيك الصحيح حتى يتم تطبيق حركة رمي القرص وخصوصا لذوي الاعاقة البدنية وفق فئة (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) وبهذا وجد الباحث ضرورة ملحة في اعداد منهج تدريبي لتطوير القوة العضلية وسرعة وزاوية الانطلاق وانجاز رمي القرص لذوي الاعاقة البدنية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عنوان 1"/>
          <p:cNvSpPr/>
          <p:nvPr/>
        </p:nvSpPr>
        <p:spPr>
          <a:xfrm>
            <a:off x="304920" y="228600"/>
            <a:ext cx="8534160" cy="762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Arial"/>
              </a:rPr>
              <a:t>    أهداف البح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عنوان 1"/>
          <p:cNvSpPr/>
          <p:nvPr/>
        </p:nvSpPr>
        <p:spPr>
          <a:xfrm>
            <a:off x="457200" y="990720"/>
            <a:ext cx="8229600" cy="259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اعداد تمرينات خاصة في تطوير القوه الانفجارية والقوة المميزة بالسرعة وسرعة وزاوية الانطلاق وانجاز رمي القرص لذوي الاعاقة البدني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التعرف على الفروق بين الاختبار القبلي والبعدي في تطوير القوه الانفجارية والقوة المميزة بالسرعة وسرعة وزاوية الانطلاق وانجاز رمي القرص لذوي الاعاقة البدنية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457200" y="3657600"/>
            <a:ext cx="8229600" cy="762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Arial"/>
              </a:rPr>
              <a:t> المنهج وعينة البح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457200" y="4343400"/>
            <a:ext cx="8229600" cy="1600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ااستخدم الباحثون المنهج التجريبي لملائمة طبيعة المشكلة . وقد قاموا بتحديد مجتمع البحث من المعاقسن لنادي البصرة الرياضي فئة (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) في فعالية رمي القرص والبالغ عدده( 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)لاعب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عنوان 1"/>
          <p:cNvSpPr/>
          <p:nvPr/>
        </p:nvSpPr>
        <p:spPr>
          <a:xfrm>
            <a:off x="609480" y="228600"/>
            <a:ext cx="8229600" cy="762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IQ" sz="2800" spc="-1" strike="noStrike">
                <a:solidFill>
                  <a:srgbClr val="000000"/>
                </a:solidFill>
                <a:latin typeface="Arial"/>
              </a:rPr>
              <a:t>التصوير بالفيدي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457200" y="1371600"/>
            <a:ext cx="8229600" cy="3809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م استخدام التصوير الفيديو لمعرفة مسار حركة اللاعب من خلال رسم مسارات نقاط الجسم نتيجة تحدید المسار الهندسي للجسم عن طریق استخدام مقیاس الرسم ، وعلى هذا الأساس تم تصویر عینة البحث بوساطة آلة ذات سرعة تردد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صو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ثانیة ، وقد نصبت آلة التصویر الفیدیوي على حامل ثلاثي كبیر وقد تم وضع الكامیرا عمودیة على يسار اللاعب وكان ارتفاع  منتصف العدس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عن الأرض وعلى بعد (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30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م ) عن أداء الحركة ، ، واستخدم الباحثون مقیاس رسم اذ كان  كل (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١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م)  بالطبیعة واستخدمت هذه لاستخراج  المتغيرات الكينماتيكية سرعة وزاوية الانطلاق . 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المسافة بين بؤرة العدسة وسطح الار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عنوان 1"/>
          <p:cNvSpPr/>
          <p:nvPr/>
        </p:nvSpPr>
        <p:spPr>
          <a:xfrm>
            <a:off x="609480" y="76320"/>
            <a:ext cx="8077320" cy="1066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اجراءات البحث الميدان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457200" y="1371600"/>
            <a:ext cx="8229600" cy="487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ختبار الأداء الفني (التكنیك) لمهارة رمي القر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غرض من الاختبار: الأداء الفني (التكنیك) لرمي القرص وحسب الشروط القانونیة للفعالیة . الأدروات المستخدمة : دائرة رمي قانونية ، اداة رمي ، شريط قياس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صف الأداء: يقوم اللاعب المختبر بأداء مهارة رمي القرص من الثبات باستخدام الكرسي المتحرك لاداء ثلاث محاولات لاختيار افضلها 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اختبار رمي الكرة الطبية وزن (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) كغم باليدين من وضع الجلوس على الكرسي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تحر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غرض من الاختبار : قياس القوه الانفجار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وصف الأدا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يجلس المختبر على كرسي المتحرك والكرة الطبية محمولة باليدين فوق الرس والجذع مربوط بحزام مع الكرسي لمنع الحركة مع رمي الكرة الطبية ، مع اعطاء ثلاث محاولات تسجل افضلها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3-5-3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اختبار السحب على العقلة (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) ثانية من وضع الجلوس على الكرسي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تحر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غرض من الاختبار : قياس القوه المميزه بالسرعة لعضلات الذراع والكتف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وصف الأدا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يجب ان يكون ارتفاع العقلة مناسبا بحث يكون لمسها بواسطة رفع الذراعين عاليا من وضع الجلوس على الكرسي ، مع تسجيل عدد المرات الاداء وخلال (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) ثاني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4880" y="837720"/>
            <a:ext cx="8229600" cy="4876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اختبارات القبلية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  أجرى الباحثان الاختبار القبلي بتاريخ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في ملعب نادي البصرة لرياضة المعاقين وقد تضمنت الاختبارات القوة العضلية وانجاز رمي القر 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ar-IQ" sz="2000" spc="-1" strike="noStrike">
                <a:solidFill>
                  <a:srgbClr val="000000"/>
                </a:solidFill>
                <a:latin typeface="Arial"/>
              </a:rPr>
              <a:t>التمارين الخاصة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   لقد قام الباحثان باعداد التمرينات الخاصة شملت الاداء المهاري ( التكنيك ) والبدني ، حيث تم تنفيذ المنهج بتاريخ  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ولغاية  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وبواقع (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) وحدات للايام ( الاحد والثلاثاء والخميس ) ولمدة (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) اسابيع وكانت الشدة مابين (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% ) .</a:t>
            </a:r>
            <a:br>
              <a:rPr sz="2000"/>
            </a:br>
            <a:r>
              <a:rPr b="1" lang="ar-IQ" sz="2000" spc="-1" strike="noStrike">
                <a:solidFill>
                  <a:srgbClr val="000000"/>
                </a:solidFill>
                <a:latin typeface="Arial"/>
              </a:rPr>
              <a:t> الاختبارات البعدية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  أجرى الباحثان الاختبار البعدي بتاريخ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2017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في ملعب نادي البصرة لرياضة المعاقين وقد تضمنت اختبارات القوة العضلية وانجاز رمي القر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80880" y="152280"/>
            <a:ext cx="8305920" cy="533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Arial"/>
              </a:rPr>
              <a:t>التجربة الرئيس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وان 1"/>
          <p:cNvSpPr/>
          <p:nvPr/>
        </p:nvSpPr>
        <p:spPr>
          <a:xfrm>
            <a:off x="380880" y="228600"/>
            <a:ext cx="8305920" cy="685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Simplified Arabic"/>
              </a:rPr>
              <a:t>عرض ومناقشة النتائ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Simplified Arabic"/>
              </a:rPr>
              <a:t>4-1</a:t>
            </a:r>
            <a:r>
              <a:rPr b="1" lang="ar-SA" sz="2000" spc="-1" strike="noStrike">
                <a:solidFill>
                  <a:srgbClr val="000000"/>
                </a:solidFill>
                <a:latin typeface="Simplified Arabic"/>
              </a:rPr>
              <a:t> </a:t>
            </a:r>
            <a:r>
              <a:rPr b="1" lang="ar-IQ" sz="2000" spc="-1" strike="noStrike">
                <a:solidFill>
                  <a:srgbClr val="000000"/>
                </a:solidFill>
                <a:latin typeface="Arial"/>
              </a:rPr>
              <a:t>عرض ومناقشة نتائج الاختبارات القبلية والبعدية القوة الانفجارية والقوة المميزة بالسرع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914400" y="794520"/>
            <a:ext cx="693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1600" spc="-1" strike="noStrike">
                <a:solidFill>
                  <a:srgbClr val="000000"/>
                </a:solidFill>
                <a:latin typeface="Arial"/>
              </a:rPr>
              <a:t>جدول (</a:t>
            </a:r>
            <a:r>
              <a:rPr b="1" lang="ar-IQ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IQ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1600" spc="-1" strike="noStrike">
                <a:solidFill>
                  <a:srgbClr val="000000"/>
                </a:solidFill>
                <a:latin typeface="Arial"/>
              </a:rPr>
              <a:t>يبين الوسط الحسابي والانحراف المعياري وقيمة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ar-IQ" sz="1600" spc="-1" strike="noStrike">
                <a:solidFill>
                  <a:srgbClr val="000000"/>
                </a:solidFill>
                <a:latin typeface="Arial"/>
              </a:rPr>
              <a:t> المحسوبة والدلالة الإحصائية لأفراد عينة البح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62120" y="1828800"/>
          <a:ext cx="7467480" cy="4191120"/>
        </p:xfrm>
        <a:graphic>
          <a:graphicData uri="http://schemas.openxmlformats.org/drawingml/2006/table">
            <a:tbl>
              <a:tblPr/>
              <a:tblGrid>
                <a:gridCol w="811080"/>
                <a:gridCol w="811080"/>
                <a:gridCol w="811440"/>
                <a:gridCol w="744480"/>
                <a:gridCol w="743040"/>
                <a:gridCol w="823680"/>
                <a:gridCol w="825480"/>
                <a:gridCol w="1897200"/>
              </a:tblGrid>
              <a:tr h="5634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نتيج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دلالة الإحصائ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(</a:t>
                      </a: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0.05</a:t>
                      </a: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قيمة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T</a:t>
                      </a: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المحسوبة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اختبار البع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اختبار القبل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تغي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168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الانحراف المعياري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الوسط الحسابي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الانحراف المعياري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الوسط الحسابي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6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معنوي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7.6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.9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5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.5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Simplified Arabic"/>
                          <a:ea typeface="Calibri"/>
                        </a:rPr>
                        <a:t>4.3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القوة الانفجارية / مت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معنوي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8.9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.6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7.6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.4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5.8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القوة المميزة بالسرعة / عد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-109080" y="459000"/>
            <a:ext cx="963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1600" spc="-1" strike="noStrike">
                <a:solidFill>
                  <a:srgbClr val="000000"/>
                </a:solidFill>
                <a:latin typeface="Arial"/>
              </a:rPr>
              <a:t>جدول (</a:t>
            </a:r>
            <a:r>
              <a:rPr b="1" lang="ar-IQ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IQ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1600" spc="-1" strike="noStrike">
                <a:solidFill>
                  <a:srgbClr val="000000"/>
                </a:solidFill>
                <a:latin typeface="Arial"/>
              </a:rPr>
              <a:t>يبين الوسط الحسابي والانحراف المعياري وقيمة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ar-IQ" sz="1600" spc="-1" strike="noStrike">
                <a:solidFill>
                  <a:srgbClr val="000000"/>
                </a:solidFill>
                <a:latin typeface="Arial"/>
              </a:rPr>
              <a:t> المحسوبة والدلالة الإحصائية لأفراد عينة البح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1295280"/>
          <a:ext cx="7391160" cy="4267440"/>
        </p:xfrm>
        <a:graphic>
          <a:graphicData uri="http://schemas.openxmlformats.org/drawingml/2006/table">
            <a:tbl>
              <a:tblPr/>
              <a:tblGrid>
                <a:gridCol w="838080"/>
                <a:gridCol w="836640"/>
                <a:gridCol w="838080"/>
                <a:gridCol w="766800"/>
                <a:gridCol w="795240"/>
                <a:gridCol w="851040"/>
                <a:gridCol w="851040"/>
                <a:gridCol w="1614240"/>
              </a:tblGrid>
              <a:tr h="4287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نتيج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دلالة الإحصائ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(</a:t>
                      </a: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0.05</a:t>
                      </a: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قيمة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T</a:t>
                      </a: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المحسوب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اختبار البعد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اختبار القبل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2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تغيرات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12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الانحراف المعياري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الوسط الحسابي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الانحراف المعياري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الوسط الحسابي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معنوي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4.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.6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2.9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.6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10.7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سرعة الانطلاق م/ث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معنوي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6.8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.6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9.3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.4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7.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زاوية الانطلاق / درج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معنوي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3.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.6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5.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0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ea typeface="Simplified Arabic"/>
                        </a:rPr>
                        <a:t>24.2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1100" spc="-1" strike="noStrike">
                          <a:solidFill>
                            <a:srgbClr val="000000"/>
                          </a:solidFill>
                          <a:latin typeface="Calibri"/>
                          <a:cs typeface="Simplified Arabic"/>
                        </a:rPr>
                        <a:t>الانجاز / مت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380880" y="152280"/>
            <a:ext cx="8305920" cy="533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استنتاجات والتوصي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4880" y="838080"/>
            <a:ext cx="8229600" cy="5562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استنتاجات</a:t>
            </a:r>
            <a:r>
              <a:rPr b="1" lang="ar-IQ" sz="2000" spc="-1" strike="noStrike">
                <a:solidFill>
                  <a:srgbClr val="000000"/>
                </a:solidFill>
                <a:latin typeface="Arial"/>
              </a:rPr>
              <a:t> الاستنتاجات </a:t>
            </a:r>
            <a:br>
              <a:rPr sz="2000"/>
            </a:b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ان التمرينات الخاصة كان لها الاثر في تحسين وتطوير القوة الانفجارية والقوة المميزة بالسرعة وانجاز رمي القرص لذوي الاحتياجات الخاصة .</a:t>
            </a:r>
            <a:br>
              <a:rPr sz="2000"/>
            </a:b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هناك تباين بين الاختبارات القبلية والبعدية ولصالح الاختبارات البعدية لمتغيري القدرة الانفجارية والقوة المميزة بالسرعة ولصالح الاختبار البعدي .</a:t>
            </a:r>
            <a:br>
              <a:rPr sz="2000"/>
            </a:b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هناك تباين بين الاختبارات القبلية والبعدية ولصالح الاختبارات البعدية في انجاز رمي القرص ولصالح الاختبار البعدي.</a:t>
            </a:r>
            <a:br>
              <a:rPr sz="2000"/>
            </a:br>
            <a:r>
              <a:rPr b="1" lang="ar-IQ" sz="2000" spc="-1" strike="noStrike">
                <a:solidFill>
                  <a:srgbClr val="000000"/>
                </a:solidFill>
                <a:latin typeface="Arial"/>
              </a:rPr>
              <a:t>التوصيات</a:t>
            </a:r>
            <a:br>
              <a:rPr sz="2000"/>
            </a:b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ضرورة الاهتمام بالتحليل الحركي لفعالية رمي القرص لذوي الاحتياجات الخاصة .</a:t>
            </a:r>
            <a:br>
              <a:rPr sz="2000"/>
            </a:b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التاكيد على مراحل الرمي من خلال تحسين زمن سرعة اداء الرمي . </a:t>
            </a:r>
            <a:br>
              <a:rPr sz="2000"/>
            </a:br>
            <a:r>
              <a:rPr b="0" lang="ar-IQ" sz="2000" spc="-1" strike="noStrike">
                <a:solidFill>
                  <a:srgbClr val="000000"/>
                </a:solidFill>
                <a:latin typeface="Arial"/>
              </a:rPr>
              <a:t>إجراء دراسة مشابهة على عينات من فئات ومتغيرات ميكانيكية اخرى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6:28:09Z</dcterms:created>
  <dc:creator>Computer</dc:creator>
  <dc:description/>
  <dc:language>en-US</dc:language>
  <cp:lastModifiedBy>د. فلاح</cp:lastModifiedBy>
  <dcterms:modified xsi:type="dcterms:W3CDTF">2018-12-10T18:30:07Z</dcterms:modified>
  <cp:revision>121</cp:revision>
  <dc:subject/>
  <dc:title>أجهزة الجسم و وظائفها الحيوية </dc:title>
</cp:coreProperties>
</file>