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C9C5-5AEF-44FF-A92D-A50557C5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B19C-96F5-43BB-A2EF-C2954527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F9BC-1782-4066-B8C1-79713532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2F4-0E10-41E5-95DD-B924FE83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8614-E1C4-43B3-B797-C27DAE35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44AC-A625-47D4-BCD7-7E28C169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592-4D6F-418B-A998-59E0EDCC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68F-5AC1-4C4D-B296-9258FC39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31D-4574-4566-8128-AA7542BC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31E-8C3A-4ABA-906F-587401A2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9611-0EA7-48DF-802A-36B72581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8556-7D50-4946-9CA2-A22184B9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5549-8E41-4D66-A464-8BC7B6778B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464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000000"/>
                </a:solidFill>
                <a:latin typeface="Arial"/>
              </a:rPr>
              <a:t>تأثير تمرينات خاصة في تنمية القوة العضلية وسرعة وزاوية الانطلاق وانجاز رمي القرص لذوي الإعاقة البدنية</a:t>
            </a:r>
            <a:br>
              <a:rPr sz="3200"/>
            </a:br>
            <a:r>
              <a:rPr b="1" lang="ar-IQ" sz="3200" spc="-1" strike="noStrike">
                <a:solidFill>
                  <a:srgbClr val="000000"/>
                </a:solidFill>
                <a:latin typeface="Arial"/>
              </a:rPr>
              <a:t>أ.د فلاح مهدي عبو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عنوان 1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Arial"/>
              </a:rPr>
              <a:t>     المقدمة ومشكلة البح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عنوان 1"/>
          <p:cNvSpPr/>
          <p:nvPr/>
        </p:nvSpPr>
        <p:spPr>
          <a:xfrm>
            <a:off x="457200" y="1371600"/>
            <a:ext cx="8229600" cy="3809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  *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ن استخدام التدريب الرياضي في الالعاب الرياضية وخصوصا في العاب القوى ومنها فعاليات الرمي التي تحتاج الى التدريب البدني الخاص من اجل تحسين الاداء البدني لدى لاعبي المعاقين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، ومن هنا </a:t>
            </a:r>
            <a:r>
              <a:rPr b="1" lang="ar-IQ" sz="2000" spc="-1" strike="noStrike">
                <a:solidFill>
                  <a:srgbClr val="000000"/>
                </a:solidFill>
                <a:latin typeface="Arial"/>
              </a:rPr>
              <a:t>تتضمن اهمية 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البحث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في اعدالد تمرينات خاصة في تطوير القوه العضلية وسرعة وزاوية الانطلاق وانجاز رمي القرص لذوي الاعاقة البدني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 * وتتضمن مشكلة البحث في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متابعة والملاحظة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 فان لاعبي رمي القرص يحتاجون التكنيك الصحيح حتى يتم تطبيق حركة رمي القرص وخصوصا لذوي الاعاقة البدنية وفق فئة (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) وبهذا وجد الباحث ضرورة ملحة في اعداد منهج تدريبي لتطوير القوة العضلية وسرعة وزاوية الانطلاق وانجاز رمي القرص لذوي الاعاقة البدنية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عنوان 1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Arial"/>
              </a:rPr>
              <a:t>    أهداف البح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عنوان 1"/>
          <p:cNvSpPr/>
          <p:nvPr/>
        </p:nvSpPr>
        <p:spPr>
          <a:xfrm>
            <a:off x="457200" y="990720"/>
            <a:ext cx="8229600" cy="259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اعداد تمرينات خاصة في تطوير القوه الانفجارية والقوة المميزة بالسرعة وسرعة وزاوية الانطلاق وانجاز رمي القرص لذوي الاعاقة البدني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التعرف على الفروق بين الاختبار القبلي والبعدي في تطوير القوه الانفجارية والقوة المميزة بالسرعة وسرعة وزاوية الانطلاق وانجاز رمي القرص لذوي الاعاقة البدنية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457200" y="3657600"/>
            <a:ext cx="8229600" cy="762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Arial"/>
              </a:rPr>
              <a:t> المنهج وعينة البح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457200" y="4343400"/>
            <a:ext cx="8229600" cy="1600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ااستخدم الباحثون المنهج التجريبي لملائمة طبيعة المشكلة . وقد قاموا بتحديد مجتمع البحث من المعاقسن لنادي البصرة الرياضي فئة (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) في فعالية رمي القرص والبالغ عدده( 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)لاعب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عنوان 1"/>
          <p:cNvSpPr/>
          <p:nvPr/>
        </p:nvSpPr>
        <p:spPr>
          <a:xfrm>
            <a:off x="609480" y="228600"/>
            <a:ext cx="8229600" cy="762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IQ" sz="2800" spc="-1" strike="noStrike">
                <a:solidFill>
                  <a:srgbClr val="000000"/>
                </a:solidFill>
                <a:latin typeface="Arial"/>
              </a:rPr>
              <a:t>التصوير بالفيدي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457200" y="1371600"/>
            <a:ext cx="8229600" cy="3809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م استخدام التصوير الفيديو لمعرفة مسار حركة اللاعب من خلال رسم مسارات نقاط الجسم نتيجة تحدید المسار الهندسي للجسم عن طریق استخدام مقیاس الرسم ، وعلى هذا الأساس تم تصویر عینة البحث بوساطة آلة ذات سرعة تردد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صو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ثانیة ، وقد نصبت آلة التصویر الفیدیوي على حامل ثلاثي كبیر وقد تم وضع الكامیرا عمودیة على يسار اللاعب وكان ارتفاع  منتصف العدس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عن الأرض وعلى بعد 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3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م ) عن أداء الحركة ، ، واستخدم الباحثون مقیاس رسم اذ كان  كل (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١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م)  بالطبیعة واستخدمت هذه لاستخراج  المتغيرات الكينماتيكية سرعة وزاوية الانطلاق . 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المسافة بين بؤرة العدسة وسطح الار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عنوان 1"/>
          <p:cNvSpPr/>
          <p:nvPr/>
        </p:nvSpPr>
        <p:spPr>
          <a:xfrm>
            <a:off x="609480" y="76320"/>
            <a:ext cx="8077320" cy="1066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اجراءات البحث الميدان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457200" y="1371600"/>
            <a:ext cx="822960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ختبار الأداء الفني (التكنیك) لمهارة رمي القر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غرض من الاختبار: الأداء الفني (التكنیك) لرمي القرص وحسب الشروط القانونیة للفعالیة . الأدروات المستخدمة : دائرة رمي قانونية ، اداة رمي ، شريط قياس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صف الأداء: يقوم اللاعب المختبر بأداء مهارة رمي القرص من الثبات باستخدام الكرسي المتحرك لاداء ثلاث محاولات لاختيار افضلها 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ختبار رمي الكرة الطبية وزن (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) كغم باليدين من وضع الجلوس على الكرسي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تحر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غرض من الاختبار : قياس القوه الانفجار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وصف الأدا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يجلس المختبر على كرسي المتحرك والكرة الطبية محمولة باليدين فوق الرس والجذع مربوط بحزام مع الكرسي لمنع الحركة مع رمي الكرة الطبية ، مع اعطاء ثلاث محاولات تسجل افضلها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-5-3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ختبار السحب على العقلة (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) ثانية من وضع الجلوس على الكرسي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تحر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غرض من الاختبار : قياس القوه المميزه بالسرعة لعضلات الذراع والكتف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وصف الأدا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يجب ان يكون ارتفاع العقلة مناسبا بحث يكون لمسها بواسطة رفع الذراعين عاليا من وضع الجلوس على الكرسي ، مع تسجيل عدد المرات الاداء وخلال (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) ثاني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4880" y="837720"/>
            <a:ext cx="8229600" cy="4876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اختبارات القبلية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 أجرى الباحثان الاختبار القبلي بتاريخ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في ملعب نادي البصرة لرياضة المعاقين وقد تضمنت الاختبارات القوة العضلية وانجاز رمي القر 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ar-IQ" sz="2000" spc="-1" strike="noStrike">
                <a:solidFill>
                  <a:srgbClr val="000000"/>
                </a:solidFill>
                <a:latin typeface="Arial"/>
              </a:rPr>
              <a:t>التمارين الخاصة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  لقد قام الباحثان باعداد التمرينات الخاصة شملت الاداء المهاري ( التكنيك ) والبدني ، حيث تم تنفيذ المنهج بتاريخ  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ولغاية  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وبواقع (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) وحدات للايام ( الاحد والثلاثاء والخميس ) ولمدة 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) اسابيع وكانت الشدة مابين (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% ) .</a:t>
            </a:r>
            <a:br>
              <a:rPr sz="2000"/>
            </a:br>
            <a:r>
              <a:rPr b="1" lang="ar-IQ" sz="2000" spc="-1" strike="noStrike">
                <a:solidFill>
                  <a:srgbClr val="000000"/>
                </a:solidFill>
                <a:latin typeface="Arial"/>
              </a:rPr>
              <a:t> الاختبارات البعدية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 أجرى الباحثان الاختبار البعدي بتاريخ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في ملعب نادي البصرة لرياضة المعاقين وقد تضمنت اختبارات القوة العضلية وانجاز رمي القر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80880" y="152280"/>
            <a:ext cx="8305920" cy="533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Arial"/>
              </a:rPr>
              <a:t>التجربة الرئيس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380880" y="228600"/>
            <a:ext cx="8305920" cy="685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Simplified Arabic"/>
              </a:rPr>
              <a:t>عرض ومناقشة النتائ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Simplified Arabic"/>
              </a:rPr>
              <a:t>4-1</a:t>
            </a:r>
            <a:r>
              <a:rPr b="1" lang="ar-SA" sz="2000" spc="-1" strike="noStrike">
                <a:solidFill>
                  <a:srgbClr val="000000"/>
                </a:solidFill>
                <a:latin typeface="Simplified Arabic"/>
              </a:rPr>
              <a:t> </a:t>
            </a:r>
            <a:r>
              <a:rPr b="1" lang="ar-IQ" sz="2000" spc="-1" strike="noStrike">
                <a:solidFill>
                  <a:srgbClr val="000000"/>
                </a:solidFill>
                <a:latin typeface="Arial"/>
              </a:rPr>
              <a:t>عرض ومناقشة نتائج الاختبارات القبلية والبعدية القوة الانفجارية والقوة المميزة بالسرع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914400" y="794520"/>
            <a:ext cx="693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1600" spc="-1" strike="noStrike">
                <a:solidFill>
                  <a:srgbClr val="000000"/>
                </a:solidFill>
                <a:latin typeface="Arial"/>
              </a:rPr>
              <a:t>جدول (</a:t>
            </a:r>
            <a:r>
              <a:rPr b="1" lang="ar-IQ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IQ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1600" spc="-1" strike="noStrike">
                <a:solidFill>
                  <a:srgbClr val="000000"/>
                </a:solidFill>
                <a:latin typeface="Arial"/>
              </a:rPr>
              <a:t>يبين الوسط الحسابي والانحراف المعياري وقيمة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ar-IQ" sz="1600" spc="-1" strike="noStrike">
                <a:solidFill>
                  <a:srgbClr val="000000"/>
                </a:solidFill>
                <a:latin typeface="Arial"/>
              </a:rPr>
              <a:t> المحسوبة والدلالة الإحصائية لأفراد عينة البح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62120" y="1828800"/>
          <a:ext cx="7467480" cy="4191120"/>
        </p:xfrm>
        <a:graphic>
          <a:graphicData uri="http://schemas.openxmlformats.org/drawingml/2006/table">
            <a:tbl>
              <a:tblPr/>
              <a:tblGrid>
                <a:gridCol w="811080"/>
                <a:gridCol w="811080"/>
                <a:gridCol w="811440"/>
                <a:gridCol w="744480"/>
                <a:gridCol w="743040"/>
                <a:gridCol w="823680"/>
                <a:gridCol w="825480"/>
                <a:gridCol w="1897200"/>
              </a:tblGrid>
              <a:tr h="5634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نتيج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دلالة الإحصائ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(</a:t>
                      </a: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0.05</a:t>
                      </a: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قيمة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T</a:t>
                      </a: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المحسوب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اختبار البع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اختبار القبل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تغي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168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الانحراف المعيار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الوسط الحساب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الانحراف المعيار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الوسط الحساب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6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معنو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7.6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9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5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implified Arabic"/>
                          <a:ea typeface="Calibri"/>
                        </a:rPr>
                        <a:t>4.3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القوة الانفجارية / مت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معنو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8.9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6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7.6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4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.8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القوة المميزة بالسرعة / عد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-109080" y="459000"/>
            <a:ext cx="963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1600" spc="-1" strike="noStrike">
                <a:solidFill>
                  <a:srgbClr val="000000"/>
                </a:solidFill>
                <a:latin typeface="Arial"/>
              </a:rPr>
              <a:t>جدول (</a:t>
            </a:r>
            <a:r>
              <a:rPr b="1" lang="ar-IQ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IQ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1600" spc="-1" strike="noStrike">
                <a:solidFill>
                  <a:srgbClr val="000000"/>
                </a:solidFill>
                <a:latin typeface="Arial"/>
              </a:rPr>
              <a:t>يبين الوسط الحسابي والانحراف المعياري وقيمة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ar-IQ" sz="1600" spc="-1" strike="noStrike">
                <a:solidFill>
                  <a:srgbClr val="000000"/>
                </a:solidFill>
                <a:latin typeface="Arial"/>
              </a:rPr>
              <a:t> المحسوبة والدلالة الإحصائية لأفراد عينة البح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1295280"/>
          <a:ext cx="7391160" cy="4267440"/>
        </p:xfrm>
        <a:graphic>
          <a:graphicData uri="http://schemas.openxmlformats.org/drawingml/2006/table">
            <a:tbl>
              <a:tblPr/>
              <a:tblGrid>
                <a:gridCol w="838080"/>
                <a:gridCol w="836640"/>
                <a:gridCol w="838080"/>
                <a:gridCol w="766800"/>
                <a:gridCol w="795240"/>
                <a:gridCol w="851040"/>
                <a:gridCol w="851040"/>
                <a:gridCol w="1614240"/>
              </a:tblGrid>
              <a:tr h="4287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نتيج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دلالة الإحصائ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(</a:t>
                      </a: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0.05</a:t>
                      </a: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قيمة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T</a:t>
                      </a: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المحسوب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اختبار البع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اختبار القبل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تغي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12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الانحراف المعيار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الوسط الحساب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الانحراف المعيار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الوسط الحساب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معنو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4.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6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2.9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0.7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سرعة الانطلاق م/ث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معنو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6.8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6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9.3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4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7.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زاوية الانطلاق / درج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معنو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3.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6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5.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4.2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الانجاز / مت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380880" y="152280"/>
            <a:ext cx="8305920" cy="533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استنتاجات والتوصي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4880" y="838080"/>
            <a:ext cx="8229600" cy="5562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استنتاجات</a:t>
            </a:r>
            <a:r>
              <a:rPr b="1" lang="ar-IQ" sz="2000" spc="-1" strike="noStrike">
                <a:solidFill>
                  <a:srgbClr val="000000"/>
                </a:solidFill>
                <a:latin typeface="Arial"/>
              </a:rPr>
              <a:t> الاستنتاجات </a:t>
            </a:r>
            <a:br>
              <a:rPr sz="2000"/>
            </a:b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ان التمرينات الخاصة كان لها الاثر في تحسين وتطوير القوة الانفجارية والقوة المميزة بالسرعة وانجاز رمي القرص لذوي الاحتياجات الخاصة .</a:t>
            </a:r>
            <a:br>
              <a:rPr sz="2000"/>
            </a:b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هناك تباين بين الاختبارات القبلية والبعدية ولصالح الاختبارات البعدية لمتغيري القدرة الانفجارية والقوة المميزة بالسرعة ولصالح الاختبار البعدي .</a:t>
            </a:r>
            <a:br>
              <a:rPr sz="2000"/>
            </a:b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هناك تباين بين الاختبارات القبلية والبعدية ولصالح الاختبارات البعدية في انجاز رمي القرص ولصالح الاختبار البعدي.</a:t>
            </a:r>
            <a:br>
              <a:rPr sz="2000"/>
            </a:br>
            <a:r>
              <a:rPr b="1" lang="ar-IQ" sz="2000" spc="-1" strike="noStrike">
                <a:solidFill>
                  <a:srgbClr val="000000"/>
                </a:solidFill>
                <a:latin typeface="Arial"/>
              </a:rPr>
              <a:t>التوصيات</a:t>
            </a:r>
            <a:br>
              <a:rPr sz="2000"/>
            </a:b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ضرورة الاهتمام بالتحليل الحركي لفعالية رمي القرص لذوي الاحتياجات الخاصة .</a:t>
            </a:r>
            <a:br>
              <a:rPr sz="2000"/>
            </a:b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التاكيد على مراحل الرمي من خلال تحسين زمن سرعة اداء الرمي . </a:t>
            </a:r>
            <a:br>
              <a:rPr sz="2000"/>
            </a:b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إجراء دراسة مشابهة على عينات من فئات ومتغيرات ميكانيكية اخرى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6:28:09Z</dcterms:created>
  <dc:creator>Computer</dc:creator>
  <dc:description/>
  <dc:language>en-US</dc:language>
  <cp:lastModifiedBy>د. فلاح</cp:lastModifiedBy>
  <dcterms:modified xsi:type="dcterms:W3CDTF">2018-12-10T18:30:07Z</dcterms:modified>
  <cp:revision>121</cp:revision>
  <dc:subject/>
  <dc:title>أجهزة الجسم و وظائفها الحيوية </dc:title>
</cp:coreProperties>
</file>