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3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3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BEC6-2566-42F5-9A2E-8100385769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البدني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BC21-2608-4AB7-A6E8-2405C4B7C10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فرد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قدم – عندما يكون الهجوم باستخدام الفراغا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1BBB-0834-4910-9516-E0F88AD07C0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فرد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اخر – عندما يكون الهجوم من اعلى حائط الص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3648-4CD0-46A0-8144-BBE71AE83F7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زوج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قدم – عندما يكون الهجوم باستخدام الفراغا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8661-10D9-49BE-A669-70BC4D7E4F8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زوج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اخر – عندما يكون الهجوم من اعلى حائط الص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2A50-2578-4244-8D47-C7EE4F7B8F2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النهاية الواجب والامتحان الاسبوع القاد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9285-9CDB-4C36-9460-DFFEA928E1F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فرد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اخر – عندما يكون الهجوم اعلى من جدار الص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E321-AEC1-4F2B-AC1F-D3340E9DD0E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فرد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قدم – عندما يكون الهجوم باستخدام الفراغات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07DE-3D0D-4C2D-B2D0-B1F92959F21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زوج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اخ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BC51-72F7-471C-9F98-6C9A3BFBD36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زوج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قد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C2E8-52EA-41DE-B2D5-54C89FB700D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فرد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اخر– عندما يكون الهجوم فوق حائط الص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B8F7-029E-4098-B587-920C7CC0881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فرد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قدم– عندما يكون الهجوم باستخدام الفراغات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2DBD-355C-46A1-BC6E-273B95540E4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زوج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D458-7B02-4ACB-9683-E8D17A2B68C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زوج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اخر– عندما يكون الهجوم فوق حائط الص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A7AB-888B-471B-A096-7EC1F7C2156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902-60E7-4121-A561-AF20F3A6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86C-F6BC-4B9E-8377-47B3F7E5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382F5-0923-4E33-8316-C90D5430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2FA5F-B1B5-4CEE-8E45-B8534017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22AC8-C503-48EF-A799-DC4C8BDE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BAEF4-7A53-4411-8B68-7B4E6892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7D3B2-D4C7-4975-BC45-0C2C815D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4A67B-262F-4D8A-991B-A5B66FEB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E46C9-EC65-44E3-85D5-0A77457B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AF988-671C-4ABF-976F-37068129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F71FA-2933-49A9-92A1-74404B53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A21E4-25F1-41D6-A8FB-EE08402E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AC8-189A-40A3-A499-0AE0C106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D5F05-6ED5-4B7E-9A27-126E554E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52BE2-A6E0-40DE-B65D-C00F356A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1754B-A605-4FE2-9613-CC9569E4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584E4-C663-466A-8151-CE97854D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3073F-75BA-476D-BFE4-C57550A6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B99E8-B40A-453A-A94F-8D56FBE6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E6F22-92BC-4DC3-8740-421526DE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9E17E-D0F0-4393-BA3C-F91038CC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89B5B-47D6-4F55-8E02-29C68050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D8E64-A995-4952-B162-FE04C506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D8D-6E4E-49F2-B77A-8A5195B0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2C175-3747-4046-B0F4-7E524457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C0258-2F80-44AD-8891-BCC11551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D097D-4486-4229-8F1D-7E806AAE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DE8F2-87C2-4396-854E-E0300D97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E443E-B4FA-4B8D-8F61-C029333A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5CEC5-AA3A-43CF-A637-DFAF0B60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8BC52-E68F-4A69-99CE-BE458E00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62363-0467-4D51-ADAF-DBBA4AA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7B03F-B320-49F4-88ED-3F36DC2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B8152-9826-45FE-A7C7-EF4F0ADB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83B7-F239-4EF5-8290-D04A0C55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CD82C-DE3C-4A74-AC9C-607334FA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B1FC5-BB74-4703-AF9F-F98E1B95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2BA27-365E-4A83-A27B-A8D09DD3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6A9E-635F-4486-A22A-37A60F62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32CA-21EC-48AD-BE7D-24CC639B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0E32-19A3-4F7A-95CA-07A55065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BB4D-E649-4917-A5E5-6B750591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809C-44BD-4B0A-8F8A-6D4C2C64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EC72-1562-470F-8720-A38D6EC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595-1225-4E2E-B41F-0C771E75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8EFD-C5B2-4FAA-8544-8DF940E7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4585-F423-47A2-9B8E-D694A507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E611-F8FD-47E8-9C5D-607D3D91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7AD1-4AC7-4FFD-84B3-33C77958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E5D6-DBB8-4365-84E7-D4F8C64B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AF1D-23E9-4198-B5CC-7FD5C45C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0AE6F-4178-41FD-AA16-838F03C0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FCF8D-26E5-4920-B133-48453D69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C49B-2B3A-4818-97E0-7AFE187D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8773-D976-4DEB-9448-35632A55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2BA-480A-4154-A414-68169A76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D996B-CCBB-4D71-AC3D-70C4A9E2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17E1-394A-4707-B2C0-AABC42A2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066A6-1316-4D34-9366-6FB11304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4ADC-A264-4E8B-AD86-65C735ED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0DA2A-2DF9-4AAD-884E-F7CA94C0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04FEC-6722-4191-9DCA-277EBE81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4AA0E-E390-468B-9E2A-0152138F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8D801-5688-4E1B-8641-B3CF2A63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A90CF-2BF1-42E0-AEBE-5CD21036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8800D-554B-4449-A64A-EEB0DFBB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DE6-65DE-43E4-B989-AA63359E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F15C6-C19C-4C4F-A20C-866F9D2A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7D541-521E-4809-BEB6-44AB0B77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53A11-D223-497B-8660-767F3FF3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36E48-C784-40F0-9163-CF4B0745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7ED7C-5A13-4DF0-ACBE-F5AC2CA9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2B028-C4FB-4B2C-97CB-03B5E13A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D98B6-0744-4393-A090-04CDE84B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DCCB4-B8E9-40D7-BA38-D2A020FD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BFD5A-D90E-4F43-9F5D-13CB1E2D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83E0A-74D3-4C0C-99FC-02FB741E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B72-0189-4273-BD53-44449B49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6D806-2F44-4174-A322-B65A8BC4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9F104-2957-4CC4-B8E2-600CF554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A2D88-DC3A-41A3-8FD1-C5AF5472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75D47-E842-41A7-A204-8DCA0AA0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E1477-DAC3-4424-8C24-8A6A8313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96514-6C72-4F6C-92A6-687C53AB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8D752-CA5B-4A2F-B25E-CA605571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0F863-A61B-429A-9668-EAA57C30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F673F-030C-4AA6-98BA-AC6058C0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00ED-F5B6-4CF9-8A10-4F324BC3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F9E-6D7B-46E9-8C95-4CA678D3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6D4F4-84FD-4C4B-919F-C4EB8B4B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26511-FB05-49AC-9C6E-ED27DF31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DA5C-3274-40C5-99B5-16F43F9D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48EDF-B241-45DD-9322-E995BEF1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4290E-B615-45FF-A38D-8D557D18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FEE91-9233-4B2F-A57D-580B3318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AFE2E-1521-48AB-B7D6-100D7322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C9495-CB07-438D-9C0A-0A1D1769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BF094-4C9B-4DA9-8A36-6BA715F3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60F00-B2AD-47E5-8EA7-BF5EB2DD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5B5-B95B-42FE-A73C-39C2A612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9511C-839A-4784-8C9C-C276AD02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FB6DC-5F78-4EA5-8F8D-DAE7EE46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5000E-FA64-47DB-9362-8CF56B88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0CD81-74E7-4AA3-B056-59651388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E83EB-4DDC-4687-AE5F-B971904C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F2B8-6C7A-4182-BA6D-DC7750CF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E78AB-11CF-4819-8D9E-2EFA24D3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74566-5595-4530-B0EA-0B27C605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3F130-299A-4401-BD82-B2FE3810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FA587-1B52-44E7-9C6F-204E7FA1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BA9-5119-4EDD-9A71-E71895E6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02A31-8125-434B-AF99-5FF5A59D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1CC8A-9681-4F94-A535-B86B401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A0288-0D0C-4E0D-BF75-560EC00E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4014C-4218-4339-8BFB-2A98863E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2406E-4FE0-429C-8E94-57005B84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AE7DE-1E6B-40AA-A942-DB5C6A5D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DF3BB-7B10-43E8-BB0E-54574030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504D2-7158-4916-B3BF-903697B1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0A7F9-65E4-45EC-8544-870DE168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0C2B2-AAE0-4743-B7A1-C0C893C9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D13-AED6-4233-AD31-6D3DAC0E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BCAA4-EE86-4FB2-BA20-508C07E0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A6404-FBA5-4C12-8226-4A8C4BF4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64B5C-4FBB-4760-8E8E-5250F9FE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CB779-0BBE-41A2-B5FF-CE6A5AE6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0C960-BDBC-4E84-A1CE-50785877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6AC07-47F9-4411-B28B-F5FE7E4B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C8D7B-1324-4497-B30D-3A9117B5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1E6D0-8DA4-4F87-A09B-15ADC47E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AFC33-B31B-4363-990D-9F2137CA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4048A-054B-46C0-A320-26F6A907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BC9A-7802-478D-B1B9-280B31D58FFB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C682-56BC-43D7-B76B-50855912B324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A7C8-FB75-46CD-A26D-C8214EF7AC42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814E-3497-42D1-AF73-979759A07604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7DC4-57A7-483F-8F3F-A8106054504D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87D1-A20E-46DE-84C2-07A1541423CE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FA68-1D87-489A-8F7C-5558EA850C2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19E1-D1C8-4E4A-861C-F836D633B321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6216-CA60-4075-A26F-D27661ACD090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3D87-00CE-435B-BB7A-72519458C696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شكل حر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شكل حر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919D-4636-488D-B8BC-C3AAB4A7B38E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42600" y="2000160"/>
            <a:ext cx="79297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ar-SA" sz="6600" spc="-1" strike="noStrike">
                <a:solidFill>
                  <a:srgbClr val="04617b"/>
                </a:solidFill>
                <a:latin typeface="Calibri"/>
                <a:cs typeface="PT Bold Heading"/>
              </a:rPr>
              <a:t>تشكيلات حائط الصد في الكرة الطائرة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28400" y="4199040"/>
            <a:ext cx="4143240" cy="73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59000"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4617b"/>
                </a:solidFill>
                <a:latin typeface="Constantia"/>
                <a:cs typeface="PT Bold Heading"/>
              </a:rPr>
              <a:t>اعداد ال</a:t>
            </a:r>
            <a:r>
              <a:rPr b="1" lang="ar-IQ" sz="4000" spc="-1" strike="noStrike">
                <a:solidFill>
                  <a:srgbClr val="04617b"/>
                </a:solidFill>
                <a:latin typeface="Constantia"/>
                <a:cs typeface="PT Bold Heading"/>
              </a:rPr>
              <a:t>استاذ المساعد</a:t>
            </a:r>
            <a:r>
              <a:rPr b="1" lang="ar-SA" sz="4000" spc="-1" strike="noStrike">
                <a:solidFill>
                  <a:srgbClr val="04617b"/>
                </a:solidFill>
                <a:latin typeface="Constantia"/>
                <a:ea typeface="PT Bold Heading"/>
              </a:rPr>
              <a:t> ال</a:t>
            </a:r>
            <a:r>
              <a:rPr b="1" lang="ar-IQ" sz="4000" spc="-1" strike="noStrike">
                <a:solidFill>
                  <a:srgbClr val="04617b"/>
                </a:solidFill>
                <a:latin typeface="Constantia"/>
                <a:cs typeface="PT Bold Heading"/>
              </a:rPr>
              <a:t>دكتور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56800" y="5487840"/>
            <a:ext cx="3429000" cy="6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44000"/>
          </a:bodyPr>
          <a:p>
            <a:pPr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4617b"/>
                </a:solidFill>
                <a:latin typeface="Constantia"/>
                <a:cs typeface="PT Bold Heading"/>
              </a:rPr>
              <a:t>رجاء عبد الصمد عاشور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101920" y="285840"/>
            <a:ext cx="4041720" cy="1643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88000"/>
          </a:bodyPr>
          <a:p>
            <a:pPr marL="240120" indent="-240120" algn="ctr" rtl="1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200" spc="-1" strike="noStrike">
                <a:solidFill>
                  <a:srgbClr val="000000"/>
                </a:solidFill>
                <a:latin typeface="Constantia"/>
              </a:rPr>
              <a:t>وزارة التعليم العالي والبحث العلم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 rtl="1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200" spc="-1" strike="noStrike">
                <a:solidFill>
                  <a:srgbClr val="000000"/>
                </a:solidFill>
                <a:latin typeface="Constantia"/>
              </a:rPr>
              <a:t>جامعة البصر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 rtl="1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200" spc="-1" strike="noStrike">
                <a:solidFill>
                  <a:srgbClr val="000000"/>
                </a:solidFill>
                <a:latin typeface="Constantia"/>
              </a:rPr>
              <a:t>كلية التربية البدنية وعلوم الرياض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 rtl="1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200" spc="-1" strike="noStrike">
                <a:solidFill>
                  <a:srgbClr val="000000"/>
                </a:solidFill>
                <a:latin typeface="Constantia"/>
              </a:rPr>
              <a:t>فرع العلوم النظر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6" name="صورة 3" descr="VOLLY004.WMF"/>
          <p:cNvPicPr/>
          <p:nvPr/>
        </p:nvPicPr>
        <p:blipFill>
          <a:blip r:embed="rId1"/>
          <a:stretch/>
        </p:blipFill>
        <p:spPr>
          <a:xfrm>
            <a:off x="4500720" y="3143160"/>
            <a:ext cx="4244760" cy="31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9180360" cy="68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-92160" y="689040"/>
            <a:ext cx="939492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2357280" y="1500120"/>
            <a:ext cx="39672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2643120" y="865080"/>
            <a:ext cx="350064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3000240" y="1071720"/>
            <a:ext cx="30258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1"/>
          <p:cNvSpPr/>
          <p:nvPr/>
        </p:nvSpPr>
        <p:spPr>
          <a:xfrm>
            <a:off x="1714680" y="31431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1"/>
          <p:cNvSpPr/>
          <p:nvPr/>
        </p:nvSpPr>
        <p:spPr>
          <a:xfrm>
            <a:off x="1571760" y="31431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"/>
          <p:cNvPicPr/>
          <p:nvPr/>
        </p:nvPicPr>
        <p:blipFill>
          <a:blip r:embed="rId2"/>
          <a:stretch/>
        </p:blipFill>
        <p:spPr>
          <a:xfrm>
            <a:off x="0" y="25560"/>
            <a:ext cx="9178920" cy="68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"/>
          <p:cNvPicPr/>
          <p:nvPr/>
        </p:nvPicPr>
        <p:blipFill>
          <a:blip r:embed="rId3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2:44:11Z</dcterms:created>
  <dc:creator>*</dc:creator>
  <dc:description/>
  <dc:language>en-US</dc:language>
  <cp:lastModifiedBy>futer house 2013</cp:lastModifiedBy>
  <dcterms:modified xsi:type="dcterms:W3CDTF">2016-12-12T09:30:04Z</dcterms:modified>
  <cp:revision>102</cp:revision>
  <dc:subject/>
  <dc:title>المملكة العربية السعودية وزارة التربية و التعليم الإدارة العامة للتربية و التعليم بالمنطقة الشرقية مدرسة اليعقوبي الثانوية بالخبر النشاط الرياضي</dc:title>
</cp:coreProperties>
</file>