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3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7D8C-21C9-4274-B266-E3C54B8FAB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البدني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AA1-66F4-4764-AFE7-0BC19F0824A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A602-0DC1-4445-B536-4EDC2E9E5F0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من اعلى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FD4-CFEC-462A-951C-75E0EE4C04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5E4-7C64-4984-960F-FC040B16E30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من اعلى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284-B368-4DAF-AFBA-CCCD34C8D7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النهاية الواجب والامتحان الاسبوع القاد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098-9A2C-44D3-B817-17CBE0E7BC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 – عندما يكون الهجوم اعلى من جدار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D4C-3CFA-49F8-AC41-B2CFD9B004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 – عندما يكون الهجوم باستخدام الفراغ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7E0-AF4E-4406-8583-48D4919095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A5B0-7788-4B55-B4E1-67B842F9D57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C32-5860-49ED-81AD-B7425DB02E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– عندما يكون الهجوم فوق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C872-B9E8-43E9-8454-C8C310C1710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فرد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قدم– عندما يكون الهجوم باستخدام الفراغات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51C2-14AD-424D-84EF-A61756E5833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0E9-AC38-425A-9E55-7C38CC1BA70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تشكيلة حائط الصد الزوجي عندما يكون الهجوم من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واللاعب في مركز 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 متاخر– عندما يكون الهجوم فوق حائط الص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73F5-38E3-4267-816B-6C5263BBF05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CBF-1872-492F-A8D2-5DFD7EB9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3A9-F75A-4D11-B7D4-87A362A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30898-D03F-4C2F-AA8B-1029012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1D2BC-41FB-4B73-942C-8EA6592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C1E7E-9ADB-4B8A-B1E0-9CCFE53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A432A-36F3-4A10-97C5-7BB7978F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9F2C-E9AA-4B22-B856-1806647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B782-95D0-4D54-9BC6-114F0B86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45FA5-C53A-42A4-A0E8-393B2346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F821-E15F-4595-944F-1C34466E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78F2A-5D12-4164-9019-5183C5AC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D9B82-F316-4F30-8FE2-4587C137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5BC-475A-40A7-9690-DA4AA4CF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1DF46-D3D1-4229-B910-37B05143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A2850-9666-4E00-8583-19E70EF1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A865B-2AFD-4B07-BD96-7704A758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DD78C-6150-4DBF-B46F-925188CF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993B-C00A-4AD4-925F-29A77371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BA836-D3BF-423D-ABC3-E437C073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9310F-09B0-489E-B3BF-0F7B33C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43CA8-DB86-4CEF-8D94-DD10698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2B04-C0B1-4AC4-A26B-630726E4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03D0C-CDA7-4139-B600-9A0943C1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0FC-A523-426E-8044-A21FD0B6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A52AB-246F-43F3-9422-F382C448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0CB9B-2313-40D2-B7E1-8FD45353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591BE-205A-44CE-925C-358C9DF0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33D3B-F5A3-4451-BD0E-422E8895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4CE0-61A4-4E79-9281-1E0A1EF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FB41F-BCE2-4C0A-A2B3-3EDAF22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C1172-517A-4082-B976-DADC261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9BEEC-6427-44BE-82A3-6E710DB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4E92D-C383-4F53-825B-72DEB7A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E463D-C48D-4372-BDFA-456ADFA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846-D5EB-47DD-A2B3-A642EC77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897A0-F5FA-4FF8-A0A8-EC21CE57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1A625-577A-49D3-A43A-18B2939E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49B8C-EE67-4251-9E6C-840402F7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8F13-8DC3-4EA9-B228-14537906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8B0E-C7A0-4230-A0F6-DEEEC44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6F41-27F5-4DC6-A366-37AB3D17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0B15-8F39-4917-84B7-E14576B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BFFF-0DFD-4163-845D-EDAFDE87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BC8-6251-46C3-BDD9-094FD01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9E5-58FC-468A-8C67-74E42AF2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A79F-9383-4E7D-9DA6-5FBC5E0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2D2-2FF3-41AA-9B96-61F67A4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0491-3E5D-417F-B78E-8D3FE37D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D71-8B57-4C1C-8EEB-47F0BDE1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4001-D1E6-4BC6-A5A6-79423C19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F491-C61A-4BF5-86E4-D0AAA600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463B-1A76-43C7-A152-605033AD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5464-E85B-4918-9321-76B3255C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7224E-4527-43BC-B580-C551EAD4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CD24-53F4-4E4C-8F60-54E3195B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93E-EFDA-46B2-9DBA-A3312BD5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F7D1-3185-475A-A987-0460224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78A3-29C4-417E-8C8F-424D3699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57E8-774F-4E8E-9698-95D54E4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12DD-DB80-455F-8709-85AAF943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59B4-57AE-4D67-9ACD-AB970E26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2D9BD-8149-4B1F-9949-8EF76AC0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72D9-3D1F-4A78-9975-8DC747A7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6002-FE55-4D43-B090-9A550957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5761-600B-4D90-BFE0-5F3CC29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4478-C508-4305-A4BE-35AA8E3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94A-ADB7-42AC-9FCB-E4D0B784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5909-0312-4578-94DD-BA80270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70E4-28E5-4717-823D-9F3CB48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D1DD-7ABC-49F8-8587-543F72E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F659A-4675-4A06-8B02-A0AF445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1E33-DFA3-4C80-AACD-67BCB05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4329-206B-4E6A-BD6F-E8FB3D7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41C6-E8A6-440B-BC82-B2F4691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2EC8E-3C3A-447B-8BEA-557ACF49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89C9-4D70-4AA8-A9AE-556EC48B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57F26-26A2-4093-A3D0-115C47F7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5B7-ED00-498E-8DCB-B172E9F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CCC6F-54E1-4250-886D-FDF448E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52A69-D421-4BE7-BEED-AECA76AE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1DC21-EE16-4DB0-B577-B466114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32B47-18A5-424A-BE4F-DC02375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4529-4BAF-4E83-AFE5-A48F7C76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2A048-867F-44F9-8F51-7C51D50D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F2A7-E028-4F80-823B-7833479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60B6-5881-46C6-BCC8-315C0CF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1889-947B-4918-9696-8D7004F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006AF-9DAF-43ED-9875-4D8A6B5F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AB2-9480-4C72-88C0-8CF7A884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13D2-B446-47C1-933D-88BE2149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0C97-3812-4EAD-A03A-5B53436A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CADF-A98D-4F01-9E1C-31114B9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DB1F-4CAB-4AE4-8CA0-5E27235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8C90-110A-4993-A132-98158EED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EEFBF-F8FC-49B4-85F3-C053A90E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7738-54EA-4DCF-8288-5D85A58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8B25-900B-4F18-ADA7-990E607D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106D2-C273-4C2D-9985-BB9E69B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AA41-D1D1-42CA-BADB-E330175E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079-F1F8-49E3-8534-B3304BCA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17BD8-0EB8-45C1-B90E-B5E4C5CF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C1977-46AA-4B28-BB75-76C32264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C2202-D24B-41DE-AED9-63A8E31B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0E2F-A3E7-4324-8D5F-366FD169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47F80-338C-43FE-8491-2567E93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32D1A-2B35-4E10-B538-57BBF10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F4C9-8651-4A15-B17C-7D81DD8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7B6F-BBB0-425D-A9D3-DC8D7206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7F75-E369-4E59-B5F3-39B8D70E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6A4AE-4AE2-41B0-B28A-12FA43FB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119-73E4-4F17-9EAB-BC4CC70C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57F7C-4F6A-478C-A107-A2939D0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ABC49-FF6D-45AC-B43A-8A55619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BD8B-2100-4D8F-8579-6400F4A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E5A80-1B11-43F0-A7A6-B2D5657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91D7-2868-44F9-B973-2B71B399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3746-2FF7-4424-8ABB-D48A7367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AB903-F315-43CD-9F16-E95E87B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B8A0-80F7-4225-8C23-15AFA23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033C-73D7-4CB4-894B-6026FB6B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7482-9ACF-4C34-86D9-6422828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96-52E9-4C96-BA47-52CE540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2A6F-3E7B-4CFB-B138-6F828A1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3EDD4-0307-4288-8D4F-A2E2577F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873FA-AB27-4C8F-BCB7-FEF60C3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9FD2-D8E0-4041-AFBB-D51A4D7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7242A-C801-4700-9F9E-44AEC0B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A823A-11A2-47A2-A3F7-CD7158DB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336FF-9F34-4213-85AE-F0E55665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E4231-E46D-4326-9D6D-3D0D5EAC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C3CE6-C4F2-46CB-BD8A-1A9469D0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10128-B591-400D-8D9C-8103661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2AC-AAFE-4154-A224-E06AD5682B92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E15D-6C09-4ECB-9BC5-B314475EDEA7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9EBF-35FB-4086-8DF3-2C28D0B13CF0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D70A-5A44-486F-8518-7FE6AA97842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E784-B07A-4A27-A59D-F0BA75D319B7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47AE-16D2-433F-952C-569EC3535646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E7B-0D2E-4FB5-A199-66C33F2B09D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9D6C-FFB0-460F-8AC5-6732956F58F1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6A3-96FA-49B1-A32F-6CDA9DCEA89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EAE-B7FF-450A-9275-68F33DF0704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E436-79E1-4FF6-A25C-08050F81E04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2600" y="2000160"/>
            <a:ext cx="7929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ar-SA" sz="6600" spc="-1" strike="noStrike">
                <a:solidFill>
                  <a:srgbClr val="04617b"/>
                </a:solidFill>
                <a:latin typeface="Calibri"/>
                <a:cs typeface="PT Bold Heading"/>
              </a:rPr>
              <a:t>تشكيلات حائط الصد في الكرة الطائرة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28400" y="4199040"/>
            <a:ext cx="4143240" cy="73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59000"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اعداد ال</a:t>
            </a:r>
            <a:r>
              <a:rPr b="1" lang="ar-IQ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استاذ المساعد</a:t>
            </a:r>
            <a:r>
              <a:rPr b="1" lang="ar-SA" sz="4000" spc="-1" strike="noStrike">
                <a:solidFill>
                  <a:srgbClr val="04617b"/>
                </a:solidFill>
                <a:latin typeface="Constantia"/>
                <a:ea typeface="PT Bold Heading"/>
              </a:rPr>
              <a:t> ال</a:t>
            </a:r>
            <a:r>
              <a:rPr b="1" lang="ar-IQ" sz="40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دكتور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56800" y="5487840"/>
            <a:ext cx="3429000" cy="6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44000"/>
          </a:bodyPr>
          <a:p>
            <a:pPr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4617b"/>
                </a:solidFill>
                <a:latin typeface="Constantia"/>
                <a:cs typeface="PT Bold Heading"/>
              </a:rPr>
              <a:t>رجاء عبد الصمد عاشور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101920" y="285840"/>
            <a:ext cx="4041720" cy="1643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8000"/>
          </a:bodyPr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وزارة التعليم العالي والبحث العلمي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جامعة البصرة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كلية التربية البدنية وعلوم الرياض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ctr" rtl="1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200" spc="-1" strike="noStrike">
                <a:solidFill>
                  <a:srgbClr val="000000"/>
                </a:solidFill>
                <a:latin typeface="Constantia"/>
              </a:rPr>
              <a:t>فرع العلوم النظرية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6" name="صورة 3" descr="VOLLY004.WMF"/>
          <p:cNvPicPr/>
          <p:nvPr/>
        </p:nvPicPr>
        <p:blipFill>
          <a:blip r:embed="rId1"/>
          <a:stretch/>
        </p:blipFill>
        <p:spPr>
          <a:xfrm>
            <a:off x="4500720" y="3143160"/>
            <a:ext cx="424476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80360" cy="683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-92160" y="689040"/>
            <a:ext cx="93949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2357280" y="1500120"/>
            <a:ext cx="3967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643120" y="865080"/>
            <a:ext cx="350064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3000240" y="1071720"/>
            <a:ext cx="3025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1"/>
          <p:cNvSpPr/>
          <p:nvPr/>
        </p:nvSpPr>
        <p:spPr>
          <a:xfrm>
            <a:off x="1714680" y="3143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1"/>
          <p:cNvSpPr/>
          <p:nvPr/>
        </p:nvSpPr>
        <p:spPr>
          <a:xfrm>
            <a:off x="1571760" y="31431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0" y="25560"/>
            <a:ext cx="917892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"/>
          <p:cNvPicPr/>
          <p:nvPr/>
        </p:nvPicPr>
        <p:blipFill>
          <a:blip r:embed="rId3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2:44:11Z</dcterms:created>
  <dc:creator>*</dc:creator>
  <dc:description/>
  <dc:language>en-US</dc:language>
  <cp:lastModifiedBy>futer house 2013</cp:lastModifiedBy>
  <dcterms:modified xsi:type="dcterms:W3CDTF">2016-12-12T09:30:04Z</dcterms:modified>
  <cp:revision>102</cp:revision>
  <dc:subject/>
  <dc:title>المملكة العربية السعودية وزارة التربية و التعليم الإدارة العامة للتربية و التعليم بالمنطقة الشرقية مدرسة اليعقوبي الثانوية بالخبر النشاط الرياضي</dc:title>
</cp:coreProperties>
</file>