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F28-F03F-4544-BBFD-5653938E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3D5-E674-4C57-A00C-4F886515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8A7-92D7-4577-9568-1F35E416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05B-8025-4F1E-8E28-6AC2D8BA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7824-1355-4BF1-BB91-88A992A3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D86A-57A2-4C1B-B8E7-64397EA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DF6-CD90-4BE0-BE83-F0D9C15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25F2-83E3-4539-9C62-F6623B8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CB46-9002-411A-979B-B521FBFC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6797-5374-4661-A005-31350E3B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C689-0899-482B-BE0B-A049B3C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EC8-E761-47EA-91AF-BAEB0813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6E00-1E03-4A57-95F6-401F5F2A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CDC1-31E2-45E7-8B58-2730ECB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7401-5E43-48FB-9565-D3176907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06F7-1F6A-41CB-B24F-AC9D55F7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FA3C-713A-4301-8DFA-CD839CD7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00A-ED22-4AC6-A0C9-3161025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B07-E60F-4D69-9871-F7635243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1CA-8A6C-4880-B4A6-F7683619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FC7-6174-4947-9F79-2A470FE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700-917F-46A7-95D8-36D812C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D23-05C8-42C9-924D-C486538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14D-0A80-4B72-A950-50C23A7C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B92-ABBE-41BE-9F84-356DAEF2CC3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D877-EE62-482C-B5CD-3CBB0246439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Times New Roman"/>
              </a:rPr>
              <a:t>العصف الذهني</a:t>
            </a:r>
            <a:r>
              <a:rPr b="0" lang="ar-SA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b050"/>
                </a:solidFill>
                <a:latin typeface="Times New Roman"/>
              </a:rPr>
              <a:t>Brain Storming</a:t>
            </a:r>
            <a:r>
              <a:rPr b="1" lang="en-US" sz="48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0" y="1382760"/>
            <a:ext cx="2666880" cy="1447920"/>
          </a:xfrm>
          <a:prstGeom prst="cloudCallout">
            <a:avLst>
              <a:gd name="adj1" fmla="val -236"/>
              <a:gd name="adj2" fmla="val 146379"/>
            </a:avLst>
          </a:prstGeom>
          <a:solidFill>
            <a:srgbClr val="5089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تدفق الافكا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2652840" y="1719360"/>
            <a:ext cx="1663560" cy="1904760"/>
          </a:xfrm>
          <a:prstGeom prst="cloudCallout">
            <a:avLst>
              <a:gd name="adj1" fmla="val -18416"/>
              <a:gd name="adj2" fmla="val 82416"/>
            </a:avLst>
          </a:prstGeom>
          <a:solidFill>
            <a:srgbClr val="5089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Arial"/>
              </a:rPr>
              <a:t>العصف الذهن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4419720" y="1847880"/>
            <a:ext cx="2514600" cy="1295280"/>
          </a:xfrm>
          <a:prstGeom prst="cloudCallout">
            <a:avLst>
              <a:gd name="adj1" fmla="val -73106"/>
              <a:gd name="adj2" fmla="val 141787"/>
            </a:avLst>
          </a:prstGeom>
          <a:solidFill>
            <a:srgbClr val="5089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مطار الأفكا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7086600" y="1503360"/>
            <a:ext cx="1873080" cy="1828800"/>
          </a:xfrm>
          <a:prstGeom prst="cloudCallout">
            <a:avLst>
              <a:gd name="adj1" fmla="val -24662"/>
              <a:gd name="adj2" fmla="val 97569"/>
            </a:avLst>
          </a:prstGeom>
          <a:solidFill>
            <a:srgbClr val="5089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191f"/>
                </a:solidFill>
                <a:latin typeface="Arial"/>
              </a:rPr>
              <a:t>زوبعة الأفكا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10" descr="Picture"/>
          <p:cNvPicPr/>
          <p:nvPr/>
        </p:nvPicPr>
        <p:blipFill>
          <a:blip r:embed="rId1"/>
          <a:stretch/>
        </p:blipFill>
        <p:spPr>
          <a:xfrm>
            <a:off x="2660760" y="4419720"/>
            <a:ext cx="3816360" cy="2504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Picture 002"/>
          <p:cNvPicPr/>
          <p:nvPr/>
        </p:nvPicPr>
        <p:blipFill>
          <a:blip r:embed="rId2"/>
          <a:stretch/>
        </p:blipFill>
        <p:spPr>
          <a:xfrm>
            <a:off x="61920" y="4405320"/>
            <a:ext cx="2633760" cy="253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Picture 001"/>
          <p:cNvPicPr/>
          <p:nvPr/>
        </p:nvPicPr>
        <p:blipFill>
          <a:blip r:embed="rId3"/>
          <a:stretch/>
        </p:blipFill>
        <p:spPr>
          <a:xfrm>
            <a:off x="6470640" y="4410000"/>
            <a:ext cx="2590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imes New Roman"/>
              </a:rPr>
              <a:t>استخدام أسلوب العصف الذهني في التربية الرياضية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عناصر نجاح العصف الذهن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- وضوح المشكلة لدى الطلاب ، وقائد النشا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- وضوح مبادئ وقواعد العمل والتقييد بها من قبل الجمي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- خبرة قائد النشاط أو النشاط ، وقناعته بقيمة أسلوب العصف الذهن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- يجب إن يسود الجلسة جو من خفة الظل والمتعة بين المشارك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imes New Roman"/>
              </a:rPr>
              <a:t>معوقات العصف الذهني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- العوامل النفسية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- المعوقات الإدراكية</a:t>
            </a:r>
            <a:r>
              <a:rPr b="0" lang="en-US" sz="3200" spc="-1" strike="noStrike">
                <a:solidFill>
                  <a:srgbClr val="bbc6d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Times New Roman"/>
              </a:rPr>
              <a:t>انهي الحركة بالعودة إلى منتصف الملع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Times New Roman"/>
              </a:rPr>
              <a:t>أو بالصعود على الشبك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Times New Roman"/>
              </a:rPr>
              <a:t>أو بالوقوف في وسط الملع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- التركيز على ضرورة التوافق مع الآخري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- القيود المفروضة ذاتيا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</a:rPr>
              <a:t>- الخوف من اتهام الآخرين إن أفكارنا غير مفي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</a:rPr>
              <a:t>- التقيد بأنماط محدده للتفكير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التسليم الأعمى للافتراضا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التسرع في تقييم الأفكار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التسرع في تقويم الأفكا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47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8" name="Picture 3" descr="C:\Documents and Settings\lema\Desktop\المعلم التكنولوجي.gif"/>
          <p:cNvPicPr/>
          <p:nvPr/>
        </p:nvPicPr>
        <p:blipFill>
          <a:blip r:embed="rId1"/>
          <a:stretch/>
        </p:blipFill>
        <p:spPr>
          <a:xfrm>
            <a:off x="2895480" y="1523880"/>
            <a:ext cx="3971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380880" y="3808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65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Times New Roman"/>
              </a:rPr>
              <a:t>لا نقول لكم وداعاً بل إلى لقاءات قريبة أنشاء الله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 rtl="1">
              <a:spcBef>
                <a:spcPts val="165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</a:rPr>
              <a:t>http://lamya.yoo7.co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 rtl="1">
              <a:spcBef>
                <a:spcPts val="165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6600" spc="-1" strike="noStrike">
                <a:solidFill>
                  <a:srgbClr val="ff0000"/>
                </a:solidFill>
                <a:latin typeface="Times New Roman"/>
              </a:rPr>
              <a:t>ا . د لمياء الديوا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 rtl="1">
              <a:spcBef>
                <a:spcPts val="165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8 0.137 0.06391 C 0.198 0.06657 0.248 0.0506 0.249 0.03062 C 0.249 0.01065 0.2 -0.00799 0.138 -0.00932 C 0.107 -0.00932 0.079 -0.00666 0.059 0 C 0.03 0.00932 0.013 0.02397 0.013 0.04128 C 0.013 0.0506 0.018 0.05992 0.027 0.06791 C 0.048 0.08521 0.089 0.0972 0.136 0.09853 C 0.191 0.10119 0.236 0.08655 0.236 0.06924 C 0.237 0.0506 0.192 0.03462 0.137 0.03196 C 0.109 0.03196 0.084 0.03462 0.065 0.03994 C 0.04 0.04926 0.024 0.06391 0.024 0.07856 C 0.024 0.08655 0.029 0.09454 0.037 0.10252 C 0.056 0.11717 0.092 0.12915 0.135 0.13049 C 0.185 0.13182 0.225 0.1185 0.225 0.10252 C 0.226 0.08655 0.186 0.0719 0.136 0.07057 C 0.111 0.06924 0.088 0.0719 0.071 0.07723 C 0.048 0.08521 0.035 0.0972 0.035 0.11184 C 0.035 0.1185 0.039 0.12649 0.046 0.13315 C 0.063 0.14646 0.096 0.15712 0.134 0.15845 C 0.179 0.15845 0.215 0.14779 0.215 0.13315 C 0.215 0.1185 0.18 0.10519 0.135 0.10386 C 0.113 0.10386 0.092 0.10652 0.077 0.11051 C 0.056 0.11717 0.044 0.12915 0.043 0.14114 C 0.043 0.14779 0.048 0.15445 0.054 0.15978 C 0.069 0.17309 0.099 0.18241 0.133 0.18241 C 0.173 0.18374 0.206 0.17442 0.206 0.16111 C 0.207 0.14779 0.174 0.13581 0.134 0.13448 C 0.114 0.13448 0.095 0.13581 0.082 0.14114 C 0.063 0.14646 0.052 0.15712 0.052 0.16777 C 0.052 0.17442 0.055 0.17975 0.061 0.18508 C 0.075 0.19706 0.101 0.20505 0.132 0.20638 C 0.169 0.20638 0.198 0.19839 0.198 0.18641 C 0.199 0.17442 0.17 0.16377 0.133 0.16244 C 0.115 0.16244 0.099 0.16377 0.087 0.16777 C 0.07 0.17309 0.06 0.18241 0.06 0.19307 C 0.06 0.19839 0.063 0.20239 0.068 0.20771 C 0.08 0.21836 0.104 0.22502 0.132 0.22635 C 0.165 0.22768 0.191 0.21969 0.191 0.20771 C 0.191 0.19839 0.166 0.18774 0.133 0.18774 C 0.116 0.18641 0.101 0.18907 0.09 0.19173 C 0.075 0.19706 0.066 0.20505 0.066 0.21437 C 0.066 0.21969 0.069 0.22369 0.074 0.22768 C 0.085 0.237 0.107 0.24366 0.131 0.24499 C 0.161 0.24632 0.185 0.23834 0.185 0.22902 C 0.185 0.21836 0.161 0.21037 0.132 0.20904 C 0.118 0.20904 0.104 0.21037 0.094 0.21437 C 0.08 0.21836 0.072 0.22502 0.072 0.23434 C 0.072 0.23834 0.075 0.24233 0.079 0.24632 C 0.089 0.25431 0.108 0.26097 0.131 0.26097 C 0.157 0.2623 0.179 0.25564 0.179 0.24632 C 0.179 0.23834 0.158 0.23035 0.131 0.23035 C 0.119 0.22902 0.106 0.23035 0.097 0.23301 C 0.085 0.23834 0.078 0.24499 0.078 0.25165 C 0.078 0.25564 0.08 0.25964 0.084 0.2623 C 0.093 0.27029 0.11 0.27562 0.131 0.27695 C 0.155 0.27695 0.174 0.27029 0.174 0.26363 C 0.174 0.25564 0.155 0.24766 0.131 0.24766 C 0.119 0.24766 0.108 0.24899 0.101 0.25165 C 0.089 0.25431 0.083 0.26097 0.083 0.26763 C 0.083 0.27029 0.085 0.27429 0.088 0.27695 C 0.096 0.28494 0.112 0.28893 0.13 0.29026 C 0.152 0.29026 0.169 0.28494 0.169 0.27828 C 0.169 0.27029 0.152 0.26497 0.131 0.26363 C 0.12 0.26363 0.11 0.26497 0.103 0.26763 C 0.093 0.27029 0.087 0.27562 0.087 0.28227 C 0.087 0.28494 0.089 0.2876 0.092 0.29026 E">
                                      <p:cBhvr>
                                        <p:cTn id="42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209520" y="2016360"/>
            <a:ext cx="86868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# 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cs typeface="Simplified Arabic"/>
              </a:rPr>
              <a:t>أحد أساليب المناقشة الجماعية التي يشجع بمقتضاه أفراد مجموع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 – 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12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 ) فرداً بإشراف رئيس لها على توليد أكبر عدد ممكن من الأفكار المتنوعة المبتكرة بشكل عفوي ، تلقائي حر وفي مناخ مفتوح غير نقدي لا يحد من إطلاق هذه الأفكار التي تخص حلولاً لمشكلة معينة مختارة سلفاً ، ومن ثم غربلة هذه الأفكار واختيار المناسب منها ، ويتم ذلك عادة خلال جلسة تستغرق الواحدة منها من ( 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15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– 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20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 دقيقة )</a:t>
            </a:r>
            <a:r>
              <a:rPr b="0" lang="ar-SA" sz="28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16161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247680" y="185400"/>
            <a:ext cx="85345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Simplified Arabic"/>
              </a:rPr>
              <a:t>تعريف العصف الذهن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# هو</a:t>
            </a:r>
            <a:r>
              <a:rPr b="1" lang="ar-SA" sz="2800" spc="-1" strike="noStrike">
                <a:solidFill>
                  <a:srgbClr val="7030a0"/>
                </a:solidFill>
                <a:latin typeface="Arial"/>
                <a:cs typeface="Simplified Arabic"/>
              </a:rPr>
              <a:t>الوسيلة للحصول على اكبر عدد من الأفكار من مجموعة من الأشخاص خلال فترة وجيزة لتوليد أفكار وأراء إبداعية من الإفراد والمجموعات لحل مشكلة معينة وتكون هذه الأفكار والآراء جيدة ومفيدة</a:t>
            </a:r>
            <a:r>
              <a:rPr b="0" lang="ar-SA" sz="2800" spc="-1" strike="noStrike">
                <a:solidFill>
                  <a:srgbClr val="7030a0"/>
                </a:solidFill>
                <a:latin typeface="Arial"/>
                <a:ea typeface="Simplified Arabic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imes New Roman"/>
              </a:rPr>
              <a:t>مبادئ العصف الذهني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Borderbats-Filligree"/>
              </a:rPr>
              <a:t>اولاً: أطلاق حرية التفكير</a:t>
            </a:r>
            <a:r>
              <a:rPr b="0" lang="ar-SA" sz="3600" spc="-1" strike="noStrike">
                <a:solidFill>
                  <a:srgbClr val="0000ff"/>
                </a:solidFill>
                <a:latin typeface="Borderbats-Filligre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Borderbats-Filligree"/>
              </a:rPr>
              <a:t>ثانياًً: الكم قبل الكي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Borderbats-Filligree"/>
              </a:rPr>
              <a:t>ثالثاًً: البناء على أفكار الآخرين</a:t>
            </a:r>
            <a:r>
              <a:rPr b="0" lang="en-US" sz="3600" spc="-1" strike="noStrike">
                <a:solidFill>
                  <a:srgbClr val="0000ff"/>
                </a:solidFill>
                <a:latin typeface="Borderbats-Filligre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Borderbats-Filligree"/>
              </a:rPr>
              <a:t>رابعاًً: أثارة حماس المشاركين</a:t>
            </a:r>
            <a:r>
              <a:rPr b="0" lang="en-US" sz="3600" spc="-1" strike="noStrike">
                <a:solidFill>
                  <a:srgbClr val="0000ff"/>
                </a:solidFill>
                <a:latin typeface="Borderbats-Filligre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Borderbats-Filligree"/>
              </a:rPr>
              <a:t>خامساً: إرجاء التقويم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Times New Roman"/>
              </a:rPr>
              <a:t>مراحل تطبيق العصف الذهن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just" rtl="1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مرحلة تحديد ومناقشة المشكلة ( الموضوع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just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مرحلة صياغة الموضوع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r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س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:امتداد الذراع الحاملة للمضرب يؤثر في الأدا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r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س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: قوة وسرعة الضرب لها تأثير في عبور الكرة فوق الشبك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r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س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: فتح وجه المضرب أو غلقه له تأثير في نجاح عبور الكر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r" rtl="1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س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: أي المسكات الأفضل في تحديد نسبة نجاح عبور الكرة فوق الشبكة كوننا متعلم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س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: هل افرد طولي أم هنالك أجزاء من الجسم تحتاج إلى الانحناء أو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 الانثنا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- مرحلة تهيئة جو الإبداع والعصف الذهن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وكمثال / اخترنا السؤال الثالث : فتح وجه المضرب أو غلقه له تأثير في نجاح عبور الكر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- العصف الذهني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- تحديد اغرب فكر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- تقويم الافكار التي تم التوصل ألي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تمر جلسة  العصف الذهني بعدد من المراحل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أفكار مفيدة وقابلة للتطبيق مباشر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أفكار مفيدة إلا أنها غير قابلة للتطبيق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66"/>
                </a:solidFill>
                <a:latin typeface="Times New Roman"/>
              </a:rPr>
              <a:t>مباشرة أو تحتاج إلى مزيد من البحث أو موافقة جهات أخرى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أفكار طريفة وغير عملي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</a:rPr>
              <a:t>أفكار مستثنا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</a:rPr>
              <a:t>تقويم هذه الافكار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تقويم المدرس بمفرده الافكار المطرو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تشكيل فريق مصغر من المدرس وقائد المجوعة واحد الطلاب لتقويم الافكا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التقويم عن طريق إفراد المجموعة جميعهم 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Times New Roman"/>
              </a:rPr>
              <a:t>أهداف التدريس بأسلوب العصف الذهني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حل المشكلة حلاً ابداعياً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خلق مشكلات للخصم ، ولذا ينجح هذا الأسلوب لو استخدمه المدربون في رسم خططهم الدفاعية والهجومية لخوض بطولة ما أو مباراة حاس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إيجاد مشكلات ، أو مشاريع جديد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تحفيز وتدريب تفكير وإبداع المتدرب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 0.075 -0.08255 0.125 -0.08255 C 0.175 -0.08255 0.22 -0.0506 0.25 0 C 0.22 0.0506 0.175 0.08255 0.125 0.08255 C 0.075 0.08255 0.03 0.0506 0 0 Z">
                                      <p:cBhvr>
                                        <p:cTn id="25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 0.075 -0.08255 0.125 -0.08255 C 0.175 -0.08255 0.22 -0.0506 0.25 0 C 0.22 0.0506 0.175 0.08255 0.125 0.08255 C 0.075 0.08255 0.03 0.0506 0 0 Z">
                                      <p:cBhvr>
                                        <p:cTn id="260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 0.075 -0.08255 0.125 -0.08255 C 0.175 -0.08255 0.22 -0.0506 0.25 0 C 0.22 0.0506 0.175 0.08255 0.125 0.08255 C 0.075 0.08255 0.03 0.0506 0 0 Z">
                                      <p:cBhvr>
                                        <p:cTn id="26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 0.075 -0.08255 0.125 -0.08255 C 0.175 -0.08255 0.22 -0.0506 0.25 0 C 0.22 0.0506 0.175 0.08255 0.125 0.08255 C 0.075 0.08255 0.03 0.0506 0 0 Z">
                                      <p:cBhvr>
                                        <p:cTn id="268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Times New Roman"/>
              </a:rPr>
              <a:t>مزايا أسلوب العصف الذهني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تفعيل دور المتعلم في المواقف التعليم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ينمي التفكير الإبداعي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سهل التطبيق فلا يحتاج إلى تدريب طويل من قبل مستخدمي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اعتياد الطلاب على احترام أراء الآخر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ينمي الثقة بالنفس من خلال طرح الفرد آراءه بحري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</a:rPr>
              <a:t>- الاستفادة من أفكار الغير في بلورة أفكار جديد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3:02:06Z</dcterms:created>
  <dc:creator>haider</dc:creator>
  <dc:description/>
  <dc:language>en-US</dc:language>
  <cp:lastModifiedBy>مركز عدن</cp:lastModifiedBy>
  <dcterms:modified xsi:type="dcterms:W3CDTF">2018-12-13T07:42:26Z</dcterms:modified>
  <cp:revision>52</cp:revision>
  <dc:subject/>
  <dc:title>العصف الذهني  Brain Storming </dc:title>
</cp:coreProperties>
</file>