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898-12E6-444D-8BC9-6AACDE11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FC5-D33C-40C7-93B9-0412B149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A3D-A923-45DD-91EE-46A1F6CF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40D-6307-46C4-A43A-964DCF50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C2BF-94F8-4A11-9818-1627E800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812E-979D-4B43-86FF-2A937584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323B-31F5-49A2-92D2-69972B09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CA30-6272-4ACF-A8E5-842D8FC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6255-6434-4EC1-AA6B-CEF1374A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DEC1-37C2-4555-B773-86B0EBD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91C9-881C-42A2-8B77-2D066E4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EAC-CC72-4120-897B-5B082399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4074-0193-4EBF-A55D-25C70450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142F-2631-496F-8397-6632E97A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BC1D-5BD7-4BE5-BB63-E807967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641E-B87C-46D5-91DF-92780E2C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F737-24CD-4D1B-8E39-532ECDF3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A08E-DBDC-4C11-A1B2-E27612A8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4049-258A-440B-AD6C-ED100830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D9E0-3924-4FDE-943C-9ABB843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0731-02A9-4651-86A1-16EFBACA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A392-52B2-4F84-9C19-1AF68A5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96E-EA06-4D1A-A927-048B5650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1EDF-6E50-4E5D-9E4E-2815CF8D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3E42-9247-464C-9BF4-60F6EE0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8478-B7BF-4C83-B6E2-F745E842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0CF5-7CAC-46E5-B582-629C551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11FF-EC7D-4320-B566-97857A75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BD0F-DEFA-4F3C-A8DB-91ED271E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B5C0-E861-419E-8A66-5EA8080D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A91A-97F2-4A6C-B20B-48F88697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9E2B-E61B-43B9-A5EB-BC97CBCA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226A-ACCF-4F08-8105-378F3982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C50-6FEB-4963-9CD9-DC3B340C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7E06-6E6C-46BC-8D5A-AB58152D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57BC-7ACA-4BC3-A660-5DF08CEE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76A1-AADA-4A70-A056-12860547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D720-5F97-4D51-B5E4-EEEEF63E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F23B-ED3D-4CDD-B73B-C22D28F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AE94-F327-4DD1-902C-6773CB2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B992-0D00-40A1-93FA-E01F8857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D0F7-F10A-4FB6-B4A8-6EBEDBB3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54304-94F9-4CD3-9C5B-A3AD6942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EB84-BA23-4305-80AD-C240F6FB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918-0FFF-4381-AEE0-4EB21B7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B4D5-757F-437C-8B00-E26A822E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6F57A-C669-45BC-A114-FA50DF4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8582-5842-47C8-A20A-A34071CB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A16B3-0801-4AB4-B5D8-FB8B1FCB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9EE8-EA5F-4A72-BB26-C042FF06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6D10-3BD9-4762-BF5E-C215AC6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82C9-4D06-4F06-A215-21808EA2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586F-87A6-488C-B7A8-C0BA1F7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1CD1-04C6-4153-BD6E-B80E930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9F33B-5AC0-4C76-8E43-F233E9DC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E0C-CF94-4BE2-A9F4-C6A1D9E3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740D-D2D3-4108-8961-51A88130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FEED-762C-4FA0-B5F6-3417199E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E73D8-EF82-4807-BE73-A20F78A8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86BC2-DF74-4B5B-86B7-1CC9F1A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A5545-514D-4C89-9D73-ACBDE60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34710-C877-474F-980F-37D00F07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44F5-C61A-4BBE-A594-9DBBA317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E8994-51E2-4664-A466-FA93A58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D00D-BE0D-4E7B-9A8B-C7EBACF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613AA-0D08-4E8C-BF14-D50DCE4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5DE-4493-46D8-8995-72A8071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3F66-1977-4A5B-AC0D-D071FDDE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E0DF-3FAF-4FB1-9564-15D79DC1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032A-D5EE-446F-A376-3ED82D23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32D71-F160-4B9F-BC18-166AFFD5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A467D-B9DA-4017-8E02-35AC2B30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474F0-E386-4F36-97D2-4A22610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A854-22D0-4353-86FB-5689C8D9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6C2AB-8168-419B-A799-FE6DE7FD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CF5F-D402-4526-88E9-BE6CAE22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C9680-D417-4C6B-B228-01D13925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F1D-7EA4-4670-978D-03F32FB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65CE5-94CD-4512-A71A-C1F70730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59B5-80A2-4D41-9897-6426065F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DC84-25F3-42CF-A636-58B6CE58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E2E6-EFD3-4D88-9E49-0833DABD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8AF8D-0CB4-4328-8F27-4873F446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6B4-D0FF-42A0-8066-8B2586D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475B-AC9A-41A0-BCD5-C462881CA14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E9F1-07A0-4D51-92EC-6E1C3F69DC8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2FB-5607-4C99-B7DF-7B5F044E7C8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391-1CFA-4E80-86B2-2BE3563EBC9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55E6-7F13-47BE-91E5-70699DC7547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C135-1008-441E-AA4E-B0C9073C0B3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71F1-F9FA-488C-8958-4339289F2BF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36400" y="476280"/>
            <a:ext cx="8137800" cy="83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5400" spc="-1" strike="noStrike">
                <a:solidFill>
                  <a:srgbClr val="ff0000"/>
                </a:solidFill>
                <a:latin typeface="Sakkal Majalla"/>
                <a:cs typeface="Sakkal Majalla"/>
              </a:rPr>
              <a:t>رئاسة جامعة البصرة</a:t>
            </a:r>
            <a:br>
              <a:rPr sz="5400"/>
            </a:br>
            <a:r>
              <a:rPr b="1" lang="ar-IQ" sz="5400" spc="-1" strike="noStrike">
                <a:solidFill>
                  <a:srgbClr val="ff0000"/>
                </a:solidFill>
                <a:latin typeface="Sakkal Majalla"/>
                <a:cs typeface="Sakkal Majalla"/>
              </a:rPr>
              <a:t>كلية التربية البدنية وعلوم الرياضة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University of basrah</a:t>
            </a:r>
            <a:br>
              <a:rPr sz="4400"/>
            </a:b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College of Physical Education and Sports 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2018</a:t>
            </a: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 - </a:t>
            </a:r>
            <a:r>
              <a:rPr b="1" lang="en-US" sz="4400" spc="-1" strike="noStrike">
                <a:solidFill>
                  <a:srgbClr val="8898c3"/>
                </a:solidFill>
                <a:latin typeface="Gill Sans MT"/>
              </a:rPr>
              <a:t>20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xt Box 2" descr=""/>
          <p:cNvPicPr/>
          <p:nvPr/>
        </p:nvPicPr>
        <p:blipFill>
          <a:blip r:embed="rId1"/>
          <a:stretch/>
        </p:blipFill>
        <p:spPr>
          <a:xfrm>
            <a:off x="579600" y="42840"/>
            <a:ext cx="8137440" cy="3468600"/>
          </a:xfrm>
          <a:prstGeom prst="rect">
            <a:avLst/>
          </a:prstGeom>
          <a:ln w="0">
            <a:noFill/>
          </a:ln>
        </p:spPr>
      </p:pic>
      <p:pic>
        <p:nvPicPr>
          <p:cNvPr id="320" name="Text Box 3" descr=""/>
          <p:cNvPicPr/>
          <p:nvPr/>
        </p:nvPicPr>
        <p:blipFill>
          <a:blip r:embed="rId2"/>
          <a:stretch/>
        </p:blipFill>
        <p:spPr>
          <a:xfrm>
            <a:off x="542880" y="3371760"/>
            <a:ext cx="81313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مستطيل 1" descr=""/>
          <p:cNvPicPr/>
          <p:nvPr/>
        </p:nvPicPr>
        <p:blipFill>
          <a:blip r:embed="rId1"/>
          <a:stretch/>
        </p:blipFill>
        <p:spPr>
          <a:xfrm>
            <a:off x="328680" y="334800"/>
            <a:ext cx="8413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مستطيل 1"/>
          <p:cNvSpPr/>
          <p:nvPr/>
        </p:nvSpPr>
        <p:spPr>
          <a:xfrm>
            <a:off x="1187280" y="260280"/>
            <a:ext cx="770580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ff0000"/>
                </a:solidFill>
                <a:latin typeface="Times New Roman"/>
              </a:rPr>
              <a:t>لا يسمح لحارس المرمى بالات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5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تعريض المنافس للخطر عندما يكون في حالة دفاع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3:8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5:8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تعليق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5:8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ب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6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ترك منطقة المرمى مع الكرة وهي تحت سيطرته، وهذا يؤدي الى رمية حرة (طبقا لـ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6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أ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:1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لفقرة الثالثة) اذا اطلق الحكام صافرتهم لأداء رمية حارس المرمى، وإلا ببساطة تعاد رميه حارس المرمى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:1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لفقرة الثانية)، مع ذلك انظر تفسير قاعدة الفائدة في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:1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 اذا فقد حارس المرمى الكرة خارج منطقة المرمى بعد اجتيازه الخط والكرة في يد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لمس الكرة عندما تكون مستقرة او متدحرجة على الارض خارج منطقة المرمى في حين هو داخل منطقة المرمى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أ)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8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خذ الكرة داخل منطقة المرمى عندما تكون مستقرة او متدحرجة على الارض خارج منطقة المرمى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6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أ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9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لعودة بالكرة من منطقة اللعب الى منطقة المرمى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6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أ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0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لمس الكرة بالقدم او الساق اسفل الركبة عندما تكون متحركـة  خارجا باتجاه منطقة اللعب (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:13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أ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11:5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عبور الخط المقيد لحارس المرمى (خط الـ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متار) او امتداده من كلا الجانبين قبل ان تترك الكرة يد المنافس الذي يؤدي رمية الـ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متار  (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9:14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تعلي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طالما يكون حارس المرمى مبقيا احدى قدميه على الارض على او خلف الخط المقيد (خط الـ 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IQ" sz="2000" spc="-1" strike="noStrike">
                <a:solidFill>
                  <a:srgbClr val="000000"/>
                </a:solidFill>
                <a:latin typeface="Times New Roman"/>
              </a:rPr>
              <a:t> امتار) فانه يسمح له بتحريك قدمه الاخرى او أي جزء من جسمه خارج الخط في الهواء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12-19T17:23:36Z</dcterms:modified>
  <cp:revision>1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