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AC7A-EE92-4D00-A77C-B27BE1C2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A4DD-E2A3-4563-969E-B7AA1C55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E68F-DFF0-49E9-9FB0-EC6186BF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3F2-7F6C-46D7-8D7D-403BF345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E34B-D94C-454F-825C-7CD7E24E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981E-1717-46A7-960F-2E2065F3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3312-35D1-49F9-9288-96FDA003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E34C-5BDA-4C0D-9E95-37A19A72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B28E-547F-45B2-937F-AFCD3F29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4C2C-8160-4F63-A71C-79CA95A9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860B-7C3A-4F6C-9015-620084DA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92BA-4E49-45C4-849B-F6FD9AE6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406E-5674-4417-86A4-36276AB6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6C37-61A1-45B1-BD23-C3E99517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B1EC-3A13-4AA4-B228-147E17DD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2DFB-FC8B-4A2F-AB6E-B4A08938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42A9-BC64-47A8-A479-5EF93451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EF1A3-2324-4C5E-842E-D2D6005B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37D17-54F4-4579-ACE9-7033DB7F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0313D-9F33-4E3E-8CCE-1C24CF30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1B6DB-4843-4383-B049-86D0B03D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C96A9-9476-40C4-AFBD-380B70D5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C9E6-C6FC-40C4-98B1-642FBD50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C38F4-0D63-4E8E-A46E-18FD7753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42F6F-4C0D-4F1A-988C-B62DE9D6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000BB-14A8-43F8-BDBB-3DC058D4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293FF-6FBD-4218-85EE-F1DB92BA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A7A37-4950-4D6D-8570-E62FAAB8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866E5-3D97-4B12-A718-9081CD1D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5CE21-05D3-49FF-A8F4-19EF9329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96FED-4EC0-46D7-95F0-0E8AE332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F49FB-DFF1-4B09-9469-9564BE8D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C2D9B-22CB-424E-9673-0F5D7C4D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08D-B97B-413D-8148-181C60E5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B57FD-2BC6-4D72-86F0-C118EF5D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96CDE-68AE-4B9C-915A-573E4727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770A8-E245-4652-8575-D7D9C01F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B8D41-23A6-4B8E-9EF3-B2D68038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C5F1D-B9FE-49C0-94CF-6BA425EA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E8B05-DE10-4808-92C8-310B980C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90B7C-8822-4157-946E-98E21898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C4380-477C-4A36-9E6F-556A354E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919AC-719C-4823-AE30-FD7AF2E6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69BFA-A263-4976-9A3F-AD547066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66C-9DD6-4F08-A43C-844A50BD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54054-D58B-428E-BB1D-FDE78B25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D33D9-499C-4863-8617-AE66832B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7C84B-3364-4C9A-8E3F-B97A55DA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D6886-CC36-4E4A-8664-DBDC8AA0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11BCE-371C-42F1-BDF2-74A7C26F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1E2A5-B23A-4F42-9F9E-6A9A6BE2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91DAA-9CB7-45C9-BCE2-181F0C95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CF121-B7EB-45DD-A610-40A9EF2A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61AA4-AD2F-422B-BDE9-537CB7E4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EDA49-CAE9-4D0F-AB8C-4C3930CB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7E3-35B3-4B46-9615-B6368F9B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73851-1655-4145-B059-51AF35F7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B9ED1-805E-4B0C-B2EB-E30DA39C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781E8-18A6-43F9-865B-FF220D4A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BFE9F-B8F2-4976-9C3F-6285087E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5E47C-B5AA-4CB1-B953-A972CAB5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37D83-1097-4AFF-AEF3-BD0B861E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13F6C-E4A9-43F5-9D8B-06CE35C9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C203F-1CE7-4228-BC79-C309D07F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A0DDE-18FD-4911-9AC7-FB98EABF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101D5-42CE-471A-BBD0-953E150F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269-7845-4CB6-B92A-B8F3955C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8E4F1-606A-4E22-9FA1-71877F40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0FC04-89CD-445A-94EC-F3C3D2C9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B8310-7753-42C2-B418-80207175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46AD1-060F-4190-9AD7-B8DB6A9A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8A046-6A83-4995-A5BE-03EA6FCA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86392-2021-4185-AFE0-CBE60165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6FACC-C7AD-4AE0-B5A0-BBE40A33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59027-A449-490F-AA56-BCB0C209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1D364-60E5-4A3B-8608-6EB7C250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805A1-2924-46A0-9C29-012E42F7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2CF-063A-4341-9786-A4F6F1F9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C072C-F9E6-42CD-8760-7D032FFE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5F4E4-99E1-4A63-BB02-FC8FD752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0F18A-BEA9-40D7-BED8-38350B38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A9C74-06BD-40A6-940B-4E7872EE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AE6CD-3507-4247-BFFA-4E5E6C5B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114-43CC-46E6-B2EA-BBDB2201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26E3-5F57-4D0B-8FBF-11FA6BFE7429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1FD9-5C1C-4213-8E60-A9D8E082D205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D11E-B7F6-4A1C-8E33-B634DDEF61EF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6AF7-FEC9-4037-A919-C787E28DF93B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BF5C-B95B-4795-A431-E5A9032E7292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A3F5-DCD5-4AE8-8DBA-418A65E064E2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C903-ED3E-4379-AF97-5A53FC0011A0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3"/>
          <p:cNvSpPr/>
          <p:nvPr/>
        </p:nvSpPr>
        <p:spPr>
          <a:xfrm>
            <a:off x="536400" y="476280"/>
            <a:ext cx="8137800" cy="83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5400" spc="-1" strike="noStrike">
                <a:solidFill>
                  <a:srgbClr val="ff0000"/>
                </a:solidFill>
                <a:latin typeface="Sakkal Majalla"/>
                <a:cs typeface="Sakkal Majalla"/>
              </a:rPr>
              <a:t>رئاسة جامعة البصرة</a:t>
            </a:r>
            <a:br>
              <a:rPr sz="5400"/>
            </a:br>
            <a:r>
              <a:rPr b="1" lang="ar-IQ" sz="5400" spc="-1" strike="noStrike">
                <a:solidFill>
                  <a:srgbClr val="ff0000"/>
                </a:solidFill>
                <a:latin typeface="Sakkal Majalla"/>
                <a:cs typeface="Sakkal Majalla"/>
              </a:rPr>
              <a:t>كلية التربية البدنية وعلوم الرياضة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898c3"/>
                </a:solidFill>
                <a:latin typeface="Gill Sans MT"/>
              </a:rPr>
              <a:t>University of basrah</a:t>
            </a:r>
            <a:br>
              <a:rPr sz="4400"/>
            </a:br>
            <a:r>
              <a:rPr b="1" lang="en-US" sz="4400" spc="-1" strike="noStrike">
                <a:solidFill>
                  <a:srgbClr val="8898c3"/>
                </a:solidFill>
                <a:latin typeface="Gill Sans MT"/>
              </a:rPr>
              <a:t>College of Physical Education and Sports  Sc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898c3"/>
                </a:solidFill>
                <a:latin typeface="Gill Sans MT"/>
              </a:rPr>
              <a:t>2018</a:t>
            </a:r>
            <a:r>
              <a:rPr b="1" lang="en-US" sz="4400" spc="-1" strike="noStrike">
                <a:solidFill>
                  <a:srgbClr val="8898c3"/>
                </a:solidFill>
                <a:latin typeface="Gill Sans MT"/>
              </a:rPr>
              <a:t> - </a:t>
            </a:r>
            <a:r>
              <a:rPr b="1" lang="en-US" sz="4400" spc="-1" strike="noStrike">
                <a:solidFill>
                  <a:srgbClr val="8898c3"/>
                </a:solidFill>
                <a:latin typeface="Gill Sans MT"/>
              </a:rPr>
              <a:t>20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ext Box 2" descr=""/>
          <p:cNvPicPr/>
          <p:nvPr/>
        </p:nvPicPr>
        <p:blipFill>
          <a:blip r:embed="rId1"/>
          <a:stretch/>
        </p:blipFill>
        <p:spPr>
          <a:xfrm>
            <a:off x="579600" y="42840"/>
            <a:ext cx="8137440" cy="3468600"/>
          </a:xfrm>
          <a:prstGeom prst="rect">
            <a:avLst/>
          </a:prstGeom>
          <a:ln w="0">
            <a:noFill/>
          </a:ln>
        </p:spPr>
      </p:pic>
      <p:pic>
        <p:nvPicPr>
          <p:cNvPr id="320" name="Text Box 3" descr=""/>
          <p:cNvPicPr/>
          <p:nvPr/>
        </p:nvPicPr>
        <p:blipFill>
          <a:blip r:embed="rId2"/>
          <a:stretch/>
        </p:blipFill>
        <p:spPr>
          <a:xfrm>
            <a:off x="542880" y="3371760"/>
            <a:ext cx="81313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مستطيل 1" descr=""/>
          <p:cNvPicPr/>
          <p:nvPr/>
        </p:nvPicPr>
        <p:blipFill>
          <a:blip r:embed="rId1"/>
          <a:stretch/>
        </p:blipFill>
        <p:spPr>
          <a:xfrm>
            <a:off x="328680" y="334800"/>
            <a:ext cx="84135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مستطيل 1"/>
          <p:cNvSpPr/>
          <p:nvPr/>
        </p:nvSpPr>
        <p:spPr>
          <a:xfrm>
            <a:off x="1187280" y="260280"/>
            <a:ext cx="7705800" cy="80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ff0000"/>
                </a:solidFill>
                <a:latin typeface="Times New Roman"/>
              </a:rPr>
              <a:t>لا يسمح لحارس المرمى بالاتي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5:5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تعريض المنافس للخطر عندما يكون في حالة دفاع (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3:8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5:8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، تعليق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5:8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1:13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ب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6:5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ترك منطقة المرمى مع الكرة وهي تحت سيطرته، وهذا يؤدي الى رمية حرة (طبقا لـ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1:6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1:13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أ،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7:15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الفقرة الثالثة) اذا اطلق الحكام صافرتهم لأداء رمية حارس المرمى، وإلا ببساطة تعاد رميه حارس المرمى (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7:15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الفقرة الثانية)، مع ذلك انظر تفسير قاعدة الفائدة في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7:15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،  اذا فقد حارس المرمى الكرة خارج منطقة المرمى بعد اجتيازه الخط والكرة في يد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7:5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لمس الكرة عندما تكون مستقرة او متدحرجة على الارض خارج منطقة المرمى في حين هو داخل منطقة المرمى (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1:13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أ)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8:5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اخذ الكرة داخل منطقة المرمى عندما تكون مستقرة او متدحرجة على الارض خارج منطقة المرمى (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1:6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1:13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أ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9:5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العودة بالكرة من منطقة اللعب الى منطقة المرمى (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1:6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1:13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أ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10:5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لمس الكرة بالقدم او الساق اسفل الركبة عندما تكون متحركـة  خارجا باتجاه منطقة اللعب (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1:13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أ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11:5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عبور الخط المقيد لحارس المرمى (خط الـ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امتار) او امتداده من كلا الجانبين قبل ان تترك الكرة يد المنافس الذي يؤدي رمية الـ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امتار  (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9:14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تعلي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طالما يكون حارس المرمى مبقيا احدى قدميه على الارض على او خلف الخط المقيد (خط الـ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امتار) فانه يسمح له بتحريك قدمه الاخرى او أي جزء من جسمه خارج الخط في الهواء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12-19T17:23:36Z</dcterms:modified>
  <cp:revision>13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