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57A4A-2946-4521-B360-1F12DDB5B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8988A-6865-4CA3-A871-3E4FB46C3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16308-4073-4E39-A21E-7E2FC9C14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AFFD6-B6A6-4FC4-9BC1-B80F89D1A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62042-3119-43FD-97C4-A25F3CCE3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6E5B6-2297-41BA-ADA8-8985D4893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8B819-FF30-4A8B-AEE0-860B41A6F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16494-44A4-4575-BEB3-FC86F63F3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EA769-917D-4A77-94E7-ACC041FF8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9938A-A6C2-46FA-8741-1F8531C33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AD7F6-67CB-41CD-9364-E973C70E6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8FAC0-D718-4750-86A7-BFF1D79AB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EAA93-49AC-4967-BA19-2D338A7D7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4CB60-9FDF-4407-AFA3-ECAE5FC0D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B143F-837C-46EB-9DDB-EB716BF80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8C2AE-96D7-4143-8F4D-C63C2143F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67CCA-2065-485D-B175-F87367016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BCEC82-C855-4287-BED1-3EFC57E373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008F7-2F47-4DBE-BCD2-01B3FF224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DA99D-7231-45E5-B491-D0446A617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17D66-8940-446C-B43C-5EA42DDB0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F705E-5DCD-4A3F-A58E-F5D5ED685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BA1E4-5B70-47B1-BD90-D73FA4DB7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3F0160-2ABB-47A4-93F7-782EB639F7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026A3-2C48-4C83-9BFC-89468844C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5D398-4E34-485D-BAAC-FA8C73E92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5D9D1-BFBE-4EEC-8759-9FE4DAC1A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46517B-4709-45BD-A080-4519AFB35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9C0228-48EF-49D4-B2D4-0F72DEA50D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48DDF-F06F-4C78-9416-ED603D1DEF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A0139A-ACAF-4FE7-8173-AD5F2C7BD7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209CD7-95AF-4E5B-B94D-E00F86C407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90250D-29FC-4935-8E41-DDF92E7615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95B72-CCEB-432C-85F2-326ED1CD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8C60CD-7456-4E0A-A023-E12965F58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F831F-DE4B-4941-869E-B3826DAC8B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B1B7D-E73B-41DE-8DEF-BD62090716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A2A56-F241-4125-A41F-EEDDDD5FF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002A1-0319-4155-99C2-852540378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B8092-58C1-4461-A7CE-171A2518B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2770F8-6655-469A-83A9-1690A9788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72CD5B-A516-4543-A358-A51CB667E2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A36568-6C2A-40B5-AF37-79CE4FE24C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4501A6-DFA3-4018-AF0C-CA8C749C6E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31433-5E25-4E5D-ABA7-C63275D33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6AE9DF-7BC5-4809-8A32-22BB026AD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064363-1655-484D-B104-E65DB07C3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D40C61-536B-4915-B871-9E76C1177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DBB8A3-DC34-4C21-8C1B-7FEB639DDE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606B5F-BE10-4042-995F-0F49E7B2F2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5894EF-2DF6-4675-B174-87FE2BDD6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D3D53-DA53-41D8-8EF9-E932B8879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EA1F3F-AC25-4578-B6FE-07922FECB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1A10FE-2BDC-4A9D-B673-5703F724EF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146908-2ECC-499B-B44F-A6F36505C9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482CC-27E5-4FD6-AE09-676AA4A29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C0F482-87E8-4D22-AA08-043994766A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E077FB-983E-4BDA-971F-9BB4C3C0A2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FAE16A-9BBC-4E8C-A476-A7C1F72B13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1A457D-AF29-4F96-B8CD-E9D5528C6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DAAAFB-EA48-43E5-BC44-1B017ECCA8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08DE41-4F7B-4E12-9AAF-EEDB57D9C7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4E578-8310-4FC1-89B4-A1B6B9287C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79A969-2EA4-45F1-A690-8757D1736E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7ABBB-559E-438B-98C5-C9F0E297D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6A2C9-7BC3-4EB3-B269-816941D3A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C15F-1AF8-4E2D-8639-C9C57D4A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1BF612-A900-415B-B872-0256C4C1D7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37725E-216E-4A47-ADF0-D4179315E8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B903C0-F4C9-4F35-BE69-807506649E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0DFF29-C600-4A5E-AD81-2BE9A50F22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1E37A4-87AB-4E2A-8D42-F9BAF47417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ACE582-DB2A-4F2B-973D-62253435B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2DA157-E3D8-43DD-8D6D-7D2EE2476C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3B1C59-D0C0-40B8-B6EC-E6D77A6F48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E7CA6-6B68-4971-B8DD-154E1344CD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10108-4483-4E37-BFFE-503BBA91B2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43BD-33E1-4F19-8C14-7D3EC6C71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7C3035-39EE-416C-8B79-EE04A2705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19A71-859E-4211-A9AF-FAF1ABB6F7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B9EEDF-E715-4343-939F-5D5938886D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B0FA01-6490-4E8E-BB84-534AC7C48D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19DE02-229E-40F4-8D18-3816259F6A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52BDA-CA43-4564-8C99-6EEF0B819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60C5-4BEB-4A01-AF9B-A955D097AF8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2B18-F91C-4977-9A67-92C54760C56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8EC9-613B-4305-9B9E-36649702F9F5}"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1D59-786A-4346-9B56-75A06A317F3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C2E5-7124-4F8C-A996-2B319518CEEB}"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FE6A-717B-4A13-8C71-DA3D6A27E60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2136-03EF-4A31-B27F-652ED4D77BCC}"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8363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ff0000"/>
                </a:solidFill>
                <a:latin typeface="Sakkal Majalla"/>
                <a:cs typeface="Sakkal Majalla"/>
              </a:rPr>
              <a:t>رئاسة جامعة البصرة</a:t>
            </a:r>
            <a:br>
              <a:rPr sz="5400"/>
            </a:br>
            <a:r>
              <a:rPr b="1" lang="ar-IQ" sz="5400" spc="-1" strike="noStrike">
                <a:solidFill>
                  <a:srgbClr val="ff0000"/>
                </a:solidFill>
                <a:latin typeface="Sakkal Majalla"/>
                <a:cs typeface="Sakkal Majalla"/>
              </a:rPr>
              <a:t>كلية التربية البدنية وعلوم الرياضة</a:t>
            </a:r>
            <a:br>
              <a:rPr sz="4800"/>
            </a:br>
            <a:endParaRPr b="0" lang="en-US" sz="5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University of basrah</a:t>
            </a:r>
            <a:br>
              <a:rPr sz="4400"/>
            </a:br>
            <a:r>
              <a:rPr b="1" lang="en-US" sz="4400" spc="-1" strike="noStrike">
                <a:solidFill>
                  <a:srgbClr val="8898c3"/>
                </a:solidFill>
                <a:latin typeface="Gill Sans MT"/>
              </a:rPr>
              <a:t>College of Physical Education and Sports  Science</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2018</a:t>
            </a:r>
            <a:r>
              <a:rPr b="1" lang="en-US" sz="4400" spc="-1" strike="noStrike">
                <a:solidFill>
                  <a:srgbClr val="8898c3"/>
                </a:solidFill>
                <a:latin typeface="Gill Sans MT"/>
              </a:rPr>
              <a:t> - </a:t>
            </a:r>
            <a:r>
              <a:rPr b="1" lang="en-US" sz="4400" spc="-1" strike="noStrike">
                <a:solidFill>
                  <a:srgbClr val="8898c3"/>
                </a:solidFill>
                <a:latin typeface="Gill Sans MT"/>
              </a:rPr>
              <a:t>2019</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549360" y="276120"/>
            <a:ext cx="8137440" cy="3462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7200" spc="-1" strike="noStrike">
                <a:solidFill>
                  <a:srgbClr val="ff0000"/>
                </a:solidFill>
                <a:latin typeface="Sakkal Majalla"/>
                <a:cs typeface="Sakkal Majalla"/>
              </a:rPr>
              <a:t>كرة اليد  - </a:t>
            </a:r>
            <a:r>
              <a:rPr b="1" lang="ar-IQ" sz="7200" spc="-1" strike="noStrike">
                <a:solidFill>
                  <a:srgbClr val="0070c0"/>
                </a:solidFill>
                <a:latin typeface="Sakkal Majalla"/>
                <a:cs typeface="Sakkal Majalla"/>
              </a:rPr>
              <a:t>التصويب </a:t>
            </a:r>
            <a:r>
              <a:rPr b="1" lang="en-US" sz="7200" spc="-1" strike="noStrike">
                <a:solidFill>
                  <a:srgbClr val="0070c0"/>
                </a:solidFill>
                <a:latin typeface="Sakkal Majalla"/>
                <a:ea typeface="Sakkal Majalla"/>
              </a:rPr>
              <a:t>Aiming</a:t>
            </a:r>
            <a:endParaRPr b="0" lang="en-US" sz="7200" spc="-1" strike="noStrike">
              <a:solidFill>
                <a:srgbClr val="000000"/>
              </a:solidFill>
              <a:latin typeface="Times New Roman"/>
            </a:endParaRPr>
          </a:p>
        </p:txBody>
      </p:sp>
      <p:sp>
        <p:nvSpPr>
          <p:cNvPr id="320" name="Text Box 3"/>
          <p:cNvSpPr/>
          <p:nvPr/>
        </p:nvSpPr>
        <p:spPr>
          <a:xfrm>
            <a:off x="539640" y="3476520"/>
            <a:ext cx="813780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أعداد</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الدكتور ضرغام عبد السالم نعمه</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Sakkal Majalla"/>
                <a:ea typeface="Sakkal Majalla"/>
              </a:rPr>
              <a:t>Dr. Dhurgham A.AL salam Namah</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ستطيل 1"/>
          <p:cNvSpPr/>
          <p:nvPr/>
        </p:nvSpPr>
        <p:spPr>
          <a:xfrm>
            <a:off x="468360" y="333360"/>
            <a:ext cx="8207280" cy="6906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ال</a:t>
            </a:r>
            <a:r>
              <a:rPr b="1" lang="ar-IQ" sz="2400" spc="-1" strike="noStrike">
                <a:solidFill>
                  <a:srgbClr val="ff0000"/>
                </a:solidFill>
                <a:latin typeface="Gill Sans MT"/>
              </a:rPr>
              <a:t>تصويب    </a:t>
            </a:r>
            <a:r>
              <a:rPr b="1" lang="en-US" sz="2400" spc="-1" strike="noStrike">
                <a:solidFill>
                  <a:srgbClr val="ff0000"/>
                </a:solidFill>
                <a:latin typeface="Gill Sans MT"/>
              </a:rPr>
              <a:t>Aiming</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Gill Sans MT"/>
              </a:rPr>
              <a:t>التصويب</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ar-IQ" sz="2400" spc="-1" strike="noStrike">
                <a:solidFill>
                  <a:srgbClr val="000000"/>
                </a:solidFill>
                <a:latin typeface="Gill Sans MT"/>
              </a:rPr>
              <a:t>يعد التصويب من المهارات ألأساسية في كرة اليد حيث أن كل المهارات والخطط التي يطبقها اللاعبون تكون عديمة الفائدة أذا لم تتوج هذه العملية بالتصويب والغرض من التصويب على مختلف أنواعهٌ هو أصابة مرمى الفريق الخصم ، ويعرف البعض بأن التصويب ما هو ألا النتيجة النهائية للهجوم على أمل تسجيل هدف حيث يتم خلق وضع مناسب يتمكن من خلاله أحد أعضاء الفريق من تنفيذ رمية هدف مباشرة مع فرصة جيدة للتسجيل</a:t>
            </a:r>
            <a:r>
              <a:rPr b="1" lang="ar-IQ" sz="2400" spc="-1" strike="noStrike" baseline="30000">
                <a:solidFill>
                  <a:srgbClr val="000000"/>
                </a:solidFill>
                <a:latin typeface="Gill Sans MT"/>
              </a:rPr>
              <a:t> </a:t>
            </a:r>
            <a:r>
              <a:rPr b="1" lang="ar-IQ" sz="2400" spc="-1" strike="noStrike">
                <a:solidFill>
                  <a:srgbClr val="000000"/>
                </a:solidFill>
                <a:latin typeface="Gill Sans MT"/>
              </a:rPr>
              <a:t>، ويعرف أيضاً بأن التصويب ما هو ألا التتويج النهائي لتكوينات اللعب جميعها فضلاً عن أن هذه المهارات يعشقها كل من أللاعب والمشاهد وتجذبهُ أكثر من المهارات ألأخرى</a:t>
            </a:r>
            <a:r>
              <a:rPr b="1" lang="ar-IQ" sz="2400" spc="-1" strike="noStrike" baseline="30000">
                <a:solidFill>
                  <a:srgbClr val="000000"/>
                </a:solidFill>
                <a:latin typeface="Gill Sans MT"/>
              </a:rPr>
              <a:t> </a:t>
            </a:r>
            <a:r>
              <a:rPr b="1" lang="ar-IQ" sz="2400" spc="-1" strike="noStrike">
                <a:solidFill>
                  <a:srgbClr val="000000"/>
                </a:solidFill>
                <a:latin typeface="Gill Sans MT"/>
              </a:rPr>
              <a:t>، وأن الهدف النهائي للهجوم  هو التصويب وان عدد الأهداف هو الحد الفاصل بين الفريقين لذلك يعد الفريق فائزاً الذي يسجل أهدافاً أكثر من الفريق ألأخر</a:t>
            </a:r>
            <a:r>
              <a:rPr b="1" lang="ar-IQ" sz="2400" spc="-1" strike="noStrike" baseline="30000">
                <a:solidFill>
                  <a:srgbClr val="000000"/>
                </a:solidFill>
                <a:latin typeface="Gill Sans MT"/>
              </a:rPr>
              <a:t> </a:t>
            </a:r>
            <a:r>
              <a:rPr b="1" lang="ar-IQ" sz="2400" spc="-1" strike="noStrike">
                <a:solidFill>
                  <a:srgbClr val="000000"/>
                </a:solidFill>
                <a:latin typeface="Gill Sans MT"/>
              </a:rPr>
              <a:t>، ويعد التصويب على أنه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
          <p:cNvSpPr/>
          <p:nvPr/>
        </p:nvSpPr>
        <p:spPr>
          <a:xfrm>
            <a:off x="1258920" y="1052640"/>
            <a:ext cx="7200720" cy="6129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داء مهاري توافقي مركب يتصف بالقوة والسرعة والدقة لرمي الكرة نحو الهدف بطريقة قانونية ، وأن أهمية دقة التصويب تزداد عند تقارب المستوى بين الفرق  المتنافسة لان أضاعه أي فرصة قد تؤدي الى خسارة المباراة ،  وهي مهارة يفترض أن يجيدها جميع اللاعبين بغض النظر عن مراكزهم في اللعب ، ان التصويب في كرة اليد يعشقه كل من اللاعب والمدرب والمتفرج ويجذبهم اكثر من المهارات الاخرى بالاضافة الى ذلك فان نجاح هذه المهارات يتطلب اجادة استخدام رسغ اليد وسرعة لأداة في التصويب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أن طبيعة ألاداء المهاري في كرة اليد الحديثة يتميز بأنه مجموعة من الحركات المترابطة والمندمجة والتي يؤديها اللاعب بحسب متطلبات الموقف الذي يمر به من خلال المنافسة لتحقيق هدف معتمداً على قدراته وصلاحياته البدنية والمهارية لذا يجب أن يتم ألاداء بسرعة في التحرك والتمرير والتصويب وبدرجة عالية من الفاعلية والإنجاز</a:t>
            </a:r>
            <a:r>
              <a:rPr b="1" lang="ar-IQ" sz="1800" spc="-1" strike="noStrike" baseline="30000">
                <a:solidFill>
                  <a:srgbClr val="000000"/>
                </a:solidFill>
                <a:latin typeface="Times New Roman"/>
              </a:rPr>
              <a:t> </a:t>
            </a:r>
            <a:r>
              <a:rPr b="1" lang="ar-IQ" sz="1800" spc="-1" strike="noStrike">
                <a:solidFill>
                  <a:srgbClr val="000000"/>
                </a:solidFill>
                <a:latin typeface="Times New Roman"/>
              </a:rPr>
              <a:t>، ويعرفهُ </a:t>
            </a:r>
            <a:r>
              <a:rPr b="1" lang="en-US" sz="1800" spc="-1" strike="noStrike">
                <a:solidFill>
                  <a:srgbClr val="000000"/>
                </a:solidFill>
                <a:latin typeface="Times New Roman"/>
              </a:rPr>
              <a:t>vialla</a:t>
            </a:r>
            <a:r>
              <a:rPr b="1" lang="ar-IQ" sz="1800" spc="-1" strike="noStrike">
                <a:solidFill>
                  <a:srgbClr val="000000"/>
                </a:solidFill>
                <a:latin typeface="Times New Roman"/>
              </a:rPr>
              <a:t> بأنه الهدف النهائي للهجوم الذي يظهر خلاصة التعاون المنسجم للاعبين فيما بينهم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يرى بأن التصويب ما هو ألا مجموعة من المهارات والتحركات والخطط المتفق عليها التي يؤديها لاعبين الفريق المهاجم لغرض أصابة مرمى الفريق الخصم بأقصر زمن ممكن وأقل جهد مبذول وبدون أخطاء قانوني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1"/>
          <p:cNvSpPr/>
          <p:nvPr/>
        </p:nvSpPr>
        <p:spPr>
          <a:xfrm>
            <a:off x="1332000" y="907920"/>
            <a:ext cx="6985080" cy="5031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a:t>
            </a:r>
            <a:r>
              <a:rPr b="1" lang="ar-IQ" sz="1800" spc="-1" strike="noStrike">
                <a:solidFill>
                  <a:srgbClr val="ff0000"/>
                </a:solidFill>
                <a:latin typeface="Times New Roman"/>
              </a:rPr>
              <a:t>توجد هناك عوامل عدة تؤثر في عملية أداء التصويب هي </a:t>
            </a:r>
            <a:r>
              <a:rPr b="1" lang="ar-IQ" sz="1800" spc="-1" strike="noStrike" baseline="30000">
                <a:solidFill>
                  <a:srgbClr val="ff0000"/>
                </a:solidFill>
                <a:latin typeface="Times New Roman"/>
              </a:rPr>
              <a:t> </a:t>
            </a:r>
            <a:r>
              <a:rPr b="1" lang="ar-IQ" sz="1800" spc="-1" strike="noStrike">
                <a:solidFill>
                  <a:srgbClr val="ff0000"/>
                </a:solidFill>
                <a:latin typeface="Times New Roman"/>
              </a:rPr>
              <a:t>: ـ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زاوية التصويب </a:t>
            </a:r>
            <a:r>
              <a:rPr b="1" lang="ar-IQ" sz="1800" spc="-1" strike="noStrike">
                <a:solidFill>
                  <a:srgbClr val="000000"/>
                </a:solidFill>
                <a:latin typeface="Times New Roman"/>
              </a:rPr>
              <a:t>: كلما كان التصويب من المنطقة المواجهة للهدف كلما كانت نسبة نجاحهُ أكبر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مسافة : </a:t>
            </a:r>
            <a:r>
              <a:rPr b="1" lang="ar-IQ" sz="1800" spc="-1" strike="noStrike">
                <a:solidFill>
                  <a:srgbClr val="000000"/>
                </a:solidFill>
                <a:latin typeface="Times New Roman"/>
              </a:rPr>
              <a:t>كلما قصرت المسافة بين الرامي والهدف كلما ساعد ذلك دقة التصويب وإصابة الهدف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توجيه : </a:t>
            </a:r>
            <a:r>
              <a:rPr b="1" lang="ar-IQ" sz="1800" spc="-1" strike="noStrike">
                <a:solidFill>
                  <a:srgbClr val="000000"/>
                </a:solidFill>
                <a:latin typeface="Times New Roman"/>
              </a:rPr>
              <a:t>كلما كانت الكرة موجهة إلى الزوايا الحرجة بالنسبة لحارس المرمى كلما صعب صدها ويسهم الرسغ كثيراً في توجيه الكر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سرعة : </a:t>
            </a:r>
            <a:r>
              <a:rPr b="1" lang="ar-IQ" sz="1800" spc="-1" strike="noStrike">
                <a:solidFill>
                  <a:srgbClr val="000000"/>
                </a:solidFill>
                <a:latin typeface="Times New Roman"/>
              </a:rPr>
              <a:t>كلما كان الأعداد سريعاً كلما كان التصويب أكثر أحتمالاً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ويعتمد التصويب على مدى أجادة اللاعب المهاجم لمختلف أنواع التصويبات ومدى حسن أستخدامه لها وخاصة بعد أرتباطها ببعض حركات الخداع وعلى المهاجم مراعاة التصويب من الركض وليس من الارتكاز ، لا يشترط أن يكون اقترابه دائماً في أتجاه الهدف </a:t>
            </a:r>
            <a:r>
              <a:rPr b="1" lang="ar-IQ" sz="1800" spc="-1" strike="noStrike" baseline="30000">
                <a:solidFill>
                  <a:srgbClr val="000000"/>
                </a:solidFill>
                <a:latin typeface="Times New Roman"/>
              </a:rPr>
              <a:t> </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مستطيل 1"/>
          <p:cNvSpPr/>
          <p:nvPr/>
        </p:nvSpPr>
        <p:spPr>
          <a:xfrm>
            <a:off x="1619280" y="1028880"/>
            <a:ext cx="691344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هناك بعض النقاط المهمة في عملية التصويب هي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نوعية وكفاءة التصويب تقدر الفوز والخسارة ولابد من التصويب من أماكن مختلفة مع التركيز على  التصويب من وسط الملعب وذلك لاتساع زاوية التصويب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يجب أختصار حركة الاستعداد للتصويب قدر الإمكان لأنها تعطي لحارس المرمى والمدافعين بأخذ الوضع الجيد لإعاقة دخول الكرة للمرمى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a:t>
            </a:r>
            <a:r>
              <a:rPr b="1" lang="ar-IQ" sz="1800" spc="-1" strike="noStrike">
                <a:solidFill>
                  <a:srgbClr val="000000"/>
                </a:solidFill>
                <a:latin typeface="Times New Roman"/>
              </a:rPr>
              <a:t>3</a:t>
            </a:r>
            <a:r>
              <a:rPr b="1" lang="ar-IQ" sz="1800" spc="-1" strike="noStrike">
                <a:solidFill>
                  <a:srgbClr val="000000"/>
                </a:solidFill>
                <a:latin typeface="Times New Roman"/>
              </a:rPr>
              <a:t>- يجب على اللاعبين التدريب على أداء التصويب القوي وبتكرار كبير مع التركيز على تصحيح الأخطاء للوصول الى ألاداء المقنن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4</a:t>
            </a:r>
            <a:r>
              <a:rPr b="1" lang="ar-IQ" sz="1800" spc="-1" strike="noStrike">
                <a:solidFill>
                  <a:srgbClr val="000000"/>
                </a:solidFill>
                <a:latin typeface="Times New Roman"/>
              </a:rPr>
              <a:t> – التأكيد على أهمية الرسغ في عملية توجيه التصويب ودقتهُ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5</a:t>
            </a:r>
            <a:r>
              <a:rPr b="1" lang="ar-IQ" sz="1800" spc="-1" strike="noStrike">
                <a:solidFill>
                  <a:srgbClr val="000000"/>
                </a:solidFill>
                <a:latin typeface="Times New Roman"/>
              </a:rPr>
              <a:t> – الاعتماد على السرعة و المفاجأة لحارس المرمى في عملية التصويب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6</a:t>
            </a:r>
            <a:r>
              <a:rPr b="1" lang="ar-IQ" sz="1800" spc="-1" strike="noStrike">
                <a:solidFill>
                  <a:srgbClr val="000000"/>
                </a:solidFill>
                <a:latin typeface="Times New Roman"/>
              </a:rPr>
              <a:t> -  أستغلال أخطاء حارس المرمى سواء حين يترك مرماه أو في حالة الوقوف الخاطئ أو التقدم السريع تجاه اللاعب الذي يقوم بالتصويب أو في حالة أرتكازه على أحد القدمين.</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ستطيل 1"/>
          <p:cNvSpPr/>
          <p:nvPr/>
        </p:nvSpPr>
        <p:spPr>
          <a:xfrm>
            <a:off x="1908000" y="260280"/>
            <a:ext cx="57420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لقد قسم عبد الجبار شنين  </a:t>
            </a:r>
            <a:r>
              <a:rPr b="1" lang="ar-IQ" sz="1800" spc="-1" strike="noStrike">
                <a:solidFill>
                  <a:srgbClr val="000000"/>
                </a:solidFill>
                <a:latin typeface="Times New Roman"/>
              </a:rPr>
              <a:t>1984</a:t>
            </a:r>
            <a:r>
              <a:rPr b="1" lang="ar-IQ" sz="1800" spc="-1" strike="noStrike">
                <a:solidFill>
                  <a:srgbClr val="000000"/>
                </a:solidFill>
                <a:latin typeface="Times New Roman"/>
              </a:rPr>
              <a:t> التصويب تبعاً لحركة أللاعب المصوب إلى : 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تصويب من الارتكاز : وتقسم إلى : ـ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من فوق الرأس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من مستوى الكتف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ج ـ من مستوى الحوض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د ـ من مستوى الركبتي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تصويب من الركض : ويقسم إلى : 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من مستوى فوق الرأس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من مستوى الكتف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ج ـ من مستوى الحوض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د ـ من مستوى الركب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تصويب بالقفز : ويقسم إلى : ـ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أمام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عالي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تصويب بالسقوط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أمام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جانب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تصويب الخلف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 ـ خلفية مباش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خلفية منحرف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مستطيل 1"/>
          <p:cNvSpPr/>
          <p:nvPr/>
        </p:nvSpPr>
        <p:spPr>
          <a:xfrm>
            <a:off x="1332000" y="117360"/>
            <a:ext cx="705636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في حين يذكر كمال عارف وسعد محسن </a:t>
            </a:r>
            <a:r>
              <a:rPr b="1" lang="ar-IQ" sz="1800" spc="-1" strike="noStrike">
                <a:solidFill>
                  <a:srgbClr val="000000"/>
                </a:solidFill>
                <a:latin typeface="Times New Roman"/>
              </a:rPr>
              <a:t>1989</a:t>
            </a:r>
            <a:r>
              <a:rPr b="1" lang="ar-IQ" sz="1800" spc="-1" strike="noStrike">
                <a:solidFill>
                  <a:srgbClr val="000000"/>
                </a:solidFill>
                <a:latin typeface="Times New Roman"/>
              </a:rPr>
              <a:t>  والذي أعتمد على مستوى خروج الكرة بأن أنواع التصويب بكرة اليد كثيرة و يمكن أيجازها بما يلي </a:t>
            </a:r>
            <a:r>
              <a:rPr b="1" lang="ar-IQ" sz="1800" spc="-1" strike="noStrike" baseline="30000">
                <a:solidFill>
                  <a:srgbClr val="000000"/>
                </a:solidFill>
                <a:latin typeface="Times New Roman"/>
              </a:rPr>
              <a:t> </a:t>
            </a:r>
            <a:r>
              <a:rPr b="1" lang="ar-IQ" sz="1800" spc="-1" strike="noStrike">
                <a:solidFill>
                  <a:srgbClr val="000000"/>
                </a:solidFill>
                <a:latin typeface="Times New Roman"/>
              </a:rPr>
              <a:t> : ـ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ولاً : التصويبة السوطية : وتتم بعدة طرائق هي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من فوق الرأس : وتتم بطريقتين هم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بخطوة أرتكاز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مع أخذ ثلاث خطوات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من مستوى الرأس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من مستوى الحوض والركب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ثانياً : التصويب من القفز : ويتم بطريقتي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قفز عالي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قفز أمام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ثالثاً : التصويب من السقوط : ويتم م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سقوط لإمام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سقوط الجانبي . ويتم من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 ـ السقوط عكس ذراع الرم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السقوط ناحية ذراع الرم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رابعاً : التصويب الخلف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خامساً : التصويب الخاص : ويتم بعدة أشكال هي : 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القوسية ( اللوب ) ويتم بطريقتين هما : 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من القفز أمام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من السقوط الأمامي والجانب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من الزاوي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من الطير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سوف يتم شرح كل نوع من أنواع التصويب على حده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ستطيل 1"/>
          <p:cNvSpPr/>
          <p:nvPr/>
        </p:nvSpPr>
        <p:spPr>
          <a:xfrm>
            <a:off x="1619280" y="1268280"/>
            <a:ext cx="648180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أولاً : التصويبة السوطي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د مهارة التصويب بشكلها السوطي من الأكثر الأنواع أستخداماً خلال المباراة سواء كانت بخطوة أرتكاز أو بخطوتين أو بثلاث خطوات لأنها تمتاز بالقوة والسرعة والقدرة على توجيه الكرة بالاضافة الى القدرة على التنويع في الأداء ، ويتم أداء هذا النوع من التصويبة بعدة أنواع منها :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أولا :  من فوق الرأس : وتتم بطريقتين هما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   </a:t>
            </a:r>
            <a:r>
              <a:rPr b="1" lang="ar-IQ" sz="1800" spc="-1" strike="noStrike">
                <a:solidFill>
                  <a:srgbClr val="ff0000"/>
                </a:solidFill>
                <a:latin typeface="Times New Roman"/>
              </a:rPr>
              <a:t>1</a:t>
            </a:r>
            <a:r>
              <a:rPr b="1" lang="ar-IQ" sz="1800" spc="-1" strike="noStrike">
                <a:solidFill>
                  <a:srgbClr val="ff0000"/>
                </a:solidFill>
                <a:latin typeface="Times New Roman"/>
              </a:rPr>
              <a:t> – التصويبة السوطية من فوق الرأس بخطوة أرتكاز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تم أداء هذه المهارة كما تم شرحها في أداء المناولة الا أنه أستخدام قوة أثناء ألاداء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8T05:43:42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