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8A106-8997-403E-937F-E29501AAB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3374C-AD23-47F4-8E5E-9A431CFEE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43C37-DE96-4D24-879C-4E7BFB5D6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583F3-B62E-47C8-9C08-A582B73B5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C67F2-D525-420E-8F13-FA1C59F10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8212E-4C6D-4CB3-BA1F-3D3B85A44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56BE7-8387-4305-BCD4-0181B0F77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C1650-6AB3-4E97-95AB-E0A6BAF43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C763C-C4D7-4310-B2D0-DC90CDE76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09154-6A85-467D-B6BB-8644C7558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1479B-2B25-49A9-B4BE-5E05580D8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9BEE3-1DA5-4E79-8787-7ED677124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933A1-5300-4202-8C50-86E6D549D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B2081-7379-4824-9F22-2AA3E0655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8608A-833B-478A-BA62-3C4747279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C3F00-65F1-46AE-8690-866C70E72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335F0-3CE7-423B-9568-E3828566B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6F04D4-7883-4664-9918-56D07E0B3D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41563-4055-4DF6-84E6-831D82E4BC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B3F3B9-A450-4729-87AE-39D1B54E60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1FF1D-7A36-4BF9-9532-6243A48D5D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E3CB1E-A430-49A2-9617-A974229D9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E3062-F626-4F0F-ACF9-0DE1225B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F2B634-B7B9-4284-B2C7-2E0C6D898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FFE7E-E2D7-4CE5-932A-F2A7D3DDD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1A59F-9F41-419C-989F-1D5120692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11B03-1AA2-4EC2-ADBA-A49A05CEB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8C67E0-6FA7-4188-9D7C-E2FFFA7CC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285846-FA77-4DD9-8F20-0863D61803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B27296-831B-4D31-A837-561F856A0B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C1A29F-6E64-4698-8E59-29B8BC8B79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86550-1004-40F8-B5BD-E3BD729577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205825-E657-426A-953D-C78F443ED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3399E-B271-4A6A-8E34-5F8085B09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9CCAE1-F7E5-4B54-8A6E-200A0458F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BBEA6-327D-47A6-A824-8239ADAAC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29AB3-C4CE-4260-AC63-9AD75DAFA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ACADD-5032-4516-AD6C-AD283FBEB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1F2CF-DFFC-4AC8-AEF2-60742AD54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BC57D-9B59-4B31-87E0-38BA2AB98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3D3E3-B085-4051-9B02-75591C587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07BD8F-E7E1-45E1-972B-BFC8AE5772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285044-E64C-432C-B7FF-790540140D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DB05F0-C8F2-4076-9E19-B46239109D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F108A-8CE9-423D-8E7F-9CABBF198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06EA1-51E5-4BDC-8179-47B1B9895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A69FC3-32F3-4259-9D70-B1120CE362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AA86BC-F73D-4C1D-AB64-FEA560144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9BA8EA-1F63-4103-918D-702F970AC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A3D81-F55A-4994-AC33-B3BE2AD1C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A5B67-8B14-4AFF-B1BF-53B8824F5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AF783-D5B0-4768-989C-695C413D5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AC20A-D2A5-4234-8C9D-25B464E12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A5379-33FA-4F9E-9A4D-3A2672BF04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6D8886-14C8-4650-98B5-C6BDCC18C4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A3E1F-4286-4BA2-8EBB-D6D88D6B9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E25081-90FB-404C-A490-57734D21C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0711E6-4CC7-4FC3-9DD2-2799BA45F9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90EA1-1DE0-4DAB-9104-273E3861A2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84319E-AFA1-4617-97CE-D2AA77715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D5C641-BBA5-459C-89A5-79EA84170B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96B0F7-6BEB-4F17-BF22-2E11E7D9E9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AE65E0-6AFB-43CD-A430-C9EE0FBDD7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DF5DD5-33F6-47DA-B33E-5A9130F5C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67D10-EE00-46DA-99BB-9696352C8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9D50A-F855-4328-A364-3FEAA284C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D492-3966-40F8-8517-ED14885E3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59173D-C9C4-407F-82C5-1011E6CC1F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8E021C-00BD-4C96-B25B-08CA9BC245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14C7A4-4CC9-4F33-A84C-BA5E107431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518652-D47D-42D5-9A9C-B3AFCC07D1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3AA014-1CAC-4AAC-B4C4-D22623C256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2CFAAB-5C5B-4727-A815-D454DBDD1F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D982D2-2BB0-471D-9F9E-16C25DFF05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A7459A-24AE-4EC9-BD2C-07C662244E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A7D329-BE18-447C-9C9A-1D46A0D013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6C59CE-D7DB-4148-8E5C-6FD2D12CE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229C-6AD1-44A8-B90A-CE36FB668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BB8CBE-2B8F-45BC-8720-5B4F1CCBF9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2173B-5F1F-4714-BA0A-643BF6450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0CD034-141F-44A3-B9B9-B091E0B475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4B15E1-CF29-4713-A00B-44F2371AAD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5636FE-082A-4E70-A71D-E0A2320C64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7AE5D-8303-4C84-9061-6F98160AB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3FE7-24D5-4DF5-B053-54C1EA010C86}"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6AD8-D6AC-483C-BA66-1B6D941D8AD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5C4A-1D08-4561-8587-099FABCAC7F4}"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13EE-3BBE-436B-A69D-E8889BAB627F}"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1369-FDDF-4F6F-A2D3-2726840F4FE4}"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B51F-246E-4D80-A085-79E86390BDE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EC32-DB8C-4B79-8CA4-8B8F24DDD0C6}"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8898c3"/>
                </a:solidFill>
                <a:latin typeface="Times New Roman"/>
              </a:rPr>
              <a:t>University of basrah</a:t>
            </a:r>
            <a:br>
              <a:rPr sz="4800"/>
            </a:br>
            <a:r>
              <a:rPr b="1" lang="en-US" sz="4800" spc="-1" strike="noStrike">
                <a:solidFill>
                  <a:srgbClr val="8898c3"/>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898c3"/>
                </a:solidFill>
                <a:latin typeface="Times New Roman"/>
              </a:rPr>
              <a:t>2018</a:t>
            </a:r>
            <a:r>
              <a:rPr b="1" lang="en-US" sz="4800" spc="-1" strike="noStrike">
                <a:solidFill>
                  <a:srgbClr val="8898c3"/>
                </a:solidFill>
                <a:latin typeface="Times New Roman"/>
              </a:rPr>
              <a:t> - </a:t>
            </a:r>
            <a:r>
              <a:rPr b="1" lang="en-US" sz="4800" spc="-1" strike="noStrike">
                <a:solidFill>
                  <a:srgbClr val="8898c3"/>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rPr>
              <a:t>كرة اليد  - المناولات </a:t>
            </a:r>
            <a:r>
              <a:rPr b="1" lang="en-US" sz="6000" spc="-1" strike="noStrike">
                <a:solidFill>
                  <a:srgbClr val="000000"/>
                </a:solidFill>
                <a:latin typeface="Times New Roman"/>
              </a:rPr>
              <a:t> </a:t>
            </a:r>
            <a:r>
              <a:rPr b="1" lang="en-US" sz="6000" spc="-1" strike="noStrike">
                <a:solidFill>
                  <a:srgbClr val="000000"/>
                </a:solidFill>
                <a:latin typeface="Times New Roman"/>
              </a:rPr>
              <a:t>Passes</a:t>
            </a:r>
            <a:r>
              <a:rPr b="1" lang="en-US"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320"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98c3"/>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ستطيل 1"/>
          <p:cNvSpPr/>
          <p:nvPr/>
        </p:nvSpPr>
        <p:spPr>
          <a:xfrm>
            <a:off x="468360" y="890640"/>
            <a:ext cx="8207280" cy="551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مناولات</a:t>
            </a:r>
            <a:r>
              <a:rPr b="1" lang="en-US" sz="2400" spc="-1" strike="noStrike">
                <a:solidFill>
                  <a:srgbClr val="ff0000"/>
                </a:solidFill>
                <a:latin typeface="Times New Roman"/>
              </a:rPr>
              <a:t> </a:t>
            </a:r>
            <a:r>
              <a:rPr b="1" lang="en-US" sz="2400" spc="-1" strike="noStrike">
                <a:solidFill>
                  <a:srgbClr val="ff0000"/>
                </a:solidFill>
                <a:latin typeface="Times New Roman"/>
              </a:rPr>
              <a:t>Passes</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ثالثاً : المناولة </a:t>
            </a:r>
            <a:r>
              <a:rPr b="1" lang="ar-IQ" sz="2400" spc="-1" strike="noStrike">
                <a:solidFill>
                  <a:srgbClr val="ff0000"/>
                </a:solidFill>
                <a:latin typeface="Gill Sans MT"/>
              </a:rPr>
              <a:t>المرتدة</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تستخدم هذه المناولة في بعض حالة اللعب كأجراء عملية تبديل لاعبين أو في حالة وجود لاعب مدافع بين لاعبين مهاجمين يحاول عرقلة مسار الكرة خاصة أذا كان اللاعب طويل القامة ، أذا يقوم اللاعب بأداء المناولة من مستوى الرأس الا أن توجيه الكرة يكون بأتجاه الأرض بعد أن يقسم المسافة بين المرسل والمستلم الى ثلاثة أقسام ويتم توجيه الكرة في الثلث الأخير من المسافة ويفضل أن تكون الكرة قريبة من قدم اللاعب المدافع لصعوبة قطع الكرة وتمكن من أيصالها للاعب المستلم بسهولة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صورة 3" descr=""/>
          <p:cNvPicPr/>
          <p:nvPr/>
        </p:nvPicPr>
        <p:blipFill>
          <a:blip r:embed="rId1"/>
          <a:stretch/>
        </p:blipFill>
        <p:spPr>
          <a:xfrm>
            <a:off x="1763640" y="907920"/>
            <a:ext cx="6048360" cy="42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4"/>
          <p:cNvSpPr/>
          <p:nvPr/>
        </p:nvSpPr>
        <p:spPr>
          <a:xfrm>
            <a:off x="1324080" y="333360"/>
            <a:ext cx="7064280" cy="704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مبحث الثاني: المناولة </a:t>
            </a:r>
            <a:r>
              <a:rPr b="1" lang="ar-IQ" sz="2400" spc="-1" strike="noStrike">
                <a:solidFill>
                  <a:srgbClr val="ff0000"/>
                </a:solidFill>
                <a:latin typeface="Times New Roman"/>
              </a:rPr>
              <a:t> بالقفز</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Times New Roman"/>
              </a:rPr>
              <a:t>تعد </a:t>
            </a:r>
            <a:r>
              <a:rPr b="1" lang="ar-SA" sz="2400" spc="-1" strike="noStrike">
                <a:solidFill>
                  <a:srgbClr val="000000"/>
                </a:solidFill>
                <a:latin typeface="Times New Roman"/>
              </a:rPr>
              <a:t>المناولة بالقفز من المناولات الشائعة في الخطوط الأمامية بين اللاعبين كون اللاعب الذي يقوم بعملية التصويب قد غير رأيهُ نتيجة لوجود لاعب في مكان فارغ وله فرصة واضحة للتسجيل وخاصة لاعب الارتكاز  أو في حالة الارتقاء للتصويب وقد سد اللاعب المدافع الثغرة أو المجال الحركي لمرور الكرة بأتجاه المرمى مما يضطر اللاعب الى</a:t>
            </a:r>
            <a:r>
              <a:rPr b="1" lang="ar-IQ" sz="2400" spc="-1" strike="noStrike">
                <a:solidFill>
                  <a:srgbClr val="000000"/>
                </a:solidFill>
                <a:latin typeface="Times New Roman"/>
              </a:rPr>
              <a:t> مناولة الكرة الى </a:t>
            </a:r>
            <a:r>
              <a:rPr b="1" lang="ar-SA" sz="2400" spc="-1" strike="noStrike">
                <a:solidFill>
                  <a:srgbClr val="000000"/>
                </a:solidFill>
                <a:latin typeface="Times New Roman"/>
              </a:rPr>
              <a:t> الزميل ، ويتم أداء هذه المناولة بعد أخذ الخطوات التقريبية سواء كانت خطوتين أو ثلاث ثم يرتقي للأعلى ثم يقوم بأداء المناولة بحركة رسغ سريعة بأتجاه اللاعب الخالي من المراقبة  أذا يكون الرسغ هو الجزء المهم من المناولة لأنه يحدد اتجاه الكرة بالاضافة الى أرتفاع أستلام الكرة بالنسبة للمستلم .</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صورة 2" descr="C:\Users\Dhurgham\Desktop\Picture\DSC_6394.JPG"/>
          <p:cNvPicPr/>
          <p:nvPr/>
        </p:nvPicPr>
        <p:blipFill>
          <a:blip r:embed="rId1"/>
          <a:stretch/>
        </p:blipFill>
        <p:spPr>
          <a:xfrm>
            <a:off x="1359000" y="1352520"/>
            <a:ext cx="6737400" cy="42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5T17:17:47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