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AF5CA-8AD2-4323-B02B-322B456D2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016A4-1BB4-4873-96B5-5155BD9CC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86C0C-89B6-460E-890D-2A2662FDB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25809-AEDA-43F4-B49B-A63B2592B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32F8F2-E5CB-49DF-848D-948B95C866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29481-070D-4EE7-B64D-DF5902689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12D4A-04B5-4B02-B7BA-24A5236B3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AA6E9-A79B-405B-8895-93DE792D1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F3619-D83B-46DC-87AA-49BF2B418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16819-22B4-48FD-920D-13C88E221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FDE16-B7E2-4A5E-9A34-3796A3128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5BAAA-9DBB-4B0B-83EA-62E88CA4D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C8540-82DC-423C-8156-1FE296278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234D7-3969-4E87-8BE5-C7F9720C6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A60AD-696C-48D9-ACCE-757DCF900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2E8EF-6D04-43EA-9FA6-3DBE56087E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59040-695F-4371-8C18-5461B5EE8E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49D0CB-1439-419D-A45E-D947EA5684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08DB4F-E2BB-4481-B1F1-900E80D97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AEBE1A-EEE3-485B-B6B7-83AB3B2234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852EBE-4AE2-4E07-947E-6922A58B50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58CBF6-12DD-4DFC-8098-0F78B16652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6A113-A689-492A-A8E0-312007699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5F6F4D-FC12-4F43-BFE6-BD7BC31B5E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BEB3B-DCF4-4965-9F6C-EE92AA93EF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5D087-0232-467B-8623-E287C1C787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0883A4-F2DE-4954-85F6-97A534ECF0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2D049C-3D10-4140-B062-2423F6FACA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E25A31-2ADF-4A0A-85B6-3E33D71F74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50669E-D7BD-4D1E-ABC0-EE59A53A7E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D31909-C09F-40AF-8BDB-B9A721C600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2FBD55-A3C1-4405-984F-6BCFE258FB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F4682A-401F-40C1-9AA7-653754E8B8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5CF1D-2454-4C38-9D41-319A6FC88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878A41-F384-4412-96A6-1DE028BFEF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A3C7F0-5D85-463E-A4C7-3C75836E56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DDFEED-FB3C-407C-8D57-4DC6D9E96C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69415-E1A6-4B38-923E-AAEE9107A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493936-0147-4F2C-8D76-1C3363423B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50CE9A-6DFA-413C-AD1A-962D7660A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277CB0-7125-4251-ADB6-D9D9A1F47C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2982B1-7321-4B21-B7A1-0C237C1D9F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4DC256-15AD-44D4-B7C2-DE1E69795D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F3CBD5-89B8-4F7E-A46F-BB34AF475D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49D88-3064-492F-AD43-8F63DB48B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44A4AC-E792-4360-BD73-8CD624C3E6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A320F7-C6B5-4EA5-BB19-3F0350FE9F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D8FA8B-AD81-4D0F-B93A-B875164BE4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067B19-648D-459C-A361-133C9CECCB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D125B6-0503-4959-9BAF-5376C8D0ED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67A15A-BE6A-4746-92E6-3E4193B92B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7D1863-AF7B-4C43-8662-803D029917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1122FD-8BEA-4362-B67E-B4854CA05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9E4B8D-C925-406F-8C19-F0C6B64C36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205F40-9324-4A40-935A-A4C4402BFD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2A517-91AC-4D8D-85F7-AA0791DB6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43602A-A24F-4E36-8C22-B6B633C605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27259E-1664-4F39-B0AA-0A341FC04A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4226EB-D004-4A34-A111-370F3F3E84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2C2A2F-1162-462D-B87A-3112BFE4A4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2DF119-8D12-48B1-AD64-677EECFF3D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12BD61-2092-4BFC-9263-5B942913D5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439F81-1220-4734-9DB1-28C9CE701A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7E74C4-3C2A-4851-B2D2-41BF9A20E9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C1A577-6AF7-4422-AC7B-E6E4AB54E6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B3A1FA-D07F-4A3B-8424-8368934C37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54AA1-7F7D-4AD7-8D74-D2C112724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CD5F1E-E341-4650-BD5D-6F4A5143DE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52BE8A-2FF0-49B2-ACD5-E042BD9C9C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F5BC8A-A9C2-47C1-90ED-9AEABEA22B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AFF1B2-3AC3-4F81-8976-B19EC894CB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B10F2F-4C5B-4234-9D9A-67E719D6F7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7E24C8-1DF8-486F-9964-9DF2207BDC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9CC046-F798-4F92-9072-F3948A4615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C137C8-7420-428E-B7B0-ACFAB6FDB6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65AD30-11CE-4CCE-8D99-E34495A1D2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EB9D72-491E-4991-9F83-579E1003E1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90D03-5407-49D6-B24C-7D56F6F28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1FA183-1942-4BB7-AE51-0D126EBE22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2DC815-04AF-47AC-9282-5A103DB1BD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318973-0F0B-4E94-91C9-1709981591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022395-9090-4587-BFAD-FA6D82687C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6E0C13-47B7-4E0F-8B08-A4D9D619EE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7A574-C39E-4F51-B5BF-F7C31B098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D139-9B66-456A-AF90-17DA73516C80}"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 name="شكل بيضاوي 12"/>
          <p:cNvGrpSpPr/>
          <p:nvPr/>
        </p:nvGrpSpPr>
        <p:grpSpPr>
          <a:xfrm>
            <a:off x="920880" y="1414440"/>
            <a:ext cx="218880" cy="212760"/>
            <a:chOff x="920880" y="1414440"/>
            <a:chExt cx="218880" cy="212760"/>
          </a:xfrm>
        </p:grpSpPr>
        <p:pic>
          <p:nvPicPr>
            <p:cNvPr id="56" name="شكل بيضاوي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9CDA-EF76-4463-9C47-F41A99256CFF}"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شكل بيضاوي 15"/>
          <p:cNvGrpSpPr/>
          <p:nvPr/>
        </p:nvGrpSpPr>
        <p:grpSpPr>
          <a:xfrm>
            <a:off x="2170080" y="2816280"/>
            <a:ext cx="219240" cy="212760"/>
            <a:chOff x="2170080" y="2816280"/>
            <a:chExt cx="219240" cy="212760"/>
          </a:xfrm>
        </p:grpSpPr>
        <p:pic>
          <p:nvPicPr>
            <p:cNvPr id="103" name="شكل بيضاوي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9243-ACE8-44B6-AE9A-D823A644C1A5}"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8820-2B6A-4648-8027-EC6AD71669EF}"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E95C2-7F2C-48FE-8ECE-89DBC1FC26CA}"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A0FD-1EA3-4289-89D4-D730FD785797}"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52320" y="974880"/>
            <a:ext cx="4797720" cy="4797360"/>
            <a:chOff x="652320" y="974880"/>
            <a:chExt cx="4797720" cy="4797360"/>
          </a:xfrm>
        </p:grpSpPr>
        <p:pic>
          <p:nvPicPr>
            <p:cNvPr id="273" name="مستطيل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7FD43-E5E2-4EE3-8EEF-32C2719E89C7}"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3"/>
          <p:cNvSpPr/>
          <p:nvPr/>
        </p:nvSpPr>
        <p:spPr>
          <a:xfrm>
            <a:off x="536400" y="476280"/>
            <a:ext cx="8137800" cy="67050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ff0000"/>
                </a:solidFill>
                <a:latin typeface="Times New Roman"/>
              </a:rPr>
              <a:t>رئاسة جامعة البصرة</a:t>
            </a:r>
            <a:br>
              <a:rPr sz="4800"/>
            </a:br>
            <a:r>
              <a:rPr b="1" lang="ar-IQ" sz="4800" spc="-1" strike="noStrike">
                <a:solidFill>
                  <a:srgbClr val="ff0000"/>
                </a:solidFill>
                <a:latin typeface="Times New Roman"/>
              </a:rPr>
              <a:t>كلية التربية البدنية وعلوم الرياضة</a:t>
            </a:r>
            <a:br>
              <a:rPr sz="4800"/>
            </a:br>
            <a:r>
              <a:rPr b="1" lang="en-US" sz="4800" spc="-1" strike="noStrike">
                <a:solidFill>
                  <a:srgbClr val="8898c3"/>
                </a:solidFill>
                <a:latin typeface="Times New Roman"/>
              </a:rPr>
              <a:t>University of basrah</a:t>
            </a:r>
            <a:br>
              <a:rPr sz="4800"/>
            </a:br>
            <a:r>
              <a:rPr b="1" lang="en-US" sz="4800" spc="-1" strike="noStrike">
                <a:solidFill>
                  <a:srgbClr val="8898c3"/>
                </a:solidFill>
                <a:latin typeface="Times New Roman"/>
              </a:rPr>
              <a:t>College of Physical Education and Sports  Science</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898c3"/>
                </a:solidFill>
                <a:latin typeface="Times New Roman"/>
              </a:rPr>
              <a:t>2018</a:t>
            </a:r>
            <a:r>
              <a:rPr b="1" lang="en-US" sz="4800" spc="-1" strike="noStrike">
                <a:solidFill>
                  <a:srgbClr val="8898c3"/>
                </a:solidFill>
                <a:latin typeface="Times New Roman"/>
              </a:rPr>
              <a:t> - </a:t>
            </a:r>
            <a:r>
              <a:rPr b="1" lang="en-US" sz="4800" spc="-1" strike="noStrike">
                <a:solidFill>
                  <a:srgbClr val="8898c3"/>
                </a:solidFill>
                <a:latin typeface="Times New Roman"/>
              </a:rPr>
              <a:t>2019</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468360" y="189000"/>
            <a:ext cx="8137440" cy="3774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ndball</a:t>
            </a:r>
            <a:endParaRPr b="0" lang="en-US" sz="7200" spc="-1" strike="noStrike">
              <a:solidFill>
                <a:srgbClr val="000000"/>
              </a:solidFill>
              <a:latin typeface="Times New Roman"/>
            </a:endParaRPr>
          </a:p>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ff0000"/>
                </a:solidFill>
                <a:latin typeface="Times New Roman"/>
              </a:rPr>
              <a:t>كرة اليد  - المناولات </a:t>
            </a:r>
            <a:r>
              <a:rPr b="1" lang="en-US" sz="6000" spc="-1" strike="noStrike">
                <a:solidFill>
                  <a:srgbClr val="000000"/>
                </a:solidFill>
                <a:latin typeface="Times New Roman"/>
              </a:rPr>
              <a:t> </a:t>
            </a:r>
            <a:r>
              <a:rPr b="1" lang="en-US" sz="6000" spc="-1" strike="noStrike">
                <a:solidFill>
                  <a:srgbClr val="000000"/>
                </a:solidFill>
                <a:latin typeface="Times New Roman"/>
              </a:rPr>
              <a:t>Passes</a:t>
            </a:r>
            <a:r>
              <a:rPr b="1" lang="en-US"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320" name="Text Box 3"/>
          <p:cNvSpPr/>
          <p:nvPr/>
        </p:nvSpPr>
        <p:spPr>
          <a:xfrm>
            <a:off x="539640" y="3476520"/>
            <a:ext cx="813780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8898c3"/>
                </a:solidFill>
                <a:latin typeface="Times New Roman"/>
              </a:rPr>
              <a:t>أعداد</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8898c3"/>
                </a:solidFill>
                <a:latin typeface="Times New Roman"/>
              </a:rPr>
              <a:t>الدكتور ضرغام عبد السالم نعمه</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98c3"/>
                </a:solidFill>
                <a:latin typeface="Times New Roman"/>
              </a:rPr>
              <a:t>Dr. Dhurgham A.AL salam Nama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مستطيل 1"/>
          <p:cNvSpPr/>
          <p:nvPr/>
        </p:nvSpPr>
        <p:spPr>
          <a:xfrm>
            <a:off x="468360" y="890640"/>
            <a:ext cx="8207280" cy="7348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Times New Roman"/>
              </a:rPr>
              <a:t>المناولات</a:t>
            </a:r>
            <a:r>
              <a:rPr b="1" lang="en-US" sz="2400" spc="-1" strike="noStrike">
                <a:solidFill>
                  <a:srgbClr val="ff0000"/>
                </a:solidFill>
                <a:latin typeface="Times New Roman"/>
              </a:rPr>
              <a:t> </a:t>
            </a:r>
            <a:r>
              <a:rPr b="1" lang="en-US" sz="2400" spc="-1" strike="noStrike">
                <a:solidFill>
                  <a:srgbClr val="ff0000"/>
                </a:solidFill>
                <a:latin typeface="Times New Roman"/>
              </a:rPr>
              <a:t>Passes</a:t>
            </a:r>
            <a:r>
              <a:rPr b="1" lang="en-US" sz="2400" spc="-1" strike="noStrike">
                <a:solidFill>
                  <a:srgbClr val="ff0000"/>
                </a:solidFill>
                <a:latin typeface="Times New Roman"/>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rPr>
              <a:t>ثالثاً : المناولة السوطية من مستوى الحوض والركبة : </a:t>
            </a:r>
            <a:endParaRPr b="0" lang="en-US" sz="2400" spc="-1" strike="noStrike">
              <a:solidFill>
                <a:srgbClr val="000000"/>
              </a:solidFill>
              <a:latin typeface="Times New Roman"/>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يبدأ الأداء الفني لمهارة المناولة السوطية من مستوى الحوض والركبة بأخذ خطوة أو خطوتين أو ثلاث خطوات بحيث تكون الخطوة الأخيرة واسعة والكرة مسيطر عليها بين الكفين وبعدها الارتكاز على رجل اليسار بالنسبة للأفراد الذين يستخدمون الذراع اليمين والعكس صحيح ، وبعد ذلك سحب ذراع الرمي الى الخلف بأقصر طريق ممكن والذراع الحرة تؤشر باتجاه الزميل الذي يستقبل الكرة ويتم ثني الجذع الى الجانب بشكل شديد وبعدها يتم اندفاع الذراع الرامية الى الأمام وبمستوى الحوض والركبة بحيث يكون الساعد موازي للأرض ، وبعدها تندفع الذراع الى الأمام ومناولة الكرة والتوجيه بواسطة الرسغ واندفاع الجسم بأكمله باتجاه الامام وتقديم الرجل الأخرى لغرض الموازنة . وهذه المهارة تستخدم من قبل لاعب الساحة عند وجود لاعب مدافع قريب </a:t>
            </a:r>
            <a:r>
              <a:rPr b="1" lang="en-US" sz="2400" spc="-1" strike="noStrike">
                <a:solidFill>
                  <a:srgbClr val="000000"/>
                </a:solidFill>
                <a:latin typeface="Gill Sans MT"/>
              </a:rPr>
              <a:t> .</a:t>
            </a:r>
            <a:endParaRPr b="0" lang="en-US" sz="2400" spc="-1" strike="noStrike">
              <a:solidFill>
                <a:srgbClr val="000000"/>
              </a:solidFill>
              <a:latin typeface="Times New Roman"/>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صورة 2" descr="C:\Users\Dhurgham\Desktop\DSC_6362.JPG"/>
          <p:cNvPicPr/>
          <p:nvPr/>
        </p:nvPicPr>
        <p:blipFill>
          <a:blip r:embed="rId1"/>
          <a:stretch/>
        </p:blipFill>
        <p:spPr>
          <a:xfrm>
            <a:off x="1504800" y="1352520"/>
            <a:ext cx="6377040" cy="356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مستطيل 4"/>
          <p:cNvSpPr/>
          <p:nvPr/>
        </p:nvSpPr>
        <p:spPr>
          <a:xfrm>
            <a:off x="1324080" y="333360"/>
            <a:ext cx="7064280" cy="9237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مبحث الثاني: المناولة بالدفع للجانب </a:t>
            </a:r>
            <a:r>
              <a:rPr b="1" lang="en-US" sz="2400" spc="-1" strike="noStrike">
                <a:solidFill>
                  <a:srgbClr val="ff0000"/>
                </a:solidFill>
                <a:latin typeface="Times New Roman"/>
              </a:rPr>
              <a:t>pass To the side</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عتبر هذه المناولة من المهارات التي يستخدمها المهاجمين عند خط الرمية الحرة كون اللاعبين متقاربين من بعض لان هذه المهارة تستخدم للمسافات القصيرة لذا يستخدمها المهاجمين في حالة تقاطع اللاعبين في المنطقة القريبة ومنع  المهاجمين من الاختراق صفوف الفريق المدافع  ، ويتم أداء هذه المهارة بعد مسك الكرة بكلتا اليدين والسيطرة عليها ومن ثم يتم مرجحة الذراع الحاملة للكرة بعد أن يتم مسك الكرة بيد واحدة أذ يتم تحديد اليد عن طريق أتجاه المناولة والجهة التي يتم نقل الكرة أليها حيث يتم بعدها  بمرجحة الكرة للأسفل بحيث تكون الكرة مواجهة للأرض وظاهر الكف للأعلى ويستمر بمرجحة الذراع بأتجاه الأعلى مع قلب الكف بأتجاه الزميل ثم تدفع الكرة بمفصل الرسغ لحظة وصول الكرة الى مفصل الورك مع مواصلة الذراع حركتها للأعلى حتى تكون بشكل موازي للأرض وتعتمد هذه المناولة بالشكل الرئيسي على رسغ اليد و الاصابع  ، أما الرجلين فيكون الجسم مرتكز على القدم اليمنى بعد أداء المناولة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صورة 1" descr="C:\Users\Dhurgham\Desktop\DSC_6375.JPG"/>
          <p:cNvPicPr/>
          <p:nvPr/>
        </p:nvPicPr>
        <p:blipFill>
          <a:blip r:embed="rId1"/>
          <a:stretch/>
        </p:blipFill>
        <p:spPr>
          <a:xfrm>
            <a:off x="1792440" y="1279440"/>
            <a:ext cx="5797440" cy="356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03T14:58:38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