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E6469-1FFF-49FA-888D-7A2B0D88B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B3B2-B3D8-4C71-8C53-44C63EAC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5290B-51BF-4792-95D8-55AD4873A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34F46-95FA-4CF1-837D-C7D0F583D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73150-1D63-4835-AC63-6D9A893E8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E9568-56DA-4203-AC96-342A041B9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61857-D7A3-4254-A17E-9E990CBD0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A9492-89BF-46FC-8EC1-3A607F0BC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FBC30-0D30-41D6-B723-FDA89299A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461C7-90E5-4E23-8B0C-1CD3B2903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62D9-37E4-4241-9AF7-815152AD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EBC6-A768-4BD6-9C8F-F47C72B3D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C5A3-336E-4700-A372-C6ED90EB3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1A009-CCD9-45EB-9341-DE5D2C23E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D4DA2-4587-4576-9501-450DE3048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747D8-8A93-4BA5-9703-CB26D12B1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3393D-FE98-4517-86EE-A5B8802EB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3F001-651E-4DB1-B972-77260EE88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AB73B-6E45-4A05-91B2-F2326C553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8DBB6-CA0C-4927-B0E9-59126BC9F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508C5-A56F-49D3-AE28-1C914EDAB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78A01-46D6-4C44-985F-4C6F14299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3D1F2-9E94-446B-BF9D-2FEAF4923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96648-621E-479A-8E25-BD7E35B78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16560-730E-4339-84F0-53D2B5251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E7C1E-510C-46DB-BFEE-C82429EC8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E1FF4-18A2-489D-9A13-EF66FD6A7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E5947-D1D3-4AF0-81E2-9305BC0F5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4FB47-58F2-488B-BDC5-FEFFC94E0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D61480-EDDF-4788-A8D6-2DDB9DD885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5ECD74-2E32-4828-B287-CF2A133496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DA44F-8AD7-48FC-B950-3B7FB4C75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D1591-8DB7-4086-BE22-3B1DE124A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76B75-235D-40B7-AAC3-2A942752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DB993-F909-4042-882C-4D7947245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79E72-453A-4A58-913B-7F8C58158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00FDC-4999-44F8-AC7C-AB2625E13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C9473-3B2A-4F5E-99A6-38CF8947C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B0109-E4BE-4CC8-80EA-2E8197737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AB9A7-5A8F-4F12-A195-E10B8A2A1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04E31-933B-4CE9-9F0B-CB08046C0C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5EAAC-3402-4649-842A-BE5BF72E5E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513159-A316-4928-B7D7-E9533F4380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7C3ABB-E3BD-4205-830B-0C7E43291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024E9-3910-4964-AFA6-78F1B3C4F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77874-0B87-489D-919E-96F296D43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73F32-762A-4D4C-A7AE-0765231B6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3F3F7-E467-4460-A01D-F0B3DECFA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20857-2554-420E-BB23-426A3BABB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EDACF-8149-44BC-98CE-282D219F8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4C664-C896-42A2-9E92-A223658C9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5EA56-D508-40BE-AEED-BA0B13ECF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A55C1-EDC8-4238-AAC3-EE0295362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AC8E3-4215-453B-AEE1-7A37EA62E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D0B8F4-E560-43EA-A802-92B32399CB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BE2AD-B9C2-4299-A4DC-9858AEC4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7CB02A-C25A-4C2B-BBDC-4EB6ADC7D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078AC-EBEE-41A9-A0B9-F7A2998375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C8D7CA-DB31-4197-9287-AE71B4878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0B8E4B-FA12-461F-8C73-F69D69582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4ACE3-825C-49F1-B5F0-E49CC5F6B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4C8761-C926-4E72-BCE5-81985B461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DEFD5-A811-4E47-8AD9-5E3E6AC18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8EE91-482D-4408-9897-ED1DDEF6C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83217-561F-4B6A-8C98-00EB7AE99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EB156-C6B6-4BF0-9A2E-A430D2886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CE83-4621-4450-8AC1-D82D635F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4AF05-CA44-40C5-83B4-3C2CA9EC1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5B3D17-3518-4FC2-8573-83A77D6755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5DABB6-9144-4F31-98B4-A9B6A9E11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83AA34-9917-4D20-B1D3-0207119C9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0E968E-66EF-48B3-A93F-D28F97BC9F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1D5F67-C94C-4C6F-AE1A-47B5E1D07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7BB99-D9B6-4377-AAB5-FB3C42548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10E5C-3350-40E5-BE70-085E66348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C7813-36A0-42F4-A89B-B664BD7BA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9B342-2893-4C56-B44F-2D0A0656C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6AE9-42A5-4C3F-B58C-6D9FA822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B6164-EA98-424E-90CD-36EF04ED1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AB8D4-F45F-442C-A3FD-5810B8C96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70730B-4F33-4173-88B4-DE6CD1DF8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06D703-A206-428D-8D89-B7C3E8D5BB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AE6410-49DA-406C-A753-A3DFD32C96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EF4C-CA49-4493-AFF5-630248D25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3420-A588-481C-916B-2334E0BA89F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7FEC-18FE-4670-BC17-0ADBD708924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4263-B8C2-4ADB-9AF1-C0967EA6F34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1D39-3C3B-4F70-8218-8326E2BFA66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7C5E-88DB-48B9-A970-3F2494C3D8F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2623-76E8-4A00-B323-0076A3DA6E5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D7F3-26BA-4C14-AF8B-2D0E23D2368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Arial"/>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cs typeface="Arial"/>
              </a:rPr>
              <a:t>كرة اليد  - المناولات </a:t>
            </a:r>
            <a:r>
              <a:rPr b="1" lang="en-US" sz="6000" spc="-1" strike="noStrike">
                <a:solidFill>
                  <a:srgbClr val="000000"/>
                </a:solidFill>
                <a:latin typeface="Times New Roman"/>
                <a:ea typeface="Arial"/>
              </a:rPr>
              <a:t> </a:t>
            </a:r>
            <a:r>
              <a:rPr b="1" lang="en-US" sz="6000" spc="-1" strike="noStrike">
                <a:solidFill>
                  <a:srgbClr val="000000"/>
                </a:solidFill>
                <a:latin typeface="Times New Roman"/>
                <a:ea typeface="Arial"/>
              </a:rPr>
              <a:t>Passes</a:t>
            </a:r>
            <a:r>
              <a:rPr b="1" lang="en-US" sz="7200" spc="-1" strike="noStrike">
                <a:solidFill>
                  <a:srgbClr val="000000"/>
                </a:solidFill>
                <a:latin typeface="Times New Roman"/>
                <a:ea typeface="Arial"/>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6121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cs typeface="Arial"/>
              </a:rPr>
              <a:t>المناولات</a:t>
            </a:r>
            <a:r>
              <a:rPr b="1" lang="en-US" sz="2400" spc="-1" strike="noStrike">
                <a:solidFill>
                  <a:srgbClr val="ff0000"/>
                </a:solidFill>
                <a:latin typeface="Times New Roman"/>
                <a:ea typeface="Arial"/>
              </a:rPr>
              <a:t> </a:t>
            </a:r>
            <a:r>
              <a:rPr b="1" lang="en-US" sz="2400" spc="-1" strike="noStrike">
                <a:solidFill>
                  <a:srgbClr val="ff0000"/>
                </a:solidFill>
                <a:latin typeface="Times New Roman"/>
                <a:ea typeface="Arial"/>
              </a:rPr>
              <a:t>Passes</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4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ثانياً : المناولة السوطية من مستوى الرأس بخطوة أرتكاز : </a:t>
            </a:r>
            <a:endParaRPr b="0" lang="en-US" sz="1800" spc="-1" strike="noStrike">
              <a:solidFill>
                <a:srgbClr val="000000"/>
              </a:solidFill>
              <a:latin typeface="Times New Roman"/>
            </a:endParaRPr>
          </a:p>
          <a:p>
            <a:pPr algn="r" rtl="1">
              <a:lnSpc>
                <a:spcPct val="100000"/>
              </a:lnSpc>
              <a:spcBef>
                <a:spcPts val="4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ويتم أداء هذه المناولة بعد السيطرة على الكرة بشكل جيد ومن ثم يبدأ اللاعب بالأداء الفني لمهارة المناولة السوطية من مستوى الرأس بأخذ خطوة بحيث تكون الخطوة  واسعة والكرة مسيطر عليها بين الكفين وبعدها الارتكاز على رجل اليسار بالنسبة للاعبين الذين يستخدمون الذراع اليمين والعكس صحيح ، و بعد استقبال الكرة يتم سحب الكرة الى الجانب و الأسفل حتى تكون الكرة مواجهة للأرض ومن ثم يتم الاستمرار بالحركة للذراع الرامية عن طريق السحب الى الأعلى وللخلف بحركة أنسيابية وفي هذه المرحلة نلاحظ أن الجذع قد أخذ وضع أشبه بالقوس المشدود ومن ثم يتم سحب الذراع الى الامام الأعلى بحيث يعود الجذع الى الوضع الطبيعي عمودياً على الأرض ويصاحب هذا الأداء بنقل الذراع الحرة الى الجهة المعاكسة بعد أن كانت مواجهة للزميل وهنا نلاحظ أن زوايا الذراع تكون زاوية العضد مع الساعد وزاوية العضد مع الجذع زوايا قائمة أما القدمان فتكون الأمامية وهي القدم اليسرى مؤشرة بأتجاه الزميل ولكن فيها دوران للداخل قليلاً  والنظر يكون بأتجاه الزميل أما لحظة المناولة فتكون تكون الذراع ممدودة ويكون دور الرسغ كبير في تحديد مكان أستلام الكرة وارتفاعها وتستخدم هذه المناولة في للمسافات البعيدة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1" descr=""/>
          <p:cNvPicPr/>
          <p:nvPr/>
        </p:nvPicPr>
        <p:blipFill>
          <a:blip r:embed="rId1"/>
          <a:stretch/>
        </p:blipFill>
        <p:spPr>
          <a:xfrm>
            <a:off x="1403280" y="1268280"/>
            <a:ext cx="640872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3:03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