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9BC53-D0B9-417D-A651-4D6A5BF7F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7A867-3EC2-4986-B05D-1063CABC2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7A2E7-905F-4F5A-81A2-63C0943FF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62853-4D82-4A8C-901C-06B71A7A2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16171-BACB-4923-B511-134B4E5C9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A7FBB-E802-490E-89F0-DA5ABC6B0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B712D-70D1-467E-B079-C047CEA98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3F70A-2B59-4AC8-B76F-A0CDC2708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0EAC8-3286-4867-8111-18B9211EF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26DE0-E13D-40A5-8000-558D8DE35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0D28B-FACE-4C04-ADAC-EC89EA8F0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4970B-5ED0-44C3-B025-665EA4013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ffff"/>
            </a:gs>
            <a:gs pos="100000">
              <a:srgbClr val="66ff3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686E-4C96-47B2-9D09-C5BDF797892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536400" y="476280"/>
            <a:ext cx="8137800" cy="67050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Times New Roman"/>
              </a:rPr>
              <a:t>رئاسة جامعة البصرة</a:t>
            </a:r>
            <a:br>
              <a:rPr sz="4800"/>
            </a:br>
            <a:r>
              <a:rPr b="1" lang="ar-IQ" sz="4800" spc="-1" strike="noStrike">
                <a:solidFill>
                  <a:srgbClr val="ff0000"/>
                </a:solidFill>
                <a:latin typeface="Times New Roman"/>
              </a:rPr>
              <a:t>كلية التربية البدنية وعلوم الرياضة</a:t>
            </a:r>
            <a:br>
              <a:rPr sz="4800"/>
            </a:br>
            <a:r>
              <a:rPr b="1" lang="en-US" sz="4800" spc="-1" strike="noStrike">
                <a:solidFill>
                  <a:srgbClr val="7878de"/>
                </a:solidFill>
                <a:latin typeface="Times New Roman"/>
              </a:rPr>
              <a:t>University of basrah</a:t>
            </a:r>
            <a:br>
              <a:rPr sz="4800"/>
            </a:br>
            <a:r>
              <a:rPr b="1" lang="en-US" sz="4800" spc="-1" strike="noStrike">
                <a:solidFill>
                  <a:srgbClr val="7878de"/>
                </a:solidFill>
                <a:latin typeface="Times New Roman"/>
              </a:rPr>
              <a:t>College of Physical Education and Sports  Science</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878de"/>
                </a:solidFill>
                <a:latin typeface="Times New Roman"/>
              </a:rPr>
              <a:t>2018</a:t>
            </a:r>
            <a:r>
              <a:rPr b="1" lang="en-US" sz="4800" spc="-1" strike="noStrike">
                <a:solidFill>
                  <a:srgbClr val="7878de"/>
                </a:solidFill>
                <a:latin typeface="Times New Roman"/>
              </a:rPr>
              <a:t> - </a:t>
            </a:r>
            <a:r>
              <a:rPr b="1" lang="en-US" sz="4800" spc="-1" strike="noStrike">
                <a:solidFill>
                  <a:srgbClr val="7878de"/>
                </a:solidFill>
                <a:latin typeface="Times New Roman"/>
              </a:rPr>
              <a:t>2019</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68360" y="189000"/>
            <a:ext cx="8137440" cy="395748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7200" spc="-1" strike="noStrike">
                <a:solidFill>
                  <a:srgbClr val="ff0000"/>
                </a:solidFill>
                <a:latin typeface="Times New Roman"/>
              </a:rPr>
              <a:t>كرة اليد  - أستقبال الكرة </a:t>
            </a:r>
            <a:endParaRPr b="0" lang="en-US" sz="7200" spc="-1" strike="noStrike">
              <a:solidFill>
                <a:srgbClr val="000000"/>
              </a:solidFill>
              <a:latin typeface="Times New Roman"/>
            </a:endParaRPr>
          </a:p>
        </p:txBody>
      </p:sp>
      <p:sp>
        <p:nvSpPr>
          <p:cNvPr id="43" name="Text Box 3"/>
          <p:cNvSpPr/>
          <p:nvPr/>
        </p:nvSpPr>
        <p:spPr>
          <a:xfrm>
            <a:off x="539640" y="3476520"/>
            <a:ext cx="8137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7878de"/>
                </a:solidFill>
                <a:latin typeface="Times New Roman"/>
              </a:rPr>
              <a:t>أعداد</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7878de"/>
                </a:solidFill>
                <a:latin typeface="Times New Roman"/>
              </a:rPr>
              <a:t>الدكتور ضرغام عبد السالم نعمه</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878de"/>
                </a:solidFill>
                <a:latin typeface="Times New Roman"/>
              </a:rPr>
              <a:t>Dr. Dhurgham A.AL salam Nama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ستطيل 1"/>
          <p:cNvSpPr/>
          <p:nvPr/>
        </p:nvSpPr>
        <p:spPr>
          <a:xfrm>
            <a:off x="468360" y="890640"/>
            <a:ext cx="8207280" cy="6198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المهارات الاساسية بكرة اليد</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المبحث الثاني : أستقبال الكرة </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يعد أستلام الكرة أو أستقبالها من المهارات الاساسية المهمة وهي مرتبطة أرتباط وثيقاً بمهارة مناولة الكرة وأن حسن أستلام الكرة له تأثير أيجابي في أداء المهارات اللاحقة من مناولة أو التصويب لذا يجب أن نتعلم أستلام الكرة بشكل جيد لغرض الاحتفاظ بالكرة وعدم فقدانها لان في حالة عدم أتقان المهارة سوف يؤدي الى فقدان الكرة وبالتالي قد تضيع فرصة واضحة من تسجيل هدف أذ يتحول الفريق من مهاجم الى مدافع ، لذا يجب أن يتم أتقان مهارة الاستقبال بكلتا اليدين لمنع حدوث خطأ بالاضافة الى ضمان أستلام الكرة من قبل اللاعب لذا يكون الفريق الفائز هو الأقل الأخطاء في عملية الاستلام والتسليم وخاصة في منطقة الفريق الخصم لان كثرة في الانتقال الكرة بين اللاعبين وبشكل سريع يؤدي الى فك ثغرة الفريق المنافس مما يسهل عملية أختراق صفوف الفريق وبالتالي يؤدي الى أمكانية أصابة مرمى الفريق ، وتقسم مهارة أستقبال الكرة الى : -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a:t>
            </a:r>
            <a:r>
              <a:rPr b="1" lang="ar-IQ" sz="1800" spc="-1" strike="noStrike">
                <a:solidFill>
                  <a:srgbClr val="000000"/>
                </a:solidFill>
                <a:latin typeface="Times New Roman"/>
              </a:rPr>
              <a:t> – تسلم الكرة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a:t>
            </a:r>
            <a:r>
              <a:rPr b="1" lang="ar-IQ" sz="1800" spc="-1" strike="noStrike">
                <a:solidFill>
                  <a:srgbClr val="000000"/>
                </a:solidFill>
                <a:latin typeface="Times New Roman"/>
              </a:rPr>
              <a:t> – التقاط الكرة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3</a:t>
            </a:r>
            <a:r>
              <a:rPr b="1" lang="ar-IQ" sz="1800" spc="-1" strike="noStrike">
                <a:solidFill>
                  <a:srgbClr val="000000"/>
                </a:solidFill>
                <a:latin typeface="Times New Roman"/>
              </a:rPr>
              <a:t> – إيقاف الكرة والسيطرة عليها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ستطيل 1"/>
          <p:cNvSpPr/>
          <p:nvPr/>
        </p:nvSpPr>
        <p:spPr>
          <a:xfrm>
            <a:off x="900000" y="750960"/>
            <a:ext cx="6912000" cy="564948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أولاً : تسلم الكرة </a:t>
            </a:r>
            <a:endParaRPr b="0" lang="en-US" sz="1800" spc="-1" strike="noStrike">
              <a:solidFill>
                <a:srgbClr val="000000"/>
              </a:solidFill>
              <a:latin typeface="Times New Roman"/>
            </a:endParaRPr>
          </a:p>
          <a:p>
            <a:pPr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تقسم المهارة الى نوعين هما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a:t>
            </a:r>
            <a:r>
              <a:rPr b="1" lang="ar-IQ" sz="1800" spc="-1" strike="noStrike">
                <a:solidFill>
                  <a:srgbClr val="000000"/>
                </a:solidFill>
                <a:latin typeface="Times New Roman"/>
              </a:rPr>
              <a:t> – التسلم بيد واحدة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a:t>
            </a:r>
            <a:r>
              <a:rPr b="1" lang="ar-IQ" sz="1800" spc="-1" strike="noStrike">
                <a:solidFill>
                  <a:srgbClr val="000000"/>
                </a:solidFill>
                <a:latin typeface="Times New Roman"/>
              </a:rPr>
              <a:t> – التسلم بكلتا اليدين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أولا : التسلم بيد واحدة :  </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ن مهارة تسلم الكرة بيد واحدة قليلة الاستخدام في اللعب كون اللاعب يعمل على أيصال الكرة الى الزميل بشكل سهل تمكنهُ من أستلام الكرة بأقل جهد وذلك لعدم أتاحة فرصة واضحة لضياع الكرة ، وتستخدم هذه المهارة في حالة أستلام الكرة عالياً  بحيث لا يمكن اللاعب المستلم أن يستقبل الكرة الا بعملية القفز عالياً كما في هالة الهجوم السريع أذا توجد بعض المناولات عالية وسريعة تجعل اللاعب من القفز من أجل الاستحواذ على الكرة  ، ويتم أداء هذه المهارة بعد خروج الكرة من الزميل حيث يعمل المستلم على مد الذراع عالياً مع أرتخاء  اليد التي يستقبل بها الكرة وفي لحظة ملامسة الكرة لليد يتم سحبها للخلف قليلاً من أجل أمتصاص زحم الكرة ومن ثم وضع اليد الأخرى على الكرة من أجل حماية الكرة من السقوط على الأرض نتيجة ارتداد الكرة من الأصابع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مستطيل 1"/>
          <p:cNvSpPr/>
          <p:nvPr/>
        </p:nvSpPr>
        <p:spPr>
          <a:xfrm>
            <a:off x="468360" y="612720"/>
            <a:ext cx="7991280" cy="64724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ثانياً : التسلم بكلتا اليدين .</a:t>
            </a:r>
            <a:endParaRPr b="0" lang="en-US" sz="1800" spc="-1" strike="noStrike">
              <a:solidFill>
                <a:srgbClr val="000000"/>
              </a:solidFill>
              <a:latin typeface="Times New Roman"/>
            </a:endParaRPr>
          </a:p>
          <a:p>
            <a:pPr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تقسم هذه المهارة الى نوعين تبعاً لارتفاع الكرة المستلمة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a:t>
            </a:r>
            <a:r>
              <a:rPr b="1" lang="ar-IQ" sz="1800" spc="-1" strike="noStrike">
                <a:solidFill>
                  <a:srgbClr val="000000"/>
                </a:solidFill>
                <a:latin typeface="Times New Roman"/>
              </a:rPr>
              <a:t> – تسلم الكرات العالية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a:t>
            </a:r>
            <a:r>
              <a:rPr b="1" lang="ar-IQ" sz="1800" spc="-1" strike="noStrike">
                <a:solidFill>
                  <a:srgbClr val="000000"/>
                </a:solidFill>
                <a:latin typeface="Times New Roman"/>
              </a:rPr>
              <a:t> – تسلم الكرات المنخفضة :</a:t>
            </a:r>
            <a:endParaRPr b="0" lang="en-US" sz="1800" spc="-1" strike="noStrike">
              <a:solidFill>
                <a:srgbClr val="000000"/>
              </a:solidFill>
              <a:latin typeface="Times New Roman"/>
            </a:endParaRPr>
          </a:p>
          <a:p>
            <a:pPr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ولاً : تسلم الكرات العالية :   </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يقصد بها هو أستلام الكرات من مستوى الصدر فما فوق أي كل الكرات التي تكون مستواها فوق مستوى الصدر ، أذ يلاحظ الوضع بالنسبة للذراعين بأن الكفين مفتوحة فتحة مناسبة بحيث تمنع مرور الكرة من بينهما من أجل المحافظة على الكرة وعدم ضياعها أما وضع الاصابع فيكون الإبهامان متقابلان تماماً أما الاصابع الأخرى فتكون منتشرة على شكل كرة تؤمن بأستلام الكرة ومنع أرتدادها بحيث يكونان الإبهامان مع السبابتان أشبه بالمثلث ، أما المرفقان فيكونان مثنيان قليلاُ ويكون نظر اللاعب بألاتجاه الذي يتم أستلام الكرة منه ومركزاً على الكرة ويكون وضع القدمين بأن تتقدم القدم المعاكسة للذراع الرامية فيكون اللاعب الأيمن قد قدم القدم اليسرى وبالعكس أما القدم الأخرى فتكون مؤشرة الى الخارج قليلاً من أجل سهولة التحرك في الاتجاهات الأخرى ،  وفي لحظة أستلام الكرة يتم سحب الذراعين الى مستوى الصدر من أجل أمتصاص زخم الكرة والمحافظة على الكرة من السقوط  .</a:t>
            </a:r>
            <a:endParaRPr b="0" lang="en-US" sz="1800" spc="-1" strike="noStrike">
              <a:solidFill>
                <a:srgbClr val="000000"/>
              </a:solidFill>
              <a:latin typeface="Times New Roman"/>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ستطيل 2"/>
          <p:cNvSpPr/>
          <p:nvPr/>
        </p:nvSpPr>
        <p:spPr>
          <a:xfrm>
            <a:off x="2100960" y="5589720"/>
            <a:ext cx="3972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شكل يوضح مسك الكرة بيد واحدة</a:t>
            </a:r>
            <a:endParaRPr b="0" lang="en-US" sz="1800" spc="-1" strike="noStrike">
              <a:solidFill>
                <a:srgbClr val="000000"/>
              </a:solidFill>
              <a:latin typeface="Times New Roman"/>
            </a:endParaRPr>
          </a:p>
        </p:txBody>
      </p:sp>
      <p:pic>
        <p:nvPicPr>
          <p:cNvPr id="48" name="صورة 3" descr="C:\Users\Dhurgham\Desktop\أستلام الكرة العالية.jpg"/>
          <p:cNvPicPr/>
          <p:nvPr/>
        </p:nvPicPr>
        <p:blipFill>
          <a:blip r:embed="rId1"/>
          <a:stretch/>
        </p:blipFill>
        <p:spPr>
          <a:xfrm>
            <a:off x="1692360" y="1197000"/>
            <a:ext cx="5616360" cy="356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مستطيل 3"/>
          <p:cNvSpPr/>
          <p:nvPr/>
        </p:nvSpPr>
        <p:spPr>
          <a:xfrm>
            <a:off x="250920" y="549360"/>
            <a:ext cx="7921440" cy="625572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Times New Roman"/>
              </a:rPr>
              <a:t>ثانياً : تسلم الكرات المنخفضة :   </a:t>
            </a:r>
            <a:endParaRPr b="0" lang="en-US" sz="2000" spc="-1" strike="noStrike">
              <a:solidFill>
                <a:srgbClr val="000000"/>
              </a:solidFill>
              <a:latin typeface="Times New Roman"/>
            </a:endParaRPr>
          </a:p>
          <a:p>
            <a:pPr algn="just"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ويقصد بأستلام جميع الكرات التي يكون مستوى طيرانها أسفل الورك لذا يتطلب من اللاعب مستوى من اللياقة والرشاقة خلال الأداء ويجب أستلام الكرة بكلتا اليدين من أجل حمايتها من اللاعب المنافس  فيكون وضع الجسم مثنياً من مفصل الورك الى الأمام  أما الذراعان فيكونان الى الأسفل بحيث تكون الاصابع منتشرة و تقريباً عمودية على الأرض بحيث يكونان الاصابع القصيرة قريبة من بعض لمنع أختراق الكرة اليدين مما يؤدي الى حدوث خطاً على اللاعب المستلم وهو ضرب الكرة بالساق مما يؤدي الى فقدان الكرة أما المرفقان فيكونان بأتجاه الجسم والقدمان مثنيتان من مفصل الركبة بحيث تساعد على خفض مفصل الوصل وأستلام الكرة بدون خطأ وهنا يتم الثني على أساس أرتفاع الكرة فكلما كانت الكرة منخفضة عن مفصل الورك كلما أزاد ثني مفصل الكرة  أما القدمان فتكونان متقدمة أحداهن على الأخرى بالنسبة الى اللاعب الأيمن فيكون تقدم الرجل اليسرى الى الأمام وهي مؤشرة الى الداخل قليلاً أما القدم الخلفية فتكون مؤشرة الى الخارج قليلاً ، أما النظر فيكون مركزاً على الكرة من أجل توقيت أستلام الكرة ولحظة أستلام الكرة يتم سحب الذراعين الى الجسم من أجل أمتصاص سرعة الكرة والمحافظة عليها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صورة 3" descr="C:\Users\Dhurgham\Desktop\أتلام الكرات المنخفضة.jpg"/>
          <p:cNvPicPr/>
          <p:nvPr/>
        </p:nvPicPr>
        <p:blipFill>
          <a:blip r:embed="rId1"/>
          <a:stretch/>
        </p:blipFill>
        <p:spPr>
          <a:xfrm>
            <a:off x="1692360" y="981000"/>
            <a:ext cx="5975280" cy="43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3T08:03:04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