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C210-8210-44DC-9D2D-6766AB2DF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D2CB-EDAF-4D4B-87F2-1D67865C42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5EDD-D4F8-46F6-9EFD-CC357EF9FF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793D-7BD1-416C-A6D4-910EE70A4E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55A1-F445-4038-A5D8-7DE2D53C5C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78AE-6ED1-4122-A7AD-B9252E4A53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pp: Red shift - can determine composition of star, and relative movement by measuring its spectrum.  Wavelengths shift toward red if moving away. Faster the velocity, more of a red sh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ner: wavelength shifts to the red end of the spectrum as Doppler Effect while light travels through universe (gravitational effect on pho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- universe is expanding (red shift) and things farther away are moving away faster (greater red 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in age b/c we don’t know the size of the unive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ppler effect - shift in wavelength - light and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ssed as it approaches - higher pitched an shorter w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tched as it leaves - lower pitch, longer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42CC-4A17-47E7-BC85-E8CFEC4F70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5236-97D0-41E5-B322-A739F51A77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966A-9B42-4C92-BBAF-334F3D1EF6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CDDB-CEF8-4CD2-AF90-D970D04501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E614-C911-42BB-95E7-DD7215D0E7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AEF2-6182-4AD3-BE08-F04470426B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theory of relativity predicts this “smaller than a proton” time=0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1303-4CBD-4403-9006-52F71A2384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31D-25AD-4B9E-91E0-864C1571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30E-297F-4B81-9B8B-51C63F3C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515-BB75-4077-8FE8-DE7211DA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F3FB-54DC-4025-AC12-68807DF0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A94-1F72-4C35-B90B-8A2FC9BD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7C3-FBBD-473A-84A3-09069539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8D86-083C-4AB0-B594-C0C8FDC0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527-B98A-477D-A443-2DF175C1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313-E319-480B-8A20-0A382F00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348-C75C-43A1-BBF4-50931171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CF3-328B-40F1-87EB-01CD34A5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602-DA65-486A-80B9-9F626F9D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A922-0B50-4042-93AF-DC392AB923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676520" y="228600"/>
            <a:ext cx="5867280" cy="4648320"/>
          </a:xfrm>
          <a:prstGeom prst="irregularSeal1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Big Bang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ical Geology- Maher Alasa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7632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ondensation of the Solar Nebu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1120" y="852480"/>
            <a:ext cx="89154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sition of the Solar Nebul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the protoplanetary disk cools, materials in the disk condensate into planetesimal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olar nebular contains 98% Hydrogen and Helium (produced in the Big Bang), and 2% everything else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vy elements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sion products inside the stars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thermal environment (Temperature) determines what kind of material condensat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SzPct val="65000"/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ater and most hydrogen compounds have low sublimation temperature, and cannot exist near the Sun. They exist far away from the Su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SzPct val="65000"/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als and rocks have high sublimation temperature, and can form near the Su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SzPct val="65000"/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st line lies between the orbit of Mars and Jupiter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6" descr="bbtlf0706_a"/>
          <p:cNvPicPr/>
          <p:nvPr/>
        </p:nvPicPr>
        <p:blipFill>
          <a:blip r:embed="rId1"/>
          <a:stretch/>
        </p:blipFill>
        <p:spPr>
          <a:xfrm>
            <a:off x="0" y="3909960"/>
            <a:ext cx="5257800" cy="294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bbtlf0705_a"/>
          <p:cNvPicPr/>
          <p:nvPr/>
        </p:nvPicPr>
        <p:blipFill>
          <a:blip r:embed="rId2"/>
          <a:stretch/>
        </p:blipFill>
        <p:spPr>
          <a:xfrm>
            <a:off x="4495680" y="3940200"/>
            <a:ext cx="46483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lar System Configu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Line 3"/>
          <p:cNvSpPr/>
          <p:nvPr/>
        </p:nvSpPr>
        <p:spPr>
          <a:xfrm>
            <a:off x="1600200" y="1523880"/>
            <a:ext cx="7543800" cy="0"/>
          </a:xfrm>
          <a:prstGeom prst="line">
            <a:avLst/>
          </a:prstGeom>
          <a:ln w="127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WICHG30704b"/>
          <p:cNvPicPr/>
          <p:nvPr/>
        </p:nvPicPr>
        <p:blipFill>
          <a:blip r:embed="rId1"/>
          <a:stretch/>
        </p:blipFill>
        <p:spPr>
          <a:xfrm>
            <a:off x="457200" y="1874880"/>
            <a:ext cx="83059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rigin of Our Solar 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e0ff"/>
                </a:solidFill>
                <a:latin typeface="Tahoma"/>
              </a:rPr>
              <a:t>Solar nebula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600200" y="1295280"/>
            <a:ext cx="7543800" cy="0"/>
          </a:xfrm>
          <a:prstGeom prst="line">
            <a:avLst/>
          </a:prstGeom>
          <a:ln w="127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029200" y="2743200"/>
            <a:ext cx="3733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a rotating dis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ensed and collapsed due to gra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685800" y="4952880"/>
            <a:ext cx="6324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ing </a:t>
            </a:r>
            <a:r>
              <a:rPr b="0" lang="en-US" sz="3200" spc="-1" strike="noStrike">
                <a:solidFill>
                  <a:srgbClr val="89e0ff"/>
                </a:solidFill>
                <a:latin typeface="Tahoma"/>
              </a:rPr>
              <a:t>solar nebul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n embryonic Su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rounded by a rotating clou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85800" y="213372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ud of gases and du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8" descr="WICHG30706a"/>
          <p:cNvPicPr/>
          <p:nvPr/>
        </p:nvPicPr>
        <p:blipFill>
          <a:blip r:embed="rId1"/>
          <a:stretch/>
        </p:blipFill>
        <p:spPr>
          <a:xfrm>
            <a:off x="990720" y="2666880"/>
            <a:ext cx="3504960" cy="2165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WICHG30706b"/>
          <p:cNvPicPr/>
          <p:nvPr/>
        </p:nvPicPr>
        <p:blipFill>
          <a:blip r:embed="rId2"/>
          <a:stretch/>
        </p:blipFill>
        <p:spPr>
          <a:xfrm>
            <a:off x="380880" y="2666880"/>
            <a:ext cx="4611960" cy="2208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WICHG30706c"/>
          <p:cNvPicPr/>
          <p:nvPr/>
        </p:nvPicPr>
        <p:blipFill>
          <a:blip r:embed="rId3"/>
          <a:stretch/>
        </p:blipFill>
        <p:spPr>
          <a:xfrm>
            <a:off x="431640" y="2666880"/>
            <a:ext cx="452124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" dur="1" fill="hold"/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early_solar_sys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etesimals have formed in the inner solar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 eddies of gas and dust remain far from the protosu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mbryonic Sun and Rotating Clou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The Four Phases of Mat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0880" y="838080"/>
            <a:ext cx="8610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 are in fact more than three phases of matter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lasma – when the temperature is very high, high energy collision between atoms will knock the electrons lose, and they are not bounded to the atoms anymor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bbtlf0408_a"/>
          <p:cNvPicPr/>
          <p:nvPr/>
        </p:nvPicPr>
        <p:blipFill>
          <a:blip r:embed="rId1"/>
          <a:stretch/>
        </p:blipFill>
        <p:spPr>
          <a:xfrm>
            <a:off x="2895480" y="2151000"/>
            <a:ext cx="6248520" cy="4707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-2880" y="50007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face of Ear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0" y="3657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face of the Sun and st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0" y="2514600"/>
            <a:ext cx="325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 and corona of the Sun and st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-1800" y="646128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te dwarfs, CM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ition Between Ph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844200" y="2209680"/>
            <a:ext cx="842040" cy="459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733920" y="2209680"/>
            <a:ext cx="1226880" cy="459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016040" y="2209680"/>
            <a:ext cx="689760" cy="459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3"/>
          <p:cNvSpPr/>
          <p:nvPr/>
        </p:nvSpPr>
        <p:spPr>
          <a:xfrm flipV="1">
            <a:off x="7467480" y="2666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4"/>
          <p:cNvSpPr/>
          <p:nvPr/>
        </p:nvSpPr>
        <p:spPr>
          <a:xfrm>
            <a:off x="1219320" y="2666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1219320" y="3581280"/>
            <a:ext cx="6248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751400" y="190512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quid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5105520" y="1905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por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5105880" y="23623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ens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3352680" y="35812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lim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toms or molecules escape into the gas phase from a solid.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1371600" y="342900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22"/>
          <p:cNvSpPr/>
          <p:nvPr/>
        </p:nvSpPr>
        <p:spPr>
          <a:xfrm>
            <a:off x="7315200" y="2666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21"/>
          <p:cNvSpPr/>
          <p:nvPr/>
        </p:nvSpPr>
        <p:spPr>
          <a:xfrm flipV="1">
            <a:off x="1371600" y="2666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1676520" y="23623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1676160" y="243828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5029200" y="236232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5029200" y="24382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en Did the Universe Form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67080" y="1142640"/>
            <a:ext cx="4648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 to 20 billion years ago (15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we know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preading (Red Shi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now distances, rates of retreat, relative posi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vasive background radiation of 2.7°C above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absolute ze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glow of the Big Ba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761200" y="6578640"/>
            <a:ext cx="488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Nebula - http://stardate.utexas.edu/resources/ssguide/planet_form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0179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eatures of Our Solar 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 spiral arm of the Milky Way Galax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to 10 plan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1 known moons (satellit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remendous number of astero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orbit the Sun between the orbits of Mars and Jupi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lions of comets and meteor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planetary dust and g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1600200" y="1295280"/>
            <a:ext cx="7543800" cy="0"/>
          </a:xfrm>
          <a:prstGeom prst="line">
            <a:avLst/>
          </a:prstGeom>
          <a:ln w="127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lative Sizes of the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n and Plan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1600200" y="1447920"/>
            <a:ext cx="7543800" cy="1440"/>
          </a:xfrm>
          <a:prstGeom prst="line">
            <a:avLst/>
          </a:prstGeom>
          <a:ln w="127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2561_0102"/>
          <p:cNvPicPr/>
          <p:nvPr/>
        </p:nvPicPr>
        <p:blipFill>
          <a:blip r:embed="rId1"/>
          <a:srcRect l="1406" t="0" r="30938" b="55469"/>
          <a:stretch/>
        </p:blipFill>
        <p:spPr>
          <a:xfrm>
            <a:off x="76320" y="1555920"/>
            <a:ext cx="899136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lan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Tahoma"/>
              </a:rPr>
              <a:t>Terrestrial Pla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n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, composed of rock, with metal c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600200" y="1143000"/>
            <a:ext cx="7543800" cy="0"/>
          </a:xfrm>
          <a:prstGeom prst="line">
            <a:avLst/>
          </a:prstGeom>
          <a:ln w="127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8769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Tahoma"/>
              </a:rPr>
              <a:t>Jovian Pla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pi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u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an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ptu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, composed of hydrogen, helium, ammonia, methane, relatively small rocky c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352680" y="6095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Skia"/>
              </a:rPr>
              <a:t>– </a:t>
            </a:r>
            <a:r>
              <a:rPr b="1" lang="en-US" sz="2800" spc="-1" strike="noStrike">
                <a:solidFill>
                  <a:srgbClr val="33ccff"/>
                </a:solidFill>
                <a:latin typeface="Skia"/>
              </a:rPr>
              <a:t>Plu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rigi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320" y="1295280"/>
            <a:ext cx="6629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and when did th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Aft>
                <a:spcPts val="1800"/>
              </a:spcAft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e for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Aft>
                <a:spcPts val="1800"/>
              </a:spcAft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ar system / Earth for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Aft>
                <a:spcPts val="1800"/>
              </a:spcAft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on for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18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ere early Earth condi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Do We Know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m31"/>
          <p:cNvPicPr/>
          <p:nvPr/>
        </p:nvPicPr>
        <p:blipFill>
          <a:blip r:embed="rId1"/>
          <a:stretch/>
        </p:blipFill>
        <p:spPr>
          <a:xfrm>
            <a:off x="0" y="0"/>
            <a:ext cx="2168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rigin of the Univer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e0ff"/>
                </a:solidFill>
                <a:latin typeface="Tahoma"/>
              </a:rPr>
              <a:t>Big Ba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curred 15 billion years a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 for the beginning of the unive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4"/>
          <p:cNvSpPr/>
          <p:nvPr/>
        </p:nvSpPr>
        <p:spPr>
          <a:xfrm>
            <a:off x="1600200" y="3962520"/>
            <a:ext cx="7543800" cy="0"/>
          </a:xfrm>
          <a:prstGeom prst="line">
            <a:avLst/>
          </a:prstGeom>
          <a:ln w="127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" descr="m31"/>
          <p:cNvPicPr/>
          <p:nvPr/>
        </p:nvPicPr>
        <p:blipFill>
          <a:blip r:embed="rId1"/>
          <a:stretch/>
        </p:blipFill>
        <p:spPr>
          <a:xfrm>
            <a:off x="0" y="0"/>
            <a:ext cx="2168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4572720" y="6578640"/>
            <a:ext cx="35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rainbow.ldeo.columbia.edu/courses/v1001/7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648320" y="2803680"/>
            <a:ext cx="4133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infinitely dense point not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overned by our physical laws or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all matter and energy contain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one po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uilding a Univer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720" y="6578640"/>
            <a:ext cx="35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rainbow.ldeo.columbia.edu/courses/v1001/7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638680" y="316872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instantaneous filling of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ace with all ma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uilding a Unive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Edwin Hubbl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e is continuously expa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laxy’s velocity is proportional to its distance (galaxies that are twice as far from us move twice as fas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n every galaxy the same amount of time to move from a common starting position to its current posi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Evidence for Big Bang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d shif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as light from distant galaxies approach earth there is an increase of space between earth and the galaxy, which leads to wavelengths being stretch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1964, Arno Penzias and Robert Wilson, discovered a noise of extraterrestrial origin that came from all directions at once -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adi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eft over from the Big Ba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June 1995, scientists detected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rimordial heliu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 the far reaches of the universe - consistent with an important aspect of the Big Bang theory that a mixture of hydrogen and helium was created at the beginning of the unive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838080" y="152280"/>
            <a:ext cx="297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uilding a Univer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419720" y="380880"/>
            <a:ext cx="472428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43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gravity separates from other forces -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10</a:t>
            </a:r>
            <a:r>
              <a:rPr b="0" lang="en-US" sz="2000" spc="-1" strike="noStrike" u="sng" baseline="30000">
                <a:solidFill>
                  <a:srgbClr val="ffffff"/>
                </a:solidFill>
                <a:uFillTx/>
                <a:latin typeface="Tahoma"/>
              </a:rPr>
              <a:t>-28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centime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to 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2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fundamental particles -  quarks and electrons -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oftb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6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quarks combine into protons and neutrons -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olar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 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magnetic and weak nuclear forces separ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3 minu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protons and neutrons combine into atomic nucle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ns join nuclei to make atoms; light is emit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799"/>
              </a:spcAft>
              <a:buClr>
                <a:srgbClr val="ff3399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-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years - matter collapses into clouds, making galaxies and st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017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bular Theory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rigin of Solar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8:19:51Z</dcterms:created>
  <dc:creator>Alison Henning</dc:creator>
  <dc:description/>
  <dc:language>en-US</dc:language>
  <cp:lastModifiedBy>sj</cp:lastModifiedBy>
  <dcterms:modified xsi:type="dcterms:W3CDTF">2015-03-22T07:09:54Z</dcterms:modified>
  <cp:revision>23</cp:revision>
  <dc:subject/>
  <dc:title>The Big Bang!</dc:title>
</cp:coreProperties>
</file>