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DEA3-B1BE-4CDF-8021-06CCD31E5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89C7-9034-41E9-94B0-6C80774ECE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175D-B929-4BC8-8AE1-C8E7D54E87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4D89-07DB-4573-82B1-95FC0A3349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8EAE-FC4A-4C97-9276-2A69E8DD0F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AA87-2B32-486C-AD64-F04E773FB4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pp: Red shift - can determine composition of star, and relative movement by measuring its spectrum.  Wavelengths shift toward red if moving away. Faster the velocity, more of a red sh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ner: wavelength shifts to the red end of the spectrum as Doppler Effect while light travels through universe (gravitational effect on pho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ble - universe is expanding (red shift) and things farther away are moving away faster (greater red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in age b/c we don’t know the size of the unive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ppler effect - shift in wavelength - light and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essed as it approaches - higher pitched an shorter w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tched as it leaves - lower pitch, longer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3D87-9082-490A-82C9-5DE33ADE14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3218-1B8B-4D63-8D09-423D67FADE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F35A-0312-4649-87B5-E5477E07C7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6E4A-C96D-46D3-A999-39C54067A1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C866-E4BA-4021-AAB8-1EF67EEF66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9DFD-9FE5-4E44-B98E-2826BE8EA8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theory of relativity predicts this “smaller than a proton” time=0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F16D-E067-4914-9BAC-0C4B3C79F6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F8A6-AE32-4933-9931-175B6D43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B9DF-A111-4BE8-A094-50DA2FD9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E31-EE8F-4908-BD08-83184C7B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00AF-4AE5-4147-9E64-B740DB50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B6D-51C0-4502-B82C-65E77A3C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EBD0-5B28-458B-A59C-D4CFCFFB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4738-1EFC-4756-9246-C904FC71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5C9-2899-4492-A423-CEC74260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603-01E9-4897-9A19-64533CB0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6D3-1E65-48BB-A06C-B3D79E91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742F-7C25-46C1-A14D-BAFDF060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EE60-47F5-46BC-9E12-5C7E1513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47A3-6116-4C05-A18B-2B13FA409D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1676520" y="228600"/>
            <a:ext cx="5867280" cy="4648320"/>
          </a:xfrm>
          <a:prstGeom prst="irregularSeal1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Big Bang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torical Geology- Maher Alasa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7632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Condensation of the Solar Nebul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41120" y="852480"/>
            <a:ext cx="891540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sition of the Solar Nebul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the protoplanetary disk cools, materials in the disk condensate into planetesimal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olar nebular contains 98% Hydrogen and Helium (produced in the Big Bang), and 2% everything else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vy elements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sion products inside the stars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thermal environment (Temperature) determines what kind of material condensat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SzPct val="65000"/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ater and most hydrogen compounds have low sublimation temperature, and cannot exist near the Sun. They exist far away from the Su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SzPct val="65000"/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als and rocks have high sublimation temperature, and can form near the Su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SzPct val="65000"/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st line lies between the orbit of Mars and Jupiter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6" descr="bbtlf0706_a"/>
          <p:cNvPicPr/>
          <p:nvPr/>
        </p:nvPicPr>
        <p:blipFill>
          <a:blip r:embed="rId1"/>
          <a:stretch/>
        </p:blipFill>
        <p:spPr>
          <a:xfrm>
            <a:off x="0" y="3909960"/>
            <a:ext cx="5257800" cy="2948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bbtlf0705_a"/>
          <p:cNvPicPr/>
          <p:nvPr/>
        </p:nvPicPr>
        <p:blipFill>
          <a:blip r:embed="rId2"/>
          <a:stretch/>
        </p:blipFill>
        <p:spPr>
          <a:xfrm>
            <a:off x="4495680" y="3940200"/>
            <a:ext cx="46483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lar System Configu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Line 3"/>
          <p:cNvSpPr/>
          <p:nvPr/>
        </p:nvSpPr>
        <p:spPr>
          <a:xfrm>
            <a:off x="1600200" y="1523880"/>
            <a:ext cx="7543800" cy="0"/>
          </a:xfrm>
          <a:prstGeom prst="line">
            <a:avLst/>
          </a:prstGeom>
          <a:ln w="127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4" descr="WICHG30704b"/>
          <p:cNvPicPr/>
          <p:nvPr/>
        </p:nvPicPr>
        <p:blipFill>
          <a:blip r:embed="rId1"/>
          <a:stretch/>
        </p:blipFill>
        <p:spPr>
          <a:xfrm>
            <a:off x="457200" y="1874880"/>
            <a:ext cx="83059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rigin of Our Solar Syst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e0ff"/>
                </a:solidFill>
                <a:latin typeface="Tahoma"/>
              </a:rPr>
              <a:t>Solar nebula the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Line 4"/>
          <p:cNvSpPr/>
          <p:nvPr/>
        </p:nvSpPr>
        <p:spPr>
          <a:xfrm>
            <a:off x="1600200" y="1295280"/>
            <a:ext cx="7543800" cy="0"/>
          </a:xfrm>
          <a:prstGeom prst="line">
            <a:avLst/>
          </a:prstGeom>
          <a:ln w="127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5029200" y="2743200"/>
            <a:ext cx="3733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ed a rotating dis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ensed and collapsed due to gra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685800" y="4952880"/>
            <a:ext cx="6324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ing </a:t>
            </a:r>
            <a:r>
              <a:rPr b="0" lang="en-US" sz="3200" spc="-1" strike="noStrike">
                <a:solidFill>
                  <a:srgbClr val="89e0ff"/>
                </a:solidFill>
                <a:latin typeface="Tahoma"/>
              </a:rPr>
              <a:t>solar nebul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an embryonic Su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rounded by a rotating clou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85800" y="213372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ud of gases and du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8" descr="WICHG30706a"/>
          <p:cNvPicPr/>
          <p:nvPr/>
        </p:nvPicPr>
        <p:blipFill>
          <a:blip r:embed="rId1"/>
          <a:stretch/>
        </p:blipFill>
        <p:spPr>
          <a:xfrm>
            <a:off x="990720" y="2666880"/>
            <a:ext cx="3504960" cy="2165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WICHG30706b"/>
          <p:cNvPicPr/>
          <p:nvPr/>
        </p:nvPicPr>
        <p:blipFill>
          <a:blip r:embed="rId2"/>
          <a:stretch/>
        </p:blipFill>
        <p:spPr>
          <a:xfrm>
            <a:off x="380880" y="2666880"/>
            <a:ext cx="4611960" cy="2208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WICHG30706c"/>
          <p:cNvPicPr/>
          <p:nvPr/>
        </p:nvPicPr>
        <p:blipFill>
          <a:blip r:embed="rId3"/>
          <a:stretch/>
        </p:blipFill>
        <p:spPr>
          <a:xfrm>
            <a:off x="431640" y="2666880"/>
            <a:ext cx="452124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" dur="1" fill="hold"/>
                                  <p:tgtEl>
                                    <p:spTgt spid="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early_solar_sys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etesimals have formed in the inner solar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ge eddies of gas and dust remain far from the protosu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mbryonic Sun and Rotating Clou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Line 5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The Four Phases of Mat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80880" y="838080"/>
            <a:ext cx="86108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re are in fact more than three phases of matter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lasma – when the temperature is very high, high energy collision between atoms will knock the electrons lose, and they are not bounded to the atoms anymore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bbtlf0408_a"/>
          <p:cNvPicPr/>
          <p:nvPr/>
        </p:nvPicPr>
        <p:blipFill>
          <a:blip r:embed="rId1"/>
          <a:stretch/>
        </p:blipFill>
        <p:spPr>
          <a:xfrm>
            <a:off x="2895480" y="2151000"/>
            <a:ext cx="6248520" cy="4707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-2880" y="500076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face of Ear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0" y="3657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face of the Sun and st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0" y="2514600"/>
            <a:ext cx="325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and corona of the Sun and st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-1800" y="646128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te dwarfs, CM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ition Between Ph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844200" y="2209680"/>
            <a:ext cx="842040" cy="459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733920" y="2209680"/>
            <a:ext cx="1226880" cy="459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016040" y="2209680"/>
            <a:ext cx="689760" cy="459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13"/>
          <p:cNvSpPr/>
          <p:nvPr/>
        </p:nvSpPr>
        <p:spPr>
          <a:xfrm flipV="1">
            <a:off x="7467480" y="26668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14"/>
          <p:cNvSpPr/>
          <p:nvPr/>
        </p:nvSpPr>
        <p:spPr>
          <a:xfrm>
            <a:off x="1219320" y="26668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5"/>
          <p:cNvSpPr/>
          <p:nvPr/>
        </p:nvSpPr>
        <p:spPr>
          <a:xfrm>
            <a:off x="1219320" y="3581280"/>
            <a:ext cx="6248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751400" y="190512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quid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5105520" y="1905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por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5105880" y="236232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ens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3352680" y="35812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lim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toms or molecules escape into the gas phase from a solid.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1371600" y="342900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22"/>
          <p:cNvSpPr/>
          <p:nvPr/>
        </p:nvSpPr>
        <p:spPr>
          <a:xfrm>
            <a:off x="7315200" y="2666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21"/>
          <p:cNvSpPr/>
          <p:nvPr/>
        </p:nvSpPr>
        <p:spPr>
          <a:xfrm flipV="1">
            <a:off x="1371600" y="2666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1676520" y="23623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1676160" y="243828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5029200" y="23623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5029200" y="24382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76312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en Did the Universe Form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67080" y="1142640"/>
            <a:ext cx="4648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 to 20 billion years ago (15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do we know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preading (Red Shif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now distances, rates of retreat, relative posi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vasive background radiation of 2.7°C above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absolute zer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glow of the Big Ba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761200" y="6578640"/>
            <a:ext cx="488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Nebula - http://stardate.utexas.edu/resources/ssguide/planet_form.htm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0179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eatures of Our Solar Syst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a spiral arm of the Milky Way Galax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 to 10 plan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1 known moons (satellit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remendous number of astero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orbit the Sun between the orbits of Mars and Jupi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llions of comets and meteor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planetary dust and g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1600200" y="1295280"/>
            <a:ext cx="7543800" cy="0"/>
          </a:xfrm>
          <a:prstGeom prst="line">
            <a:avLst/>
          </a:prstGeom>
          <a:ln w="127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lative Sizes of the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n and Plan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1600200" y="1447920"/>
            <a:ext cx="7543800" cy="1440"/>
          </a:xfrm>
          <a:prstGeom prst="line">
            <a:avLst/>
          </a:prstGeom>
          <a:ln w="127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2561_0102"/>
          <p:cNvPicPr/>
          <p:nvPr/>
        </p:nvPicPr>
        <p:blipFill>
          <a:blip r:embed="rId1"/>
          <a:srcRect l="1406" t="0" r="30938" b="55469"/>
          <a:stretch/>
        </p:blipFill>
        <p:spPr>
          <a:xfrm>
            <a:off x="76320" y="1555920"/>
            <a:ext cx="899136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lan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Tahoma"/>
              </a:rPr>
              <a:t>Terrestrial Plan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cu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n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ll, composed of rock, with metal c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1600200" y="1143000"/>
            <a:ext cx="7543800" cy="0"/>
          </a:xfrm>
          <a:prstGeom prst="line">
            <a:avLst/>
          </a:prstGeom>
          <a:ln w="127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87692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Tahoma"/>
              </a:rPr>
              <a:t>Jovian Plan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pit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tu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ran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ptu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ge, composed of hydrogen, helium, ammonia, methane, relatively small rocky c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352680" y="60958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Skia"/>
              </a:rPr>
              <a:t>– </a:t>
            </a:r>
            <a:r>
              <a:rPr b="1" lang="en-US" sz="2800" spc="-1" strike="noStrike">
                <a:solidFill>
                  <a:srgbClr val="33ccff"/>
                </a:solidFill>
                <a:latin typeface="Skia"/>
              </a:rPr>
              <a:t>Plut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rigi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09320" y="1295280"/>
            <a:ext cx="6629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and when did th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Aft>
                <a:spcPts val="1800"/>
              </a:spcAft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verse for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Aft>
                <a:spcPts val="1800"/>
              </a:spcAft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ar system / Earth for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Aft>
                <a:spcPts val="1800"/>
              </a:spcAft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on for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Aft>
                <a:spcPts val="1800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ere early Earth condi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Do We Know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5" descr="m31"/>
          <p:cNvPicPr/>
          <p:nvPr/>
        </p:nvPicPr>
        <p:blipFill>
          <a:blip r:embed="rId1"/>
          <a:stretch/>
        </p:blipFill>
        <p:spPr>
          <a:xfrm>
            <a:off x="0" y="0"/>
            <a:ext cx="2168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rigin of the Univer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e0ff"/>
                </a:solidFill>
                <a:latin typeface="Tahoma"/>
              </a:rPr>
              <a:t>Big Ba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curred 15 billion years a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 for the beginning of the unive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Line 4"/>
          <p:cNvSpPr/>
          <p:nvPr/>
        </p:nvSpPr>
        <p:spPr>
          <a:xfrm>
            <a:off x="1600200" y="3962520"/>
            <a:ext cx="7543800" cy="0"/>
          </a:xfrm>
          <a:prstGeom prst="line">
            <a:avLst/>
          </a:prstGeom>
          <a:ln w="127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5" descr="m31"/>
          <p:cNvPicPr/>
          <p:nvPr/>
        </p:nvPicPr>
        <p:blipFill>
          <a:blip r:embed="rId1"/>
          <a:stretch/>
        </p:blipFill>
        <p:spPr>
          <a:xfrm>
            <a:off x="0" y="0"/>
            <a:ext cx="2168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4572720" y="6578640"/>
            <a:ext cx="35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rainbow.ldeo.columbia.edu/courses/v1001/7.htm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648320" y="2803680"/>
            <a:ext cx="4133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infinitely dense point not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overned by our physical laws or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all matter and energy contain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one poi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uilding a Univer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720" y="6578640"/>
            <a:ext cx="35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rainbow.ldeo.columbia.edu/courses/v1001/7.htm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5638680" y="3168720"/>
            <a:ext cx="350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instantaneous filling of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ace with all ma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uilding a Univer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Edwin Hubble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verse is continuously expa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laxy’s velocity is proportional to its distance (galaxies that are twice as far from us move twice as fas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ken every galaxy the same amount of time to move from a common starting position to its current posi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Evidence for Big Bang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d shif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as light from distant galaxies approach earth there is an increase of space between earth and the galaxy, which leads to wavelengths being stretch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1964, Arno Penzias and Robert Wilson, discovered a noise of extraterrestrial origin that came from all directions at once -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adi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left over from the Big Ba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June 1995, scientists detecte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rimordial heliu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 the far reaches of the universe - consistent with an important aspect of the Big Bang theory that a mixture of hydrogen and helium was created at the beginning of the unive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838080" y="152280"/>
            <a:ext cx="297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uilding a Univer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419720" y="380880"/>
            <a:ext cx="472428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99"/>
              </a:spcAft>
              <a:buClr>
                <a:srgbClr val="ff3399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43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gravity separates from other forces -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10</a:t>
            </a:r>
            <a:r>
              <a:rPr b="0" lang="en-US" sz="2000" spc="-1" strike="noStrike" u="sng" baseline="30000">
                <a:solidFill>
                  <a:srgbClr val="ffffff"/>
                </a:solidFill>
                <a:uFillTx/>
                <a:latin typeface="Tahoma"/>
              </a:rPr>
              <a:t>-28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centimet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799"/>
              </a:spcAft>
              <a:buClr>
                <a:srgbClr val="ff3399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to 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2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fundamental particles -  quarks and electrons -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softb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799"/>
              </a:spcAft>
              <a:buClr>
                <a:srgbClr val="ff3399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6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quarks combine into protons and neutrons -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solar 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799"/>
              </a:spcAft>
              <a:buClr>
                <a:srgbClr val="ff3399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 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magnetic and weak nuclear forces separ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799"/>
              </a:spcAft>
              <a:buClr>
                <a:srgbClr val="ff3399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3 minu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protons and neutrons combine into atomic nucle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799"/>
              </a:spcAft>
              <a:buClr>
                <a:srgbClr val="ff3399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799"/>
              </a:spcAft>
              <a:buClr>
                <a:srgbClr val="ff3399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799"/>
              </a:spcAft>
              <a:buClr>
                <a:srgbClr val="ff3399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year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ns join nuclei to make atoms; light is emit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799"/>
              </a:spcAft>
              <a:buClr>
                <a:srgbClr val="ff3399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-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years - matter collapses into clouds, making galaxies and st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017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bular Theory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rigin of Solar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8:19:51Z</dcterms:created>
  <dc:creator>Alison Henning</dc:creator>
  <dc:description/>
  <dc:language>en-US</dc:language>
  <cp:lastModifiedBy>sj</cp:lastModifiedBy>
  <dcterms:modified xsi:type="dcterms:W3CDTF">2015-03-22T07:09:54Z</dcterms:modified>
  <cp:revision>23</cp:revision>
  <dc:subject/>
  <dc:title>The Big Bang!</dc:title>
</cp:coreProperties>
</file>